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C51-A627-446C-9957-5B0B5B9F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508-541B-431A-9228-2FF4216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C46-12D3-43FD-97D2-751866A9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FB4-B62F-477B-8DCB-C8DCAC87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7CC-D8D1-40C8-8CD0-8145E38D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364-8AA9-4B07-AC97-76918AA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372-8B65-47FA-8E92-61D45E6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6E1-CF1C-437B-BCE9-C4F056D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B77-D39C-405B-A054-E20FB9F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645-419E-4AE6-AEB8-6413E52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CC4-7FC7-43AF-BAB4-BB2186E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880-1CFB-4252-BD1D-2E8ECD3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0E7-661D-44F9-864A-63183DFB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nsportal.ru/" TargetMode="External"/><Relationship Id="rId2" Type="http://schemas.openxmlformats.org/officeDocument/2006/relationships/hyperlink" Target="http://www.rusedu.info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en.edu.ru/" TargetMode="External"/><Relationship Id="rId5" Type="http://schemas.openxmlformats.org/officeDocument/2006/relationships/hyperlink" Target="http://www.it-n.ru/" TargetMode="External"/><Relationship Id="rId6" Type="http://schemas.openxmlformats.org/officeDocument/2006/relationships/hyperlink" Target="http://www.uchportal.ru/" TargetMode="External"/><Relationship Id="rId7" Type="http://schemas.openxmlformats.org/officeDocument/2006/relationships/hyperlink" Target="http://www.scuolarussa-levtolstoj.com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БОУ средняя общеобразовательная школа №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. Саров Нижегоро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2204640"/>
            <a:ext cx="8928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ОДИЧЕСКАЯ РАЗРАБОТКА РАЗДЕЛА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РУССКОМУ ЯЗЫКУ «ЛЕКСИКА»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БОУ СОШ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кобойник Елен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С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ОБУЧАЮЩИХС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явление чувства взрос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ущее личностное новообразование – становление нового уровня самосознания «Я – концепции» (образ себ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емление утвердить свою самостоятельность, независимость, личностную автономность, потребность в освобождении от опеки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тепенно происходит замена влияния семьи влиянием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ность в постоянной поддержке и при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я перехода от мышления, основанного на оперировании конкретными представлениями, к мышлению теоретическому, от непосредственной памяти к логиче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ЖИДАЕМЫЕ РЕЗУЛЬТАТЫ ОСВОЕНИЯ РАЗДЕЛА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730080"/>
          <a:ext cx="9144000" cy="612756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будут знат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еся будут умет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зучается в лексик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е слова в языке, назначение в языке мно-гозначных слов, синони-мов, антонимов, омонимов; в речи слов с переносным значением, синонимов, антонимов, омоним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определе-ний лексического значения слова, однозначных и мно-гозначных слов, омонимов, синонимов, антоним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и назначение толко-вых словарей, строение словарной статьи толкового словар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ковать лексические значения известных сл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вать лексическое значение слова, в котором оно употреблено в контекст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есложных случаях подбирать к слову синонимы, антоним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ить в тексте слова с переносным значе-нием, синонимы, антонимы, омонимы; поль-зоваться толковыми словарями разных тип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ясных случаях определять изобразительно-выразительную роль в текстах разных стилей слов с переносным значением, синонимов, антоним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отреблять в необходимых случаях в собственной речи изученные синонимические ряды слов, антонимы, слова с переносным значени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ОБУЧЕНИЯ – это совокупность средств, приёмов и методов, применяемых в процессе обучения и позволяющих успешно реализовывать поставленные образователь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ъяснительно-иллюстративный мето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беседа, сообщение учителя, чтение уче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продуктивный мето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анализ языковых единиц, их функционирования в речи, подбор синонимов, антони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блемное изложение изучаемого материал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создание проблемной ситуации, решение частной лексической, грамматическ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И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но-ориентированное обуч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о главу угла ставит самобытность ребёнка, субъективность процесса обучения; предполагает дифференцированный подход, основой которого является опора на возрастные особенности, определяющие отношение школьников к учё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ивность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ифференцированная работа приучает детей работать на уроке в полную меру свои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И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ый проек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одна из форм личностно- ориентированных технологий, способ организации самостоятельной деятельности школьников, направленный на решение различ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ив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при работе над созданием проекта пятиклассники овладевают такими приёмами работы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бор, анализ и обобщение информации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дени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ение материала для презен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И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ьютерные технолог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ризваны приблизить урок к мировосприятию ребёнка, т.к. он больше смотрит и слушает, чем читает и говорит. ИКТ помогают учителю эмоционально и образно подать материал; осуществить контроль знаний, умений, навыков; сэкономить учеб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ив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учащимся предоставляется возмож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вать схемы, диа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полнять упражнения в электронных табл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ормлять работы в текстовом редакт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уществлять поиск информации и отправлять публикации в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И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ые форм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учения пробуждают, поддерживают, развивают интерес к предмету и процессу обучения. Учебные игры применяются для развития умений использовать полученные знания на практике. Игра должна быть построена на интересе, обязателен элемент соревновательности между участниками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ив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уроки по игровой методике позволяют пятиклассникам лучше запомнить формулировки, определения, «раскрепощают» ученика, его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И И ФОРМЫ ОРГАНИЗАЦИИ ДЕЯТЕЛЬ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928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нгвокультурологический подх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 изучению лексических явлений обусловл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ультуроведческой компетенци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редполагающей осознание родного языка как формы выражения национальной культуры, понимания взаимосвязи языка и истории народа, способности объяснять значение слов с национально-культурным компон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 ЛИНГВОКУЛЬТУРОЛОГИИ – помочь обучающимся увидеть тот культурный фон, который стоит за единицей языка –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8677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И ЛИНГВОКУЛЬТУР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явить, как культура участвует в образовании языковых единиц (через работу с толковыми словар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ить, к какой части лексического значения прикрепляются «культурные смыслы» (через работу с толковыми словаря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явить, осознаются ли эти смыслы обучающимися, как они влияют на речевые стратегии (через составление лингвокультурологического словар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8712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лингвокультуролог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интерпретация текста, сочетающая литературоведческий и лингвистический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ный вид учебной деятельности должен обеспечить понимание художественного текста, которое обусловливается выявлением лексического значения единиц языка и опытом владения средствами речевой выраз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методическая разработка составлена по разделу программы «Лексика» 5 класса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ы основного общего образования по русскому языку 2010 г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едерального компонента государственного стандарта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К под редакцией Т.А.Ладыже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держание обучения ориентировано на развитие личности ученика, воспитание культурного человека, владеющего нормами литературного языка, способного свободно выражать свои мысли и чувства в устной и письменной форме, соблюдать этические нормы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разработка конкретизирует тематическое планирование авторов УМК и раскрывает содержание уроков, исходя из образовательных целей урока, предлагается выбор образовательно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6756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составления лингвокультурологического словар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выявить, какое значение может иметь данное слово в тексте у того или иного автора, проследить последовательность цепочки «слово – ассоциация – смыс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2133720"/>
            <a:ext cx="885672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кольку пятиклассники находятся только на первой ступени работы по составлению словаря, учитель при работе с текстом акцентирует внимание на словах, которые в тексте получают приращение смысла (слова с переносным значением) и художественно переосмысливаются (выявление тропов). Основной вид деятельности – работа с толковыми словар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явление лексического зна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авнение толкования слов разными авт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тнесение лексического значения со смыслом, который приобретает слово в данном тексте (выявление тропов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ив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ворческая поисковая работа по составлению лингвокультурологического словаря способствует развитию лексической зоркости школьников, формированию лексико-семантического взгляда на слово, овладению лексико-стилистическими нормами, создаёт базу для работы по развитию речи, совершенствует навыки работы с толковым словарё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31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мёрзший бор шумит среди лазур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ёт ветвями синеву небе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, кажется, не буря будит лес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 буйный лес, качаясь, будит бу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.Я.Марш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856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этический текст позволяет проделать следующую лексическую работу при составлении лингвокультурологичсеского словаря к данному текс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яснить лексическое значение слов-синонимо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нева, лазурь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екстуальных синонимо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ор, л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тить внимание на толкование слов, получивших приращённые смыслы в тексте на базе переноса значения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мёрзш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бор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уйны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л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явить более сложные образы, определить вид тропов, с помощью которых они созданы автором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мёрзший бор метёт ветвями синеву небес; не буря будит лес, лес будит бу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КА ЭФФЕКТИВНОСТИ МЕТОДИЧЕСКОЙ РАЗ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8000" y="1052640"/>
          <a:ext cx="8928000" cy="5321160"/>
        </p:xfrm>
        <a:graphic>
          <a:graphicData uri="http://schemas.openxmlformats.org/drawingml/2006/table">
            <a:tbl>
              <a:tblPr/>
              <a:tblGrid>
                <a:gridCol w="1079280"/>
                <a:gridCol w="1008360"/>
                <a:gridCol w="936360"/>
                <a:gridCol w="944640"/>
                <a:gridCol w="990720"/>
                <a:gridCol w="1187280"/>
                <a:gridCol w="952560"/>
                <a:gridCol w="951120"/>
                <a:gridCol w="87768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ЧНОЕ ПОНИМА-НИЕ СЕ-МАНТИ-КИ СЛО-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КО-ВАНИЕ ЗНАЧЕ-НИЯ СЛОВА РАЗ-НЫМИ СПОСО-БАМИ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-ЗОВАНИЕ СЛОВА В СВОЙСТ-ВЕННОМ ЕМУ ЗНА-ЧЕНИИ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ЯВЛЕ-НИЕ ТРОПОВ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-ЗОВАНИЕ СЛОВА В НЕСВОЙСТ-ВЕННОМ ЕМУ ЗНА-ЧЕНИИ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АЗ-ЛИЧЕ-НИЕ СИ-НОНИ-МИЧНЫХ СЛОВ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ЕО-НАЗ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ВТО-ЛОГ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КА ЭФФЕКТИВНОСТИ МЕТОДИЧЕСКОЙ РАЗ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628640"/>
          <a:ext cx="9144000" cy="38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ния из научной области: лексика, прямое и переносное значение слова, многозначные и однозначные слова, синонимы, антонимы, омони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ундаментальные знания из области русского языка: лексическое и грамматическое значение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нания профильного характера, учитывающие способности и интересы учеников, их подготовку к будущей профессии: подбор текстов определенной тематики для изучения лексических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ая деятельност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техника мышления, интеллектуальные мыслительные операции, причинно-следственные связи, постановка проблемы, выдвижени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познавательной деятельности на уроках по разд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ждение изучаемого лексического явления среди слов, в словосочетании, предложении или связном 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пределение роли изучаемого лексического явления в тексте с целью закрепления функциональных свойств изученных лексических явлений, понимания изобразительно-выразительных средств в изучаемых художественны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ппировка изучаемых лексических явлений на едином основании деления слов на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авление таблиц лексических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ждение и исправление лексически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ексический анализ (только с опорой на словари): толкование слова, определение входящих в него значений и установление иерархических связей между ними, характеристика типов лексического значения и типов переноса, подбор синонимов и антонимов к слову или каждому из его значений, выявление валентных возможностей языковой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щеучебная 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способы поиска информации, работа с литературой, навыки общения, методы взаимо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бор примеров, иллюстрирующих изучаемое лексическое явление. Работа с печатными источниками либо по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хождение в словарной статье её структур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хождение в словарях слов по тем или иным пометам (применение знаний о тех или иных свойствах слова, сведений об условиях употребления и неупотребления слова в зависимости от этих его свойст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ение словарной статьи знакомого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образующая 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действия в ситуации неопределённости, способы самоопределения, техника выбора, способы поиска новых путей решения проблем, конструирование и моделирование, метод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образующая деятельность предполагает творческую активность обучающихся, проявляющуюся в создани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оретическое осмысление и анализ существующих программ по аналогичной пробл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а Т.А.Ладыженской предлагает ступенчатое изучение лексики. Пятиклассники свободно усваивают лексические понятия, связанные со значением слова, поэтому в программу для них включены слово и его лексическо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ение, слова с прямым и переносным значением, однозначные и многозначные слова, омонимы, синонимы и антонимы. Для усвоения понятий, связанных с употребительностью, стилем, происхождением, у пятиклассников, по мнению составителей программы, нет ещё фоновых знаний – исторических, литературоведческих и др., поэтому эти понятия включены в программу для 6-го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обучении по программе Т.А.Ладыженской используются упражнения следующи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ждение изучаемых лексических явлений (среди слов в текст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слов, обозначающих изучаемое поня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словосочетаний или предложений с данными группами слов (синонимами, многозначным словом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ждение в толковом словаре слов по зад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ждение лексическ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организующая 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способы самостоятельной постановки целей, техника планирования, виды деятельности, самоучёт, самоанализ, самоконтроль, самооценка, саморегуляция, осознание своего про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изучении данного раздела самоорганизующая деятельность проявляется в зависимости от выбора технологии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71640" y="2637000"/>
            <a:ext cx="3384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Ы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765000"/>
            <a:ext cx="2519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765000"/>
            <a:ext cx="35290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765000"/>
            <a:ext cx="2519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РО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4076640"/>
            <a:ext cx="3240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300640"/>
            <a:ext cx="41054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ФФЕРЕНЦ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4076640"/>
            <a:ext cx="31687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ИМЕ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708280"/>
            <a:ext cx="20876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2708280"/>
            <a:ext cx="2303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СЬ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427640" y="155700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258920" y="1557000"/>
            <a:ext cx="316872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427640" y="1557000"/>
            <a:ext cx="331308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314172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31417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18920" y="3645000"/>
            <a:ext cx="2808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3645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3645000"/>
            <a:ext cx="28810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 РАБОТЫ ПО РАЗДЕЛУ «ЛЕКС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1268280"/>
          <a:ext cx="8928000" cy="5102280"/>
        </p:xfrm>
        <a:graphic>
          <a:graphicData uri="http://schemas.openxmlformats.org/drawingml/2006/table">
            <a:tbl>
              <a:tblPr/>
              <a:tblGrid>
                <a:gridCol w="1224000"/>
                <a:gridCol w="4392360"/>
                <a:gridCol w="1656000"/>
                <a:gridCol w="1655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гра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сическое значени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значные и многозначн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е и переносное значение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о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о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ение темы «Лекс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ОТКА УРОКА РУССКОГО ЯЗЫКА В 5 КЛАССЕ ПО ТЕМЕ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РЯМОЕ И ПЕРЕНОСНОЕ ЗНАЧЕНИЕ СЛ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ИП УРОКА: урок объяснения нов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ЕМА: «Прямое и переносное значение с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ать понятие о прямом и переносном значении сл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чить различать прямое и переносное значение с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чить находить слова с переносным значением в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чить употреблять слова с переносным значением в устной и письмен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и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ого интереса к русскому языку на основе соединения теоретического материала с пониманием его практического применения; соединения лексического материала по русскому языку с основами культуры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рмирование умственных, учебных действий: анализа и синтеза, сравнения, обобщения и системат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витие действий контроля и само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витие сенсорной сфе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спитание трудолюбия, дисциплинированности, добросовестности, ответ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спитание гуманности, доброты и деликатности, способности к взаимовыруч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спитание чувства долга, ответственности перед коллективом, чувства сопереживания, максимальной работоспособ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спитание бережного отношения к родному языку, патриот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глядные пособ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териал учеб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зентация к у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даточн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ложения к учебному материалу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ючи к заданиям прило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чный лист самооценки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Орг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Актуализация мыслительной деятельности школьников. Познавательная мотивация. Психологическая подготовка к изучению новой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Сообщение темы, постановка целей и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Объяснение нового материала. Наблюдение над языковым матери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Первичное закрепление знаний. Применение знаний на новом языков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Пауза отды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Дальнейшая работа по закреплению и обобщению приобретённых знаний и ум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Подведение итогов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. Задание на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КА ЗНАНИЙ, УМЕНИЙ, НАВЫКОВ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знать способы переноса наименования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уметь различать прямое и переносное значение слов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уметь самостоятельно находить в речи слова, употребляемые в переносном значени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уметь правильно употреблять слова в прямом и переносном значении в устной и письменной реч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уметь пользоваться толковым словарё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5075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НЯЕМЫЕ НА УРОКЕ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форме организации дея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ронта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дивидуа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источнику позн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гляд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уровню познавательной дея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продуктивный (воспроизводят полученные зн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о-поисковый (участвуют в коллективном поис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аранов М.Т. Методика лексики и фразеологии на уроках русского языка: Пособие для учителя. – М.: Просвещение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ац И.Ю. Методический блокнот учителя русского языка. М.: Дрофа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ц Л.В. Азбука лингвистического исследования. М.: Онега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саков В.А. Занимательные задачи и упражнения по лексике и фразеологии. Йошкар-Ола: Стезя, 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льневич С.В., Лакоценина Т.П. Современный урок. Ч. 1, 2. – Ростов –н/Д.: Изд-во «Учитель»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слова В.А. Лингвокультурология. – М.: Издательский центр «Академия»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н А.А., Бордовская Н.В., Розум С.И. Психология и педагогика. – СПб.: Питер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сский язык. 5 класс: учеб. для общеобразоват. учреждений/Т.А.Ладыженская, М.Т.Баранов, Л.А.Тростенцова и др. –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nsporta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rusedu.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en.edu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it-n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uchporta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scuolarussa-levtolstoj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оретическое осмысление и анализ существующих программ по аналогичной пробл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программе М.М.Разумовской раздел «Лексика» изучается в составе интегрированного раздела «Лексика. Словообразование. Правописание» для формирования у пятиклассников целостного представления о слове, о зависимости лексического значения слова и морфемных значений, сочетающихся в одной словоформе. В содержание раздела включены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конно русс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имствован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меющие ограниченную сферу употребления (профессионализмы, диалектиз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ревш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разеолог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обое внимание обращается на приём подбора однокоренного слова при выяснении лексического значения слова: разъясняется лексическое значение слова и осознаётся его морфемное 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ём словообразовательного толкования лексического значения слова связывает в единое целое лексический, словообразовательный и орфографический анализ слова, что соответствует основной идее интегрированного раз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оретическое осмысление и анализ существующих программ по аналогичной пробл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содержание раздела «лексика» по программе В.В.Бабайцевой включе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рон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тор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ха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рославян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грамма реализуется в учебном комплексе «Русский язык. Теория», «Русский язык. Практика», «Русская ре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способ выявления лексического значения слова используются этимологический и словообразовательный разборы. Прослеживается линейный принцип подачи материала. Программой определены вводный курс и основной курс, в соответствии с которым уже в 5 классе раздел «Лексика» изучается в полном объёме. Изучение раздела сопровождается формированием орфографических и пунктуационных навыков. Задачи позволяют открыть самостоятельно новое и интересное в языке: явление, закономерность, факт. Всё это активизирует познавательную деятельность пятиклассников, которая носит продуктивн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УАЛЬНОСТЬ МЕТОДИЧЕСКОЙ РАЗРАБ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рс русского языка в 5 классе (тема «Лексика») ставит своей задачей знакомство со словом как единицей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тся навыки грамотного культурного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дёт работа над изобразительно-выразительными средствами языка; тесная связь с литера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ение толковых словарей поможет расширить словарный запас, сделает речь богаче и выразитель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ние употреблять слова в свойственном им значении – залог успешност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инается постепенная подготовка детей к заданиям ГИА и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ким образом, возникает необходимость уделить данной теме особое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ё сказанное выше определяе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ан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 И ЗАДАЧИ ИЗУЧЕНИЯ РАЗДЕЛА «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ЗНАВАТЕЛЬНЫ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у обучающихся научное мировоззр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ировать у школьников языковой эстетический иде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ить слово как единство лексического и грамматического зна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репить понятие лексического значения, переносного значения, многозн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ЗНАВАТЕЛЬ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знакомить обучающихся с основными понятиями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олнить словарный запас обучающихся, формировать умение употреблять слова в соответствии с их лексическим знач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еспечить усвоение лексических понят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монимы, синонимы, антоним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учить использовать синонимы и антонимы для обогащения реч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вершенствовать умение работы со словарями разных ти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 И ЗАДАЧИ ИЗУЧЕНИЯ РАЗДЕЛА «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у школьников лексико-семантический взгляд на слово, что проявляется в умен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в слове лексическое значение (в противоположность грамматическим значения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анавливать семантические (смысловые) связи слова с другими сло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и умения специально формируются при изучении лексики и закрепляются на уроках развития связной реч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умение выражать свои мысли в устной и письменной речи с использованием различной терминоло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восприятие, внимание,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умения сравнивать, анализ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ть навыки реализации теоретических знаний на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 И ЗАДАЧИ ИЗУЧЕНИЯ РАЗДЕЛА «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особствовать патриотическому и интернациональному воспитанию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еспечивать условия для развития их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ывать у обучающихся любовь к русскому язы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ировать стремление овладеть словарным богатством родн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ывать познавательный интерес к предме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ывать чувство уверенности в себе, умение работать в коллекти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действовать рациональной организации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4:02:05Z</dcterms:created>
  <dc:creator>Admin</dc:creator>
  <dc:description/>
  <dc:language>en-US</dc:language>
  <cp:lastModifiedBy>сергей</cp:lastModifiedBy>
  <dcterms:modified xsi:type="dcterms:W3CDTF">2014-04-14T09:39:49Z</dcterms:modified>
  <cp:revision>34</cp:revision>
  <dc:subject/>
  <dc:title>МБОУ средняя общеобразовательная школа №5 г. Саров Нижегородская область</dc:title>
</cp:coreProperties>
</file>