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C0C3D-7D37-47B8-BDC3-FF066E4CD29E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96079-2D73-4524-ABF0-59338F935067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08D-BB2F-4575-8C4B-12C806FA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9B7-0C97-4A87-92CF-D9BD561D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974-83A9-46EC-93FE-CFCD67A1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8C1-638B-499F-8C4A-6F757957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2D0-626F-4F14-87BA-E2BDDD14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1C6-479F-4AE9-B780-F9BFDD9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DF2-DEE0-4EBA-9569-5AC1F51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835E-2291-4B43-B5E8-84A84F20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B89-F704-4C73-B2F2-B6C4DA7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637-6D05-4BC0-9AE7-FA4E5E9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DEA5-5818-45FF-A172-54BB124F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E8D-CF3E-4FA7-B8D8-CF91AEA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1FB-2E87-4220-8FCE-9314283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B185-8F45-4244-9B67-EE7CB9D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D87-D89E-4817-A593-6AE0B20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2643-34CE-48D0-9A03-17050DDA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4AC0-9D00-41B3-9221-6F1D061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3E92-4842-40EC-BD44-3C23B693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8CD5-BBF1-4032-8B57-E9810409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A1FE-DC0A-40FC-A58D-DD80C3B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2EDC-E646-433F-A39A-A048DA1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2AF5-B858-483D-A4DD-21972DD5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3A0-7C1D-454B-81D8-FA8EED1B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D735-D11E-4B50-9FC1-8550075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C5B5-15A2-4A3C-A16F-D0D7668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E6EF-387E-4D3D-8E50-46E1FB1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192D-688C-4C3B-92F0-46E8DEC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6AC4-FB4E-40A3-9074-65A6327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0072-EE42-4920-8DAA-A04EC1F0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095F-158D-4944-82A5-4657776F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80F0-4C75-436E-AFA6-253E88C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7ECC-4D52-4D49-87AA-77757D33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16CD-63DB-424F-82D8-D6435E10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D68-D482-48F7-9C23-FB1C775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F6D0-0F37-4C7E-A6FB-C914BE2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4451-7E2B-4304-A02A-D1513985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489E-E0B1-4422-A094-258C63F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7520-23A0-4396-96A1-F15323C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6334-0F8B-4CC8-8990-484BFD2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5E03-C90D-4F75-A6B4-1AA19E7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6C860-8EB1-44D2-AB66-7ED03FC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CEF2-B3BD-410B-8597-15E6CA88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33A2-92E1-40BF-A738-59511132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DCC-F585-48D8-A3B1-DE7BA7E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0C-0426-43BE-B0B6-A133A80B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4AB-54FA-4CA4-9FC6-07DC82C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36A-8ACF-4AF4-98B5-7D851E0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9C1-7E17-4E7C-95DB-4B133E4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A0D48-CEE6-47D7-BCCA-02501774DB0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A73D4-B9B3-44C0-956C-923C13133369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5D5D2-D2F8-40D4-98C0-E8F5A8C15CC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2AA30-13AA-491A-BC28-3B3AD85C6863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347760" y="438120"/>
            <a:ext cx="6906960" cy="3889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77520" y="4750920"/>
            <a:ext cx="63183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Явтушенко Галина Викторовн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МБОУ» Гурзуфская СШ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2"/>
          <a:stretch/>
        </p:blipFill>
        <p:spPr>
          <a:xfrm>
            <a:off x="7135920" y="554040"/>
            <a:ext cx="469584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249120" y="155520"/>
            <a:ext cx="1032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классные комнаты должны быть оборудован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мультимедийными установками и интерактивными доск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603360" y="1614600"/>
            <a:ext cx="911232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31920" y="208080"/>
            <a:ext cx="1149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77920" y="262080"/>
            <a:ext cx="111664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информационные компетенции включают :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ую грамотность- способность использовать новые средства для зффективного получения и перендачи информации 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ую грамотность- способность находить ,организовывать ,отбирать,обрабатывать и использовать информац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окомпетенцию-способность производить и распространять информациюв произвольном формате любым аудиториям 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мышление – способность критически оценивать достоверность информации,формировать на этой основе правильные вывод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ую этику – способность соблюдать нормы социальной ответственности и нравственного поведения в информационно-коммуникативном процесс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471600" y="3989520"/>
            <a:ext cx="11125080" cy="28684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0" y="270000"/>
            <a:ext cx="10572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738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Информационная компетентность педагога понимается как особый тип организации предметно-специальных знаний , позволяющих принимать эффективные решения в профессионально-педагогической деятельности и готовить специалистов нового поколения, которые свободно владеют всем спектром знаний по профессии ,а также  информационными технологиям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63738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Становление и развитие профессионализма преподавателей на основе органичного встраивания современных технологий  традиционный дидактический процесс- это главная задача ,стоящая перед современным образовани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495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93600" y="93600"/>
            <a:ext cx="102459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О</a:t>
            </a:r>
            <a:r>
              <a:rPr b="1" lang="ru-RU" sz="2400" spc="-1" strike="noStrike">
                <a:solidFill>
                  <a:srgbClr val="90c226"/>
                </a:solidFill>
                <a:latin typeface="Trebuchet MS"/>
              </a:rPr>
              <a:t>сновными элементами процесса формирования  ИК являются </a:t>
            </a: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1.Умение применять информационные технологии для демонстрации печатных и графических документов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2. Умение использовать информационные технологии для демонстра-ции  аудио- и видио- материалов на уро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3.Умение создавать презентаци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4.Умение систематизировать и обрабатывать данные с помощью таблиц ,технологических кар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5.Умение строить сравнительные таблицы и выявлять закономернос-ти с помощью компьютера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6.Умение применять информационные технологии для моделирования процессов и объектов, выполнения чертежей и эскизов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7.Умение использовать компьютерное тестиров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436680" y="568440"/>
            <a:ext cx="10288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Информационная компетентность учителя формируется на этапах изучения компьютера ,применения информацонных технологий в качестве средства обучения в процессе профессиональной деятельности и рассматривается как одна из граней профессиональной зрелости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Уровни формирования информационной               компетентности </a:t>
            </a: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1.Уровень потребителя информации 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2.Уровень пользователя компьютером 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3.Уровень логического функционирования и знания характеристик оборудования 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4.Уровень предметно-специфических задач на основе творческого межпредметного подхода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6004080" y="29671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Прямоугольник 3" descr=""/>
          <p:cNvPicPr/>
          <p:nvPr/>
        </p:nvPicPr>
        <p:blipFill>
          <a:blip r:embed="rId1"/>
          <a:stretch/>
        </p:blipFill>
        <p:spPr>
          <a:xfrm>
            <a:off x="0" y="-109440"/>
            <a:ext cx="1066176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3"/>
          <p:cNvSpPr/>
          <p:nvPr/>
        </p:nvSpPr>
        <p:spPr>
          <a:xfrm>
            <a:off x="387360" y="235080"/>
            <a:ext cx="1136160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казателями информационной компетентности педагога являются:  понимание важности информационной компетентности для педагогической деятельности; проявление педагогом самостоятельности и активности в информационно-образовательной среде; продуктивность решения задач и проблем, возникающих в информационно-образовательной среде; стремление к саморазвитию информационной компетентности и самореализации в профессиональной деятельности. 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flipV="1">
            <a:off x="623880" y="480960"/>
            <a:ext cx="922644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10307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Одним из ключевых требований ,предъявляемых обществом к человеку ,независимо от сферы профессиональной деятельности является владение им современной техникой коммуникационного назначения ,различными технологиями отбора ,хранения ,защиты и контроля информации , основными навыками работы с различными информационными ресурсами 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Сегодня есть все основания говорить о формировании новой категории культуры человека –глобальной информационной культуры.</a:t>
            </a:r>
            <a:br>
              <a:rPr sz="2400"/>
            </a:b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Информационная культура личности  </a:t>
            </a:r>
            <a:r>
              <a:rPr b="1" lang="ru-RU" sz="2400" spc="-1" strike="noStrike">
                <a:solidFill>
                  <a:srgbClr val="90c226"/>
                </a:solidFill>
                <a:latin typeface="Trebuchet MS"/>
              </a:rPr>
              <a:t>рассматривается как инструмент освоения и адаптации к условиям внешней среды и как способ гармонизации внутреннего мира человека в ходе освоения объёма социально-значимой информации. Именно информационная культура человека становится в обществе знаний фактором , лимитирующим возможности приобщения к информации 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1003140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онятие информационной компетентности неотъемлемо связано  с понятием информационной культуры.</a:t>
            </a:r>
            <a:br>
              <a:rPr sz="3200"/>
            </a:b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Информационная компетентность –это , прежде всего ,опыт обращения с самой информацией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,а не с её средствами. В обществе знания намного важнее уметь критически воспринимать средства информации , находить нужную информацию, </a:t>
            </a:r>
            <a:br>
              <a:rPr sz="3200"/>
            </a:b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дифференцированно оценивать ,делать выбор и самостоятельно обрабатывать еёю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506520" y="-7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"/>
          <p:cNvPicPr/>
          <p:nvPr/>
        </p:nvPicPr>
        <p:blipFill>
          <a:blip r:embed="rId1"/>
          <a:stretch/>
        </p:blipFill>
        <p:spPr>
          <a:xfrm>
            <a:off x="291960" y="560520"/>
            <a:ext cx="10309320" cy="62244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4" descr=""/>
          <p:cNvPicPr/>
          <p:nvPr/>
        </p:nvPicPr>
        <p:blipFill>
          <a:blip r:embed="rId2"/>
          <a:stretch/>
        </p:blipFill>
        <p:spPr>
          <a:xfrm>
            <a:off x="-274680" y="-219240"/>
            <a:ext cx="12479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4" descr=""/>
          <p:cNvPicPr/>
          <p:nvPr/>
        </p:nvPicPr>
        <p:blipFill>
          <a:blip r:embed="rId1"/>
          <a:stretch/>
        </p:blipFill>
        <p:spPr>
          <a:xfrm>
            <a:off x="189000" y="30240"/>
            <a:ext cx="10167840" cy="23112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"/>
          <p:cNvPicPr/>
          <p:nvPr/>
        </p:nvPicPr>
        <p:blipFill>
          <a:blip r:embed="rId2"/>
          <a:stretch/>
        </p:blipFill>
        <p:spPr>
          <a:xfrm>
            <a:off x="446040" y="2338560"/>
            <a:ext cx="79534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103320" y="82440"/>
            <a:ext cx="1037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се рабочие места учителей должны быть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оборудованы компьютером с выходом в интерн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5" descr=""/>
          <p:cNvPicPr/>
          <p:nvPr/>
        </p:nvPicPr>
        <p:blipFill>
          <a:blip r:embed="rId1"/>
          <a:stretch/>
        </p:blipFill>
        <p:spPr>
          <a:xfrm>
            <a:off x="654120" y="1303200"/>
            <a:ext cx="76057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-633240" y="0"/>
            <a:ext cx="119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должен</a:t>
            </a: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вестись электронный журнал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882720" y="1003320"/>
            <a:ext cx="8061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66680" y="0"/>
            <a:ext cx="101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•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должен быть обеспечен доступ родителям к электронному дневнику через портал городских услуг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922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0" y="-85680"/>
            <a:ext cx="1071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начальной школе для используется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учебно-методический портал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ttp://nachalka.seminfo.ru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835200" y="1670040"/>
            <a:ext cx="8713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-196920" y="114480"/>
            <a:ext cx="10769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208080" y="114480"/>
            <a:ext cx="1120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 школе должны иметься стационарные и мобильные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компьютерные классы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5" descr=""/>
          <p:cNvPicPr/>
          <p:nvPr/>
        </p:nvPicPr>
        <p:blipFill>
          <a:blip r:embed="rId1"/>
          <a:stretch/>
        </p:blipFill>
        <p:spPr>
          <a:xfrm>
            <a:off x="-115920" y="1536840"/>
            <a:ext cx="5303880" cy="4059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2"/>
          <a:stretch/>
        </p:blipFill>
        <p:spPr>
          <a:xfrm>
            <a:off x="5187960" y="1860480"/>
            <a:ext cx="4824360" cy="29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1T07:25:26Z</dcterms:created>
  <dc:creator>игорь загрядский</dc:creator>
  <dc:description/>
  <dc:language>en-US</dc:language>
  <cp:lastModifiedBy>user</cp:lastModifiedBy>
  <dcterms:modified xsi:type="dcterms:W3CDTF">2019-03-27T10:54:29Z</dcterms:modified>
  <cp:revision>34</cp:revision>
  <dc:subject/>
  <dc:title>Y</dc:title>
</cp:coreProperties>
</file>