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15.png" ContentType="image/png"/>
  <Override PartName="/ppt/media/image14.wmf" ContentType="image/x-wm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13.wmf" ContentType="image/x-wmf"/>
  <Override PartName="/ppt/media/image5.png" ContentType="image/png"/>
  <Override PartName="/ppt/media/image7.png" ContentType="image/png"/>
  <Override PartName="/ppt/media/image12.png" ContentType="image/png"/>
  <Override PartName="/ppt/media/image8.gif" ContentType="image/gif"/>
  <Override PartName="/ppt/media/image6.gif" ContentType="image/gif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651C5-B3BE-417B-BD92-1DE385CA2C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00446-2310-47E7-8328-3D5857391F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5FA2-5DD3-402B-A731-E9ABB498C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8645-0B88-41A2-AA8A-1024684A8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5FDA-414A-4912-A1CC-63636DC1F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F975-9974-49EF-AB14-0BBD14ADF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0E6E3-6950-422A-A9F9-9848AA26C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1A146-B8E2-41D0-A010-1E350D17C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5B9FC-924C-4194-8949-C8687039B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5AC64-6E82-4747-8314-95A552F26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02166-416D-4103-A8E6-07C1030E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315D9-829D-4276-A15A-C96C218EF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F9655-F025-4582-9791-C5DBF50E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48D5-FF8B-4D64-867F-3E7ED1C10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65AA9-C71B-4160-AA82-C95EA8AE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A802D-5E75-499B-8D8C-A8C5E629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CC6BE-3BA5-4C64-9095-E3B9D0B0E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70323-F912-44AA-A3DA-858CA41F2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67F55-677D-4FF2-91EF-B429893DF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92450-B507-4643-8A02-042C75171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D63A6-5F45-4140-938D-86404E0D0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9298E-BFF1-4A76-9342-C135152D9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DCD5A-CC1B-452A-B5BC-E0F167DC1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A5567-4662-421D-810A-345491157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C80A-ECF1-497C-849D-22A382D1E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2BDB3-7C93-4554-8496-A6AE67B2F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6AFB0-E407-488F-A2DD-6B300E3DF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0FDC2-99FF-4EAF-9F92-67E9E616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CA1AC-0C8E-4B1B-B969-525CA150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C6A3C-8904-4C01-A50B-BF6C0FB6C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A1B94-FF61-4817-89E9-2370361CC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A8541-3D7B-4E6C-B634-AA8C1E51F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7389-138F-4201-B86B-7E7927C89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C3A6-3504-4C8B-AE34-69747D093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44C7-77B2-4FEF-806B-B18659CB4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E5F1-E8A2-4C35-A8D3-BFAAB71B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A59A-AC15-49C4-BDA0-AF18984D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DF18-F9D5-459B-B3CE-24F51C14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8.gi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7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12A6B-50F9-40AA-A6FA-B28EE8E491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0800000">
            <a:off x="0" y="6629040"/>
            <a:ext cx="9144000" cy="228600"/>
          </a:xfrm>
          <a:custGeom>
            <a:avLst/>
            <a:gdLst/>
            <a:ahLst/>
            <a:rect l="l" t="t" r="r" b="b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8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46"/>
          <p:cNvGrpSpPr/>
          <p:nvPr/>
        </p:nvGrpSpPr>
        <p:grpSpPr>
          <a:xfrm>
            <a:off x="0" y="3657600"/>
            <a:ext cx="9144000" cy="3200400"/>
            <a:chOff x="0" y="3657600"/>
            <a:chExt cx="9144000" cy="3200400"/>
          </a:xfrm>
        </p:grpSpPr>
        <p:pic>
          <p:nvPicPr>
            <p:cNvPr id="48" name="Picture 47" descr="7"/>
            <p:cNvPicPr/>
            <p:nvPr/>
          </p:nvPicPr>
          <p:blipFill>
            <a:blip r:embed="rId2"/>
            <a:stretch/>
          </p:blipFill>
          <p:spPr>
            <a:xfrm rot="10800000">
              <a:off x="0" y="3657240"/>
              <a:ext cx="914400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48" descr="04"/>
            <p:cNvPicPr/>
            <p:nvPr/>
          </p:nvPicPr>
          <p:blipFill>
            <a:blip r:embed="rId3"/>
            <a:stretch/>
          </p:blipFill>
          <p:spPr>
            <a:xfrm rot="10800000">
              <a:off x="2448000" y="5694480"/>
              <a:ext cx="1361880" cy="116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10" descr="123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1" name="Picture 34" descr="water_2"/>
          <p:cNvPicPr/>
          <p:nvPr/>
        </p:nvPicPr>
        <p:blipFill>
          <a:blip r:embed="rId5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fire14"/>
          <p:cNvPicPr/>
          <p:nvPr/>
        </p:nvPicPr>
        <p:blipFill>
          <a:blip r:embed="rId6"/>
          <a:stretch/>
        </p:blipFill>
        <p:spPr>
          <a:xfrm>
            <a:off x="1295280" y="7621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1" descr="B_Fly26"/>
          <p:cNvPicPr/>
          <p:nvPr/>
        </p:nvPicPr>
        <p:blipFill>
          <a:blip r:embed="rId7"/>
          <a:stretch/>
        </p:blipFill>
        <p:spPr>
          <a:xfrm>
            <a:off x="609480" y="449280"/>
            <a:ext cx="990720" cy="892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2" descr="B_Fly26"/>
          <p:cNvPicPr/>
          <p:nvPr/>
        </p:nvPicPr>
        <p:blipFill>
          <a:blip r:embed="rId8"/>
          <a:stretch/>
        </p:blipFill>
        <p:spPr>
          <a:xfrm>
            <a:off x="609480" y="380880"/>
            <a:ext cx="990720" cy="89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3" descr="bupestrid beetle 5"/>
          <p:cNvPicPr/>
          <p:nvPr/>
        </p:nvPicPr>
        <p:blipFill>
          <a:blip r:embed="rId9"/>
          <a:stretch/>
        </p:blipFill>
        <p:spPr>
          <a:xfrm>
            <a:off x="7467480" y="6259680"/>
            <a:ext cx="838440" cy="322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6" name="Picture 55" descr="WB01292_"/>
          <p:cNvPicPr/>
          <p:nvPr/>
        </p:nvPicPr>
        <p:blipFill>
          <a:blip r:embed="rId10"/>
          <a:stretch/>
        </p:blipFill>
        <p:spPr>
          <a:xfrm>
            <a:off x="228600" y="5105520"/>
            <a:ext cx="399960" cy="3999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BBA2E-C5D3-48E5-B5FD-DF111E83A2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reeform 7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0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101" name="Freeform 9"/>
          <p:cNvSpPr/>
          <p:nvPr/>
        </p:nvSpPr>
        <p:spPr>
          <a:xfrm rot="10800000">
            <a:off x="0" y="6629040"/>
            <a:ext cx="9144000" cy="228600"/>
          </a:xfrm>
          <a:custGeom>
            <a:avLst/>
            <a:gdLst/>
            <a:ahLst/>
            <a:rect l="l" t="t" r="r" b="b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CC10-FB63-4032-B3B7-65F07253A04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maam.ru/users/9047997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86600" cy="15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Муниципальное дошкольное образовательное учреждение  </a:t>
            </a:r>
            <a:br>
              <a:rPr sz="2400"/>
            </a:b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детский сад  №7 «Золотой ключик»</a:t>
            </a:r>
            <a:r>
              <a:rPr b="0" lang="es-UY" sz="2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28880" y="1680840"/>
            <a:ext cx="388764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Гончарова Нелли                    Александ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628880" y="2505240"/>
            <a:ext cx="3524040" cy="19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воспитатель</a:t>
            </a:r>
            <a:br>
              <a:rPr sz="1800"/>
            </a:br>
            <a:r>
              <a:rPr b="0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МДОУ детский сад №7                                    «Золотой ключик» г.Ветлуга Нижегород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Объект 11" descr=""/>
          <p:cNvPicPr/>
          <p:nvPr/>
        </p:nvPicPr>
        <p:blipFill>
          <a:blip r:embed="rId1"/>
          <a:stretch/>
        </p:blipFill>
        <p:spPr>
          <a:xfrm>
            <a:off x="438120" y="1890720"/>
            <a:ext cx="2860560" cy="41292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8"/>
          <p:cNvSpPr/>
          <p:nvPr/>
        </p:nvSpPr>
        <p:spPr>
          <a:xfrm>
            <a:off x="69840" y="5257800"/>
            <a:ext cx="884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«Лучший способ сделать детей хороши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– </a:t>
            </a:r>
            <a:r>
              <a:rPr b="1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сделать их счастливыми»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Оскар Уайль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«Деятельностный аспект личного вклада педагога в развитие образова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7"/>
          <p:cNvSpPr/>
          <p:nvPr/>
        </p:nvSpPr>
        <p:spPr>
          <a:xfrm>
            <a:off x="1476360" y="1557360"/>
            <a:ext cx="2521080" cy="1278000"/>
          </a:xfrm>
          <a:prstGeom prst="rightArrow">
            <a:avLst>
              <a:gd name="adj1" fmla="val 50000"/>
              <a:gd name="adj2" fmla="val 4931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дготовитель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эта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9"/>
          <p:cNvSpPr/>
          <p:nvPr/>
        </p:nvSpPr>
        <p:spPr>
          <a:xfrm>
            <a:off x="1187280" y="3429000"/>
            <a:ext cx="2735280" cy="1295280"/>
          </a:xfrm>
          <a:prstGeom prst="rightArrow">
            <a:avLst>
              <a:gd name="adj1" fmla="val 50000"/>
              <a:gd name="adj2" fmla="val 5279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снов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эта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0"/>
          <p:cNvSpPr/>
          <p:nvPr/>
        </p:nvSpPr>
        <p:spPr>
          <a:xfrm>
            <a:off x="1258920" y="5589720"/>
            <a:ext cx="2449440" cy="1133280"/>
          </a:xfrm>
          <a:prstGeom prst="rightArrow">
            <a:avLst>
              <a:gd name="adj1" fmla="val 50000"/>
              <a:gd name="adj2" fmla="val 54034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аключитель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эта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4"/>
          <p:cNvSpPr/>
          <p:nvPr/>
        </p:nvSpPr>
        <p:spPr>
          <a:xfrm>
            <a:off x="3924360" y="1125360"/>
            <a:ext cx="470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145400" y="1486440"/>
            <a:ext cx="4782240" cy="1364400"/>
          </a:xfrm>
          <a:prstGeom prst="rect">
            <a:avLst/>
          </a:prstGeom>
          <a:solidFill>
            <a:srgbClr val="ffff00"/>
          </a:solidFill>
          <a:ln w="25560">
            <a:solidFill>
              <a:srgbClr val="527755"/>
            </a:solidFill>
            <a:round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ить уровень познавательного интереса у  дет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соответствующую методическую литератур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етирование родителей по данной тем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кругленный прямоугольник 6"/>
          <p:cNvSpPr/>
          <p:nvPr/>
        </p:nvSpPr>
        <p:spPr>
          <a:xfrm>
            <a:off x="4067280" y="3068640"/>
            <a:ext cx="4933800" cy="23763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азработать перспективный план раб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 деть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существить взаимодействие с родителями.  Пополнить развивающую сре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азработка памятки, консультаций с родителями. 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ивлечение родителей при организации проектной деятельност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Скругленный прямоугольник 7"/>
          <p:cNvSpPr/>
          <p:nvPr/>
        </p:nvSpPr>
        <p:spPr>
          <a:xfrm>
            <a:off x="4071960" y="5589720"/>
            <a:ext cx="4929120" cy="100800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методической разработки на педсовете, на личном сайте, сайте ДОУ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0"/>
          <p:cNvSpPr/>
          <p:nvPr/>
        </p:nvSpPr>
        <p:spPr>
          <a:xfrm>
            <a:off x="250920" y="1557360"/>
            <a:ext cx="663480" cy="431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6"/>
          <p:cNvSpPr/>
          <p:nvPr/>
        </p:nvSpPr>
        <p:spPr>
          <a:xfrm>
            <a:off x="316080" y="1844640"/>
            <a:ext cx="458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  <a:ea typeface="Arial"/>
              </a:rPr>
              <a:t>Механизм реализации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54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Этапы работы над проек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457200" y="1177920"/>
          <a:ext cx="8458200" cy="5435640"/>
        </p:xfrm>
        <a:graphic>
          <a:graphicData uri="http://schemas.openxmlformats.org/drawingml/2006/table">
            <a:tbl>
              <a:tblPr/>
              <a:tblGrid>
                <a:gridCol w="900000"/>
                <a:gridCol w="3664080"/>
                <a:gridCol w="3894120"/>
              </a:tblGrid>
              <a:tr h="5605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Этап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проек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Деятельность педагога</a:t>
                      </a:r>
                      <a:r>
                        <a:rPr b="1" lang="ru-RU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Деятельность де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97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1 эта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1. Формулирует проблему (цель). При постановке цели определяется и продукт проек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2. Вводит в игровую (сюжетную) ситуаци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3. Формулирует задачу (нежёстко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1. Вхождение в проблем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2. Вживание в игровую ситуаци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3. Принятие задач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4. Дополнение задач проек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2 эта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4. Помогает в решении задач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5. Помогает спланировать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6. Организует деятельност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5. Объединение детей в рабочие групп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6. Распределение амплу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94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3 этап</a:t>
                      </a:r>
                      <a:r>
                        <a:rPr b="1" lang="ru-RU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7. Практическая помощь (по необходимости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8. Направляет и контролирует осуществление проек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7. Формирование специфических знаний, умений навык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936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4 этап</a:t>
                      </a:r>
                      <a:r>
                        <a:rPr b="1" lang="ru-RU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9. Подготовка к презентац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10.Презентац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8. Продукт деятельности готовят к презентац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9. Представляют (зрителям или экспертам) продукт деятель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«Деятельностный аспект личного вклада педагога в развитие образов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1"/>
          <p:cNvSpPr/>
          <p:nvPr/>
        </p:nvSpPr>
        <p:spPr>
          <a:xfrm>
            <a:off x="900000" y="836640"/>
            <a:ext cx="1873440" cy="6476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Интегр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2"/>
          <p:cNvSpPr/>
          <p:nvPr/>
        </p:nvSpPr>
        <p:spPr>
          <a:xfrm>
            <a:off x="6084720" y="981000"/>
            <a:ext cx="2819520" cy="91440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методы и при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: скругленные противолежащие углы 3"/>
          <p:cNvSpPr/>
          <p:nvPr/>
        </p:nvSpPr>
        <p:spPr>
          <a:xfrm>
            <a:off x="6156360" y="2133720"/>
            <a:ext cx="2746440" cy="4176720"/>
          </a:xfrm>
          <a:prstGeom prst="pie">
            <a:avLst/>
          </a:prstGeom>
          <a:solidFill>
            <a:srgbClr val="00b0f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• </a:t>
            </a:r>
            <a:r>
              <a:rPr b="1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наглядны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• </a:t>
            </a:r>
            <a:r>
              <a:rPr b="1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словесны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• </a:t>
            </a:r>
            <a:r>
              <a:rPr b="1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рактическ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• </a:t>
            </a:r>
            <a:r>
              <a:rPr b="1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роблемно-поисковы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• </a:t>
            </a:r>
            <a:r>
              <a:rPr b="1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исследовательск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• </a:t>
            </a:r>
            <a:r>
              <a:rPr b="1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сюрпризный момен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• </a:t>
            </a:r>
            <a:r>
              <a:rPr b="1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элемент загадоч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• </a:t>
            </a:r>
            <a:r>
              <a:rPr b="1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создание воображаемой ситу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• </a:t>
            </a:r>
            <a:r>
              <a:rPr b="1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использование музыки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: скругленные противолежащие углы 4"/>
          <p:cNvSpPr/>
          <p:nvPr/>
        </p:nvSpPr>
        <p:spPr>
          <a:xfrm>
            <a:off x="152280" y="1557360"/>
            <a:ext cx="3089520" cy="5111640"/>
          </a:xfrm>
          <a:prstGeom prst="pie">
            <a:avLst/>
          </a:prstGeom>
          <a:solidFill>
            <a:srgbClr val="ffff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Реализация проектов происходит через различные виды деятельности (творческую, экспериментальную, продуктивную). Происходит взаимопроникновение и взаимодействие образовательных областей дошкольного образования, обеспечивая целостность образовательного процесса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Овал 6"/>
          <p:cNvSpPr/>
          <p:nvPr/>
        </p:nvSpPr>
        <p:spPr>
          <a:xfrm>
            <a:off x="3132000" y="981000"/>
            <a:ext cx="2735280" cy="576360"/>
          </a:xfrm>
          <a:prstGeom prst="ellipse">
            <a:avLst/>
          </a:prstGeom>
          <a:noFill/>
          <a:ln w="6480">
            <a:solidFill>
              <a:srgbClr val="dae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Формы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с двумя скругленными противолежащими углами 7"/>
          <p:cNvSpPr/>
          <p:nvPr/>
        </p:nvSpPr>
        <p:spPr>
          <a:xfrm>
            <a:off x="3419640" y="1628640"/>
            <a:ext cx="2520720" cy="5040360"/>
          </a:xfrm>
          <a:prstGeom prst="pie">
            <a:avLst/>
          </a:prstGeom>
          <a:solidFill>
            <a:srgbClr val="92d050"/>
          </a:solidFill>
          <a:ln w="64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ры – путешеств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блюд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евые прогулки и экскурс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идактические и сюжетно-ролевые игр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актические упражнения, опы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ллекционирова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вместное творчество детей и родител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зен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85480" y="142560"/>
            <a:ext cx="864396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Диапазон личного вклада воспитателя в развитие дошкольного образования и степень его новиз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Блок-схема: процесс 4"/>
          <p:cNvSpPr/>
          <p:nvPr/>
        </p:nvSpPr>
        <p:spPr>
          <a:xfrm>
            <a:off x="1547640" y="1052640"/>
            <a:ext cx="2541600" cy="726840"/>
          </a:xfrm>
          <a:prstGeom prst="flowChartProcess">
            <a:avLst/>
          </a:prstGeom>
          <a:solidFill>
            <a:srgbClr val="92d05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паз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Блок-схема: процесс 15"/>
          <p:cNvSpPr/>
          <p:nvPr/>
        </p:nvSpPr>
        <p:spPr>
          <a:xfrm>
            <a:off x="250920" y="2349360"/>
            <a:ext cx="2376360" cy="3346560"/>
          </a:xfrm>
          <a:prstGeom prst="flowChartProcess">
            <a:avLst/>
          </a:prstGeom>
          <a:solidFill>
            <a:srgbClr val="92d05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влечение  детей, педагогов  и родителей в реализацию проектов, направленных на развитие познавательной активности дет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Блок-схема: процесс 13"/>
          <p:cNvSpPr/>
          <p:nvPr/>
        </p:nvSpPr>
        <p:spPr>
          <a:xfrm>
            <a:off x="3059280" y="2205000"/>
            <a:ext cx="2879640" cy="4176720"/>
          </a:xfrm>
          <a:prstGeom prst="flowChartProcess">
            <a:avLst/>
          </a:prstGeom>
          <a:solidFill>
            <a:srgbClr val="92d05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совместных проек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форм, приемов и методов  по теме проек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атериалы по  пополнению развивающей предметно-пространственной среды с участием родител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 портфолио проек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Блок-схема: процесс 5"/>
          <p:cNvSpPr/>
          <p:nvPr/>
        </p:nvSpPr>
        <p:spPr>
          <a:xfrm>
            <a:off x="6421320" y="1012680"/>
            <a:ext cx="2421000" cy="725760"/>
          </a:xfrm>
          <a:prstGeom prst="flowChartProcess">
            <a:avLst/>
          </a:prstGeom>
          <a:solidFill>
            <a:srgbClr val="92d05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из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Блок-схема: процесс 12"/>
          <p:cNvSpPr/>
          <p:nvPr/>
        </p:nvSpPr>
        <p:spPr>
          <a:xfrm flipH="1" flipV="1" rot="10800000">
            <a:off x="6247440" y="2348280"/>
            <a:ext cx="2787480" cy="4140360"/>
          </a:xfrm>
          <a:prstGeom prst="flowChartProcess">
            <a:avLst/>
          </a:prstGeom>
          <a:solidFill>
            <a:srgbClr val="92d05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визна опыта заключается в разработке форм, приемов и методов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имулирующих познавательную активность детей дошкольного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зраста через организацию совместной проектной деятельности, что способствует творческому самовыражению воспитан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Стрелка вниз 9"/>
          <p:cNvSpPr/>
          <p:nvPr/>
        </p:nvSpPr>
        <p:spPr>
          <a:xfrm>
            <a:off x="1324080" y="1797120"/>
            <a:ext cx="699840" cy="552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2d05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Стрелка вниз 10"/>
          <p:cNvSpPr/>
          <p:nvPr/>
        </p:nvSpPr>
        <p:spPr>
          <a:xfrm rot="16200000">
            <a:off x="2115360" y="5690520"/>
            <a:ext cx="698400" cy="900000"/>
          </a:xfrm>
          <a:prstGeom prst="downArrow">
            <a:avLst>
              <a:gd name="adj1" fmla="val 50000"/>
              <a:gd name="adj2" fmla="val 59839"/>
            </a:avLst>
          </a:prstGeom>
          <a:solidFill>
            <a:srgbClr val="92d050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Стрелка вниз 11"/>
          <p:cNvSpPr/>
          <p:nvPr/>
        </p:nvSpPr>
        <p:spPr>
          <a:xfrm flipH="1" flipV="1" rot="10800000">
            <a:off x="7308720" y="1772280"/>
            <a:ext cx="712800" cy="5778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2d05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езультативность профессиональной педагогической деятельности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Object 2"/>
          <p:cNvGraphicFramePr/>
          <p:nvPr/>
        </p:nvGraphicFramePr>
        <p:xfrm>
          <a:off x="468360" y="3429000"/>
          <a:ext cx="6118200" cy="32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429000"/>
                    <a:ext cx="6118200" cy="32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Object 3"/>
          <p:cNvGraphicFramePr/>
          <p:nvPr/>
        </p:nvGraphicFramePr>
        <p:xfrm>
          <a:off x="5010120" y="2060640"/>
          <a:ext cx="3903840" cy="263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10120" y="2060640"/>
                    <a:ext cx="3903840" cy="26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Рисунок 4" descr=""/>
          <p:cNvPicPr/>
          <p:nvPr/>
        </p:nvPicPr>
        <p:blipFill>
          <a:blip r:embed="rId5"/>
          <a:stretch/>
        </p:blipFill>
        <p:spPr>
          <a:xfrm>
            <a:off x="1763640" y="1052640"/>
            <a:ext cx="5877000" cy="11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Заголовок 1"/>
          <p:cNvSpPr/>
          <p:nvPr/>
        </p:nvSpPr>
        <p:spPr>
          <a:xfrm>
            <a:off x="457200" y="274680"/>
            <a:ext cx="83628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Транслируемость педагогических достижений профессиональ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25"/>
          <p:cNvSpPr/>
          <p:nvPr/>
        </p:nvSpPr>
        <p:spPr>
          <a:xfrm>
            <a:off x="468360" y="5013360"/>
            <a:ext cx="82072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 организации работы существуют труд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1274"/>
                </a:solidFill>
                <a:latin typeface="Times New Roman"/>
                <a:ea typeface="Times New Roman"/>
              </a:rPr>
              <a:t>Не все дети одинаково могут и умеют самостоятельно заниматься в той среде, которая создается для совместной (со сверстниками и взрослыми) в проектной  деятельности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1274"/>
                </a:solidFill>
                <a:latin typeface="Times New Roman"/>
                <a:ea typeface="Times New Roman"/>
              </a:rPr>
              <a:t>Отстранение родителей от процесса воспитания и развития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971280" y="980640"/>
            <a:ext cx="799452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Область применения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У любого типа и ви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Адресность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едагоги с различным опытом раб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Обмен и передача опыта среди коллег:-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выступления на педсовет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ема: «Метод проектов как средство развития познавательных способностей детей дошкольного возраста в условиях реализации ФГОС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ема: «Развитие познавательной активности дошкольников в проектной деятельност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езентация «Формирование ключевых компетентностей участников образовательных отношений в условиях введения ФГОС ДО посредством проектной деятельност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заседания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Круглого стол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»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ема: « Инновационные подходы в развитии познавательной активности младших дошкольников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езентация « Проектная деятельность в детском саду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Мини-сайт н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Мааам.ру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-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www.maam.ru/users/9047997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ект «Лето в яркие краски одето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cc"/>
                </a:solidFill>
                <a:latin typeface="Bookman Old Style"/>
              </a:rPr>
              <a:t>Взаимодействие с семь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908000" y="1125000"/>
            <a:ext cx="67788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Bookman Old Style"/>
              </a:rPr>
              <a:t>Родительские собра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Bookman Old Style"/>
              </a:rPr>
              <a:t>«</a:t>
            </a:r>
            <a:r>
              <a:rPr b="0" lang="ru-RU" sz="1600" spc="-1" strike="noStrike">
                <a:solidFill>
                  <a:srgbClr val="0000ff"/>
                </a:solidFill>
                <a:latin typeface="Times New Roman"/>
              </a:rPr>
              <a:t>Развитие познавательных способностей у детей дошкольного возраста</a:t>
            </a:r>
            <a:r>
              <a:rPr b="0" lang="ru-RU" sz="1600" spc="-1" strike="noStrike">
                <a:solidFill>
                  <a:srgbClr val="0000ff"/>
                </a:solidFill>
                <a:latin typeface="Bookman Old Style"/>
              </a:rPr>
              <a:t>»</a:t>
            </a:r>
            <a:r>
              <a:rPr b="0" lang="ru-RU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Bookman Old Style"/>
              </a:rPr>
              <a:t>«</a:t>
            </a:r>
            <a:r>
              <a:rPr b="0" lang="ru-RU" sz="1600" spc="-1" strike="noStrike">
                <a:solidFill>
                  <a:srgbClr val="0000ff"/>
                </a:solidFill>
                <a:latin typeface="Times New Roman"/>
              </a:rPr>
              <a:t>Растем играя</a:t>
            </a:r>
            <a:r>
              <a:rPr b="0" lang="ru-RU" sz="1600" spc="-1" strike="noStrike">
                <a:solidFill>
                  <a:srgbClr val="0000ff"/>
                </a:solidFill>
                <a:latin typeface="Bookman Old Style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Bookman Old Style"/>
              </a:rPr>
              <a:t>«</a:t>
            </a:r>
            <a:r>
              <a:rPr b="0" lang="ru-RU" sz="1600" spc="-1" strike="noStrike">
                <a:solidFill>
                  <a:srgbClr val="0000ff"/>
                </a:solidFill>
                <a:latin typeface="Times New Roman"/>
              </a:rPr>
              <a:t>Большие возможности мелкой моторики</a:t>
            </a:r>
            <a:r>
              <a:rPr b="0" lang="ru-RU" sz="1600" spc="-1" strike="noStrike">
                <a:solidFill>
                  <a:srgbClr val="0000ff"/>
                </a:solidFill>
                <a:latin typeface="Bookman Old Style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imes New Roman"/>
              </a:rPr>
              <a:t>«Роль проектной деятельности в развитии познавательной активности дошкольников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Bookman Old Style"/>
              </a:rPr>
              <a:t>Консульт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imes New Roman"/>
              </a:rPr>
              <a:t>«Разработка групповых проектов на основе проекно-иследовательской деятельност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Bookman Old Style"/>
              </a:rPr>
              <a:t>Консультации  с  мультимедийными презентаци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Bookman Old Style"/>
              </a:rPr>
              <a:t>«Игра для </a:t>
            </a:r>
            <a:r>
              <a:rPr b="0" lang="ru-RU" sz="1600" spc="-1" strike="noStrike">
                <a:solidFill>
                  <a:srgbClr val="0000ff"/>
                </a:solidFill>
                <a:latin typeface="Times New Roman"/>
              </a:rPr>
              <a:t>дошкольников</a:t>
            </a:r>
            <a:r>
              <a:rPr b="0" lang="ru-RU" sz="1600" spc="-1" strike="noStrike">
                <a:solidFill>
                  <a:srgbClr val="0000ff"/>
                </a:solidFill>
                <a:latin typeface="Bookman Old Style"/>
              </a:rPr>
              <a:t> – способ познания окружающего мир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Bookman Old Style"/>
              </a:rPr>
              <a:t>«Как выявить способности ребенк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Bookman Old Style"/>
              </a:rPr>
              <a:t>«Развитие познавательной активности детей через игровую деятельность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Bookman Old Style"/>
              </a:rPr>
              <a:t>Игровые практику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Bookman Old Style"/>
              </a:rPr>
              <a:t>«Развитие мелкой моторики рук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Bookman Old Style"/>
              </a:rPr>
              <a:t> </a:t>
            </a:r>
            <a:r>
              <a:rPr b="0" lang="ru-RU" sz="1600" spc="-1" strike="noStrike">
                <a:solidFill>
                  <a:srgbClr val="0000ff"/>
                </a:solidFill>
                <a:latin typeface="Bookman Old Style"/>
              </a:rPr>
              <a:t>«Играем дома с крупой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Литера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571400" y="620280"/>
            <a:ext cx="7429320" cy="60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349"/>
              </a:spcBef>
              <a:buClr>
                <a:srgbClr val="006600"/>
              </a:buClr>
              <a:buSzPct val="55000"/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Деркунская В.А. Проектная деятельность дошкольников. Учебно-методическое пособие. – М.: «Центр педагогического образования», 201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buClr>
                <a:srgbClr val="006600"/>
              </a:buClr>
              <a:buSzPct val="71000"/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Дыбина О. В. Неизведанное рядом: занимательные опыты и эксперименты для дошкольников. – М.: ТЦ «Сфера», 200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buClr>
                <a:srgbClr val="006600"/>
              </a:buClr>
              <a:buSzPct val="71000"/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Захарова М.А. Проектная деятельность в детском саду: родители и дети. – М.: «Школьная пресса», 2010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buClr>
                <a:srgbClr val="006600"/>
              </a:buClr>
              <a:buSzPct val="71000"/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ванова А. И. Естественнонаучные наблюдения и эксперименты в детском саду. Растения. – М.: ТЦ «Сфера», 200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buClr>
                <a:srgbClr val="006600"/>
              </a:buClr>
              <a:buSzPct val="71000"/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оектный метод в деятельности дошкольного учреждения / Л.С. Киселёва, Т.А. Данилина, Т.С. Лагода. - М.: «АРКТИ», 200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buClr>
                <a:srgbClr val="006600"/>
              </a:buClr>
              <a:buSzPct val="71000"/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убцов В.В., Юдина Е.Г. Современные проблемы дошкольного образования // Психологическая наука и образование. 2010. №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buClr>
                <a:srgbClr val="006600"/>
              </a:buClr>
              <a:buSzPct val="71000"/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ыжова Н. А. Волшебница – вода /Текст/ Н. А. Рыжова. – М.: «Линка-Пресс», 1997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buClr>
                <a:srgbClr val="006600"/>
              </a:buClr>
              <a:buSzPct val="71000"/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Масленникова О.М, Филиппенко А.А. Экологические проекты в детском саду/ - Волгоград: «Учитель», 201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buClr>
                <a:srgbClr val="006600"/>
              </a:buClr>
              <a:buSzPct val="71000"/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Евдокимова Е.С. Технология проектирования в ДОУ.-М.: ТЦ «Сфера»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50000"/>
              </a:lnSpc>
              <a:spcBef>
                <a:spcPts val="799"/>
              </a:spcBef>
              <a:buClr>
                <a:srgbClr val="006600"/>
              </a:buClr>
              <a:buSzPct val="71000"/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бразовательные проекты в детском саду. Пособие для воспитателей/Н.А.Виноградова,Е.П. Панкова.-М.:Айриспресс,2008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just">
              <a:lnSpc>
                <a:spcPct val="100000"/>
              </a:lnSpc>
              <a:spcBef>
                <a:spcPts val="349"/>
              </a:spcBef>
              <a:buClr>
                <a:srgbClr val="0099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9900"/>
                </a:solidFill>
                <a:uFillTx/>
                <a:latin typeface="Times New Roman"/>
                <a:ea typeface="Times New Roman"/>
              </a:rPr>
              <a:t>Интернет-ресурс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just">
              <a:lnSpc>
                <a:spcPct val="100000"/>
              </a:lnSpc>
              <a:spcBef>
                <a:spcPts val="349"/>
              </a:spcBef>
              <a:buClr>
                <a:srgbClr val="009900"/>
              </a:buClr>
              <a:buSzPct val="95000"/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Сайт  «Дошкольник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just">
              <a:lnSpc>
                <a:spcPct val="100000"/>
              </a:lnSpc>
              <a:spcBef>
                <a:spcPts val="349"/>
              </a:spcBef>
              <a:buClr>
                <a:srgbClr val="009900"/>
              </a:buClr>
              <a:buSzPct val="95000"/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Сайт МААМ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just">
              <a:lnSpc>
                <a:spcPct val="100000"/>
              </a:lnSpc>
              <a:spcBef>
                <a:spcPts val="349"/>
              </a:spcBef>
              <a:buClr>
                <a:srgbClr val="009900"/>
              </a:buClr>
              <a:buSzPct val="95000"/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Портал «Солнышко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just">
              <a:lnSpc>
                <a:spcPct val="100000"/>
              </a:lnSpc>
              <a:spcBef>
                <a:spcPts val="349"/>
              </a:spcBef>
              <a:buClr>
                <a:srgbClr val="009900"/>
              </a:buClr>
              <a:buSzPct val="95000"/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«До и после трех»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just">
              <a:lnSpc>
                <a:spcPct val="100000"/>
              </a:lnSpc>
              <a:spcBef>
                <a:spcPts val="349"/>
              </a:spcBef>
              <a:buClr>
                <a:srgbClr val="009900"/>
              </a:buClr>
              <a:buSzPct val="95000"/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Детский информационный порта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1"/>
          <p:cNvSpPr/>
          <p:nvPr/>
        </p:nvSpPr>
        <p:spPr>
          <a:xfrm>
            <a:off x="2745360" y="457200"/>
            <a:ext cx="592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ект совместной деятельности: «Я и моя семь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тельная область: Познавательное 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ость: Патриотическое воспит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3"/>
          <p:cNvSpPr/>
          <p:nvPr/>
        </p:nvSpPr>
        <p:spPr>
          <a:xfrm>
            <a:off x="762120" y="2438280"/>
            <a:ext cx="7912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а: </a:t>
            </a:r>
            <a:r>
              <a:rPr b="1" lang="ru-RU" sz="2800" spc="-1" strike="noStrike">
                <a:solidFill>
                  <a:srgbClr val="009900"/>
                </a:solidFill>
                <a:latin typeface="Times New Roman"/>
              </a:rPr>
              <a:t>«Развитие познавательной активности детей младшего дошкольного возрас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Times New Roman"/>
              </a:rPr>
              <a:t>через совместную проектную деятельность взрослых и дете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4704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Условия формирования личного вклада воспитателя </a:t>
            </a:r>
            <a:br>
              <a:rPr sz="2400"/>
            </a:br>
            <a:r>
              <a:rPr b="1" lang="ru-RU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в развитие дошкольного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50920" y="980640"/>
            <a:ext cx="8712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: скругленные углы 5"/>
          <p:cNvSpPr/>
          <p:nvPr/>
        </p:nvSpPr>
        <p:spPr>
          <a:xfrm>
            <a:off x="237960" y="1373040"/>
            <a:ext cx="2470320" cy="114624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учно-исследовательск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: скругленные углы 9"/>
          <p:cNvSpPr/>
          <p:nvPr/>
        </p:nvSpPr>
        <p:spPr>
          <a:xfrm>
            <a:off x="3271680" y="1314360"/>
            <a:ext cx="2600640" cy="57492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тод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: скругленные углы 10"/>
          <p:cNvSpPr/>
          <p:nvPr/>
        </p:nvSpPr>
        <p:spPr>
          <a:xfrm>
            <a:off x="6227640" y="1268280"/>
            <a:ext cx="2735280" cy="648000"/>
          </a:xfrm>
          <a:prstGeom prst="roundRect">
            <a:avLst>
              <a:gd name="adj" fmla="val 16667"/>
            </a:avLst>
          </a:prstGeom>
          <a:solidFill>
            <a:srgbClr val="9c9cdf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о-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: скругленные углы 11"/>
          <p:cNvSpPr/>
          <p:nvPr/>
        </p:nvSpPr>
        <p:spPr>
          <a:xfrm>
            <a:off x="73080" y="2909880"/>
            <a:ext cx="2876400" cy="210348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работ   психологов и педагогов  Л.С. Выготского, Б.Г. Ананьева, ЩукинаМ.Ф. Беляева. Г.И. по исследованию проблем повышения познавательной активности дошкольник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: скругленные углы 12"/>
          <p:cNvSpPr/>
          <p:nvPr/>
        </p:nvSpPr>
        <p:spPr>
          <a:xfrm>
            <a:off x="3419640" y="2492280"/>
            <a:ext cx="2881080" cy="85896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64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Е.С. Евдокимова «Технология проектирования в ДОУ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: скругленные углы 13"/>
          <p:cNvSpPr/>
          <p:nvPr/>
        </p:nvSpPr>
        <p:spPr>
          <a:xfrm>
            <a:off x="6443640" y="2349360"/>
            <a:ext cx="2521080" cy="792360"/>
          </a:xfrm>
          <a:prstGeom prst="roundRect">
            <a:avLst>
              <a:gd name="adj" fmla="val 16667"/>
            </a:avLst>
          </a:prstGeom>
          <a:solidFill>
            <a:srgbClr val="9c9cdf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бмен опытом с коллегами ДО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: скругленные углы 15"/>
          <p:cNvSpPr/>
          <p:nvPr/>
        </p:nvSpPr>
        <p:spPr>
          <a:xfrm>
            <a:off x="6516720" y="3213000"/>
            <a:ext cx="2303280" cy="1224000"/>
          </a:xfrm>
          <a:prstGeom prst="roundRect">
            <a:avLst>
              <a:gd name="adj" fmla="val 16667"/>
            </a:avLst>
          </a:prstGeom>
          <a:solidFill>
            <a:srgbClr val="9c9cdf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Обмен опытом в профессиональных педагогических сетев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ообществ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: скругленные углы 16"/>
          <p:cNvSpPr/>
          <p:nvPr/>
        </p:nvSpPr>
        <p:spPr>
          <a:xfrm>
            <a:off x="3419640" y="3500280"/>
            <a:ext cx="2738160" cy="151308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. А. Виноградова, 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 Панков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ые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ы  в детском саду»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: скругленные углы 17"/>
          <p:cNvSpPr/>
          <p:nvPr/>
        </p:nvSpPr>
        <p:spPr>
          <a:xfrm>
            <a:off x="266760" y="5067360"/>
            <a:ext cx="2795400" cy="157464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зучение работ Е.Г. Кагарова, М.В. Крупениной, Н.Е. Веракса – в чьих идеях нашел свое отражение «Метод проектов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: скругленные углы 22"/>
          <p:cNvSpPr/>
          <p:nvPr/>
        </p:nvSpPr>
        <p:spPr>
          <a:xfrm>
            <a:off x="3276720" y="5157720"/>
            <a:ext cx="3165480" cy="148428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арова М.А. Проектная деятельность в детском саду: родители и де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3"/>
          <p:cNvSpPr/>
          <p:nvPr/>
        </p:nvSpPr>
        <p:spPr>
          <a:xfrm>
            <a:off x="3635280" y="5732640"/>
            <a:ext cx="185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26"/>
          <p:cNvSpPr/>
          <p:nvPr/>
        </p:nvSpPr>
        <p:spPr>
          <a:xfrm>
            <a:off x="3851280" y="5734080"/>
            <a:ext cx="966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27"/>
          <p:cNvSpPr/>
          <p:nvPr/>
        </p:nvSpPr>
        <p:spPr>
          <a:xfrm>
            <a:off x="3564000" y="602136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Стрелка: вниз 1"/>
          <p:cNvSpPr/>
          <p:nvPr/>
        </p:nvSpPr>
        <p:spPr>
          <a:xfrm>
            <a:off x="1230480" y="2435400"/>
            <a:ext cx="485640" cy="547560"/>
          </a:xfrm>
          <a:prstGeom prst="downArrow">
            <a:avLst>
              <a:gd name="adj1" fmla="val 50000"/>
              <a:gd name="adj2" fmla="val 50001"/>
            </a:avLst>
          </a:prstGeom>
          <a:solidFill>
            <a:srgbClr val="0099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Стрелка: вниз 2"/>
          <p:cNvSpPr/>
          <p:nvPr/>
        </p:nvSpPr>
        <p:spPr>
          <a:xfrm>
            <a:off x="4411800" y="1927080"/>
            <a:ext cx="484200" cy="527040"/>
          </a:xfrm>
          <a:prstGeom prst="downArrow">
            <a:avLst>
              <a:gd name="adj1" fmla="val 50000"/>
              <a:gd name="adj2" fmla="val 49999"/>
            </a:avLst>
          </a:prstGeom>
          <a:solidFill>
            <a:srgbClr val="0099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Стрелка: вниз 3"/>
          <p:cNvSpPr/>
          <p:nvPr/>
        </p:nvSpPr>
        <p:spPr>
          <a:xfrm>
            <a:off x="7353360" y="1889280"/>
            <a:ext cx="484200" cy="560160"/>
          </a:xfrm>
          <a:prstGeom prst="downArrow">
            <a:avLst>
              <a:gd name="adj1" fmla="val 50000"/>
              <a:gd name="adj2" fmla="val 49976"/>
            </a:avLst>
          </a:prstGeom>
          <a:solidFill>
            <a:srgbClr val="0099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: скругленные углы 10"/>
          <p:cNvSpPr/>
          <p:nvPr/>
        </p:nvSpPr>
        <p:spPr>
          <a:xfrm>
            <a:off x="6443640" y="4462560"/>
            <a:ext cx="2519280" cy="718920"/>
          </a:xfrm>
          <a:prstGeom prst="roundRect">
            <a:avLst>
              <a:gd name="adj" fmla="val 16667"/>
            </a:avLst>
          </a:prstGeom>
          <a:solidFill>
            <a:srgbClr val="9c9cdf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действие с родител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: скругленные углы 10"/>
          <p:cNvSpPr/>
          <p:nvPr/>
        </p:nvSpPr>
        <p:spPr>
          <a:xfrm>
            <a:off x="6494400" y="5227560"/>
            <a:ext cx="2521080" cy="1368360"/>
          </a:xfrm>
          <a:prstGeom prst="roundRect">
            <a:avLst>
              <a:gd name="adj" fmla="val 16667"/>
            </a:avLst>
          </a:prstGeom>
          <a:solidFill>
            <a:srgbClr val="9c9cdf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в вебинаре «Технология организации проектной деятельности в соответствии с ФГОС ДО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Актуальность личного вклада воспитателя </a:t>
            </a:r>
            <a:br>
              <a:rPr sz="2400"/>
            </a:b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в развитие дошкольного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42560" y="1341360"/>
            <a:ext cx="7861320" cy="16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связи с введением в действие Федерального государственного образовательного стандарта дошкольного образования (ФГОС), возникла необходимость обновления и повышения качества дошкольного образования, введения программно-методического обеспечения дошкольного образования нового поколения, направленного на выявление и развитие творческих и познавательных способностей детей, а так же выравнивание стартовых возможностей выпускников дошкольных образовательных учреждений при переходе на новый возрастной этап систематического обучения в школ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1979280" y="3644640"/>
            <a:ext cx="698508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Предпосылками использования метода проектной деятельности явилис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b2b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b2b63"/>
                </a:solidFill>
                <a:latin typeface="Times New Roman"/>
              </a:rPr>
              <a:t>- </a:t>
            </a:r>
            <a:r>
              <a:rPr b="0" lang="ru-RU" sz="1800" spc="-1" strike="noStrike">
                <a:solidFill>
                  <a:srgbClr val="009900"/>
                </a:solidFill>
                <a:latin typeface="Times New Roman"/>
              </a:rPr>
              <a:t>видоизменение и совершенствование развивающей среды в соответствии с требованиями   ФГОС Д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Times New Roman"/>
              </a:rPr>
              <a:t>-использование инновационных технологий в образовательной работ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Times New Roman"/>
              </a:rPr>
              <a:t>-адекватное вовлечение семей в воспитательно-образовательный процесс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Times New Roman"/>
              </a:rPr>
              <a:t>-многофункциональное взаимодействие с социум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Теоретическое обоснование личного вклада воспитателя в развитие дошкольного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324000" y="1197000"/>
            <a:ext cx="237636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оджер Лев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366840" y="2505240"/>
            <a:ext cx="237636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. Килпатр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289080" y="3976560"/>
            <a:ext cx="237636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.Е.Верак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9"/>
          <p:cNvSpPr/>
          <p:nvPr/>
        </p:nvSpPr>
        <p:spPr>
          <a:xfrm>
            <a:off x="4438800" y="3390840"/>
            <a:ext cx="4535280" cy="180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дна из главных задач педагога пр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и проектной деятельно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ошкольников заключается в то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чтобы поддерживать детскую инициатив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нициатива ребенка  обязательно включа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 себя познавательный компонен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0"/>
          <p:cNvSpPr/>
          <p:nvPr/>
        </p:nvSpPr>
        <p:spPr>
          <a:xfrm>
            <a:off x="4284720" y="2492280"/>
            <a:ext cx="4859280" cy="700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«Проект – есть всякое действие, совершаемо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т всего сердца и с определенной целью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1"/>
          <p:cNvSpPr/>
          <p:nvPr/>
        </p:nvSpPr>
        <p:spPr>
          <a:xfrm>
            <a:off x="4500720" y="1125360"/>
            <a:ext cx="4535280" cy="9860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" Мы слишком часто даем детям ответы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которые надо выучить, а не ставим пере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ими проблемы,  которые надо решить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12"/>
          <p:cNvSpPr/>
          <p:nvPr/>
        </p:nvSpPr>
        <p:spPr>
          <a:xfrm>
            <a:off x="762120" y="5057640"/>
            <a:ext cx="6906960" cy="1611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роектная деятельность в ДОУ – это прежде все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отрудничество, в которое вовлекаются де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едагоги и родите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5940360" y="4149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9"/>
          <p:cNvSpPr/>
          <p:nvPr/>
        </p:nvSpPr>
        <p:spPr>
          <a:xfrm>
            <a:off x="5580000" y="4005360"/>
            <a:ext cx="2252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20"/>
          <p:cNvSpPr/>
          <p:nvPr/>
        </p:nvSpPr>
        <p:spPr>
          <a:xfrm>
            <a:off x="2808360" y="1349280"/>
            <a:ext cx="1512720" cy="486000"/>
          </a:xfrm>
          <a:prstGeom prst="rightArrow">
            <a:avLst>
              <a:gd name="adj1" fmla="val 50000"/>
              <a:gd name="adj2" fmla="val 77815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21"/>
          <p:cNvSpPr/>
          <p:nvPr/>
        </p:nvSpPr>
        <p:spPr>
          <a:xfrm>
            <a:off x="2771640" y="2708280"/>
            <a:ext cx="1441440" cy="485640"/>
          </a:xfrm>
          <a:prstGeom prst="rightArrow">
            <a:avLst>
              <a:gd name="adj1" fmla="val 50000"/>
              <a:gd name="adj2" fmla="val 74203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22"/>
          <p:cNvSpPr/>
          <p:nvPr/>
        </p:nvSpPr>
        <p:spPr>
          <a:xfrm>
            <a:off x="2808360" y="4089240"/>
            <a:ext cx="1441440" cy="486000"/>
          </a:xfrm>
          <a:prstGeom prst="rightArrow">
            <a:avLst>
              <a:gd name="adj1" fmla="val 50000"/>
              <a:gd name="adj2" fmla="val 74148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Рисунок 1" descr=""/>
          <p:cNvPicPr/>
          <p:nvPr/>
        </p:nvPicPr>
        <p:blipFill>
          <a:blip r:embed="rId1"/>
          <a:stretch/>
        </p:blipFill>
        <p:spPr>
          <a:xfrm>
            <a:off x="1273320" y="0"/>
            <a:ext cx="787068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imes New Roman"/>
              </a:rPr>
              <a:t>Цель и задачи </a:t>
            </a:r>
            <a:br>
              <a:rPr sz="3600"/>
            </a:br>
            <a:r>
              <a:rPr b="1" lang="ru-RU" sz="3600" spc="-1" strike="noStrike">
                <a:solidFill>
                  <a:srgbClr val="006600"/>
                </a:solidFill>
                <a:latin typeface="Times New Roman"/>
              </a:rPr>
              <a:t>педагогической деятель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564000" y="1815840"/>
            <a:ext cx="5294160" cy="44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Пробуждать интерес к предлагаемой деятельности, способствовать  вхождению детей в проблемную игровую ситуацию (ведущая роль педагога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Приобщать детей к процессу познания, активизация желания искать пути разрешения проблемной ситуации (вместе с педагогом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Формировать начальных предпосылок поисковой деятельности (практические опыты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Побуждать детей к проявлению личной инициатив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Развивать любознательность, наблюдательность, мышление, внимание, реч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Повысить компетентность родителей в развитии познавательной  активности дошкольников средствами проектной деятельно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Свиток: вертикальный 1"/>
          <p:cNvSpPr/>
          <p:nvPr/>
        </p:nvSpPr>
        <p:spPr>
          <a:xfrm>
            <a:off x="324000" y="1628640"/>
            <a:ext cx="2962080" cy="4015080"/>
          </a:xfrm>
          <a:prstGeom prst="verticalScroll">
            <a:avLst>
              <a:gd name="adj" fmla="val 12500"/>
            </a:avLst>
          </a:prstGeom>
          <a:solidFill>
            <a:srgbClr val="d1d1f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Times New Roman"/>
                <a:ea typeface="Arial"/>
              </a:rPr>
              <a:t>Повышение уровня познавательной активности младших дошкольников через   совместную проектную деятельность детей, педагогов и роди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"/>
          <p:cNvSpPr/>
          <p:nvPr/>
        </p:nvSpPr>
        <p:spPr>
          <a:xfrm>
            <a:off x="1187280" y="158580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6600"/>
                </a:solidFill>
                <a:uFillTx/>
                <a:latin typeface="Times New Roman"/>
                <a:ea typeface="Arial"/>
              </a:rPr>
              <a:t>ЦЕЛ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6172200" y="675648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едущая педагогическая иде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643040" y="1357200"/>
            <a:ext cx="7115040" cy="28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b6bcf"/>
                </a:solidFill>
                <a:latin typeface="Times New Roman"/>
                <a:ea typeface="Times New Roman"/>
              </a:rPr>
              <a:t>Система работы по формированию познавательной активности дошкольников через совместную проектную деятельность взрослых и детей – это эффективный инструмент для развития познавательной активности дошкольников. Он способствует развитию свободной творческой личности, которая соответствует социальному заказу на современном этапе и делает образовательный процесс открытым для активного участия род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28560" y="115560"/>
            <a:ext cx="715788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«Деятельностный аспект личного вклада педагога в развитие образова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3"/>
          <p:cNvSpPr/>
          <p:nvPr/>
        </p:nvSpPr>
        <p:spPr>
          <a:xfrm>
            <a:off x="1746360" y="1182600"/>
            <a:ext cx="6835680" cy="4590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Этапы в развитии проектной деятельности у дет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6"/>
          <p:cNvSpPr/>
          <p:nvPr/>
        </p:nvSpPr>
        <p:spPr>
          <a:xfrm>
            <a:off x="1746360" y="5516640"/>
            <a:ext cx="6421320" cy="792000"/>
          </a:xfrm>
          <a:prstGeom prst="rect">
            <a:avLst/>
          </a:prstGeom>
          <a:solidFill>
            <a:srgbClr val="a3a3e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Третий этап – творческий, он характерен для детей 6–7 л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9"/>
          <p:cNvSpPr/>
          <p:nvPr/>
        </p:nvSpPr>
        <p:spPr>
          <a:xfrm>
            <a:off x="1528920" y="4365720"/>
            <a:ext cx="6840360" cy="792000"/>
          </a:xfrm>
          <a:prstGeom prst="rect">
            <a:avLst/>
          </a:prstGeom>
          <a:solidFill>
            <a:srgbClr val="92d05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Второй этап – развивающий, он характерен для детей 5–6 л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7"/>
          <p:cNvSpPr/>
          <p:nvPr/>
        </p:nvSpPr>
        <p:spPr>
          <a:xfrm>
            <a:off x="1407960" y="1773360"/>
            <a:ext cx="7174080" cy="2447640"/>
          </a:xfrm>
          <a:prstGeom prst="rect">
            <a:avLst/>
          </a:prstGeom>
          <a:solidFill>
            <a:srgbClr val="ff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2"/>
          <p:cNvSpPr/>
          <p:nvPr/>
        </p:nvSpPr>
        <p:spPr>
          <a:xfrm>
            <a:off x="1407960" y="1844640"/>
            <a:ext cx="7174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й этап – подражательско-исполнительский, реализ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ого возможна с детьми 3,5–5 лет. На этом этапе дети участвуют в проекте «на вторых ролях», выполняют действия по прямому предложению взрослого или путём подражания ему, что не противоречит природе маленького ребёнка; в этом возрас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щё существует потребность установить и сохрани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ительное отношение к взрослому и подражать е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Владимир</cp:lastModifiedBy>
  <dcterms:modified xsi:type="dcterms:W3CDTF">2019-02-27T08:04:51Z</dcterms:modified>
  <cp:revision>53</cp:revision>
  <dc:subject>биология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