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41D-CBA0-49B4-874C-E234E4ED9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709A-E212-48A7-AE4B-B5A771CA00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C8E-DA3D-402E-BEE0-7D1A693CE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3E26-BE9B-4A57-AFFB-16C214B6DC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DB85-A662-471F-B7EE-844E6B477D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3FE1-CFBB-44A0-831C-9D5751C108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77EB-88C9-4D3C-87FD-AAD4180BF8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B7F9-8D2C-4C91-B371-2C912947A8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CB4-FFBA-48DE-B45B-0FBE8C59B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EEF-B2E8-49D6-A984-179C2EA51D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F1DD-6958-49A5-B202-AC842C48F1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CC8-AD98-46DE-A31C-A75DBA954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D79-F426-4F05-8B1A-2ABE45CACF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467F-03E0-4604-92DB-6CFF05FEA2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B2A-1A97-4F51-A2DC-81FAEAA57E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89DE-6BAF-4662-8D44-EF56720B20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59C9-AC35-4D64-AFD5-8C0844E866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CCB-2D1B-4F3F-8E27-6C4847B74C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AD4F-4BFC-4C33-99A5-28F983D88F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532-0A3C-4B93-9557-AD94553F37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F4F9-DD3B-44C6-AFC5-9E4C9B59FA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611D-4963-42EF-9FA3-FEB7887171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788-48ED-4400-96C2-5F2256E9E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B617-C411-4C22-BA4C-B2EAF6C646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9B9-53BE-4A62-B333-CA741D347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AA5-A77B-48A4-ADCF-CC416D807E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396-6CB7-4007-9ED4-182F4A4248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163-8CD7-4381-8DA2-55A2598A7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6DAC-6BD5-4EFE-8E28-81B9D6D549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90E-AFBE-4BD8-BB34-506C023E25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D70-FEB7-4A9E-A4EA-975F4C65CD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BDD-2050-43C1-B27A-7FB5C30BBD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32B-63C9-4650-A893-CB830542B7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A8E7-63F9-4CE3-BDAE-90F664FA5E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27A-658E-423A-A891-3C566025B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BF2-C77F-453F-8B19-3C40435DC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1D4E-B470-4A74-BDE4-85B3207C3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542E-56F0-4591-B862-82EA2A72E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B56-E168-47F8-97F2-5C246847A3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525-B4A1-42EC-8590-665A66AE3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717-58AF-4DEA-91D2-8D52C2472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D651-F5A9-4308-8EA2-120BEEB8E5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6866-1527-489C-A776-ADCD30006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D39-44B7-4F1F-AE94-F8ACF7B134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CCD8-8343-4793-8689-EAB055CF02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7323-6F7D-4AC5-86CD-CD6176CC75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6BA-5260-4A75-A14E-486185F9E7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359-5F7A-4F15-B99D-EA9B5DD5D9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4D4-6539-42C9-AD83-CDCE3EBE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084-882A-4D4F-A1FC-EFE6FFD8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28E-31EA-4788-B543-88AA2850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A03-7564-4EBF-A083-E4DBBA0F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439-F623-4E90-ADBF-398AE0A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125-5728-4C9F-8774-41338F9F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F76-EB82-46A5-AB27-A778EBA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C3E-0EB4-4A89-88C6-E76F5DC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770-F3FC-4E43-9F0C-5F68829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7B7-AAD5-42DD-9F2A-AF93255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F4B-F7B6-4493-8E28-AF4FFEF2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26B-7D34-4FF7-AE98-D2CF3EE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9BF-1CDA-472E-BBDA-EDB48D9DD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2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wmf"/><Relationship Id="rId4" Type="http://schemas.openxmlformats.org/officeDocument/2006/relationships/slide" Target="slide2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4.xml"/><Relationship Id="rId4" Type="http://schemas.openxmlformats.org/officeDocument/2006/relationships/slide" Target="slide27.xml"/><Relationship Id="rId5" Type="http://schemas.openxmlformats.org/officeDocument/2006/relationships/slide" Target="slide31.xml"/><Relationship Id="rId6" Type="http://schemas.openxmlformats.org/officeDocument/2006/relationships/slide" Target="slide4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" Target="slide19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" Target="slide19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" Target="slide19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" Target="slide19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19.xml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" Target="slide19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" Target="slide19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" Target="slide19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" Target="slide19.xml"/><Relationship Id="rId5" Type="http://schemas.openxmlformats.org/officeDocument/2006/relationships/hyperlink" Target="http://rutube.ru/tracks/2427354.html?v=6e6868d81a53f149c65b89bb268063e5" TargetMode="External"/><Relationship Id="rId6" Type="http://schemas.openxmlformats.org/officeDocument/2006/relationships/hyperlink" Target="http://rutube.ru/tracks/2427344.html?v=2320c6be518f1b9e1691111e9ae4c3e1" TargetMode="Externa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" Target="slide19.xml"/><Relationship Id="rId5" Type="http://schemas.openxmlformats.org/officeDocument/2006/relationships/hyperlink" Target="http://rutube.ru/tracks/2427324.html?v=824de778698a5b7fc2a201c369f9677e" TargetMode="External"/><Relationship Id="rId6" Type="http://schemas.openxmlformats.org/officeDocument/2006/relationships/hyperlink" Target="http://rutube.ru/tracks/2427302.html" TargetMode="External"/><Relationship Id="rId7" Type="http://schemas.openxmlformats.org/officeDocument/2006/relationships/slide" Target="slide3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" Target="slide19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40.xml"/><Relationship Id="rId4" Type="http://schemas.openxmlformats.org/officeDocument/2006/relationships/slide" Target="slide19.xml"/><Relationship Id="rId5" Type="http://schemas.openxmlformats.org/officeDocument/2006/relationships/slide" Target="slide4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62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М.Ю. Лермонт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2060640"/>
            <a:ext cx="261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Гер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194560" y="2925720"/>
            <a:ext cx="317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ашег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81400" y="407664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ремени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lermontov_23"/>
          <p:cNvPicPr/>
          <p:nvPr/>
        </p:nvPicPr>
        <p:blipFill>
          <a:blip r:embed="rId2"/>
          <a:stretch/>
        </p:blipFill>
        <p:spPr>
          <a:xfrm>
            <a:off x="0" y="3691080"/>
            <a:ext cx="2711520" cy="3166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лемика вокруг рома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1217520"/>
            <a:ext cx="889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ла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отвратительный» ро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ранительная кри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т ничего русского, «порочный» герой списан автором у западноевропейских роман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ервативная кри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левета на русскую действитель-ность, «весь роман – эпиграм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Кюхельбек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…все-таки жаль, что Лермонтов истратил свой талант на изображение такого существа, как его гадкий Печори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Г. Белин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богатство содержания», «глубокое знание человеческого сердца и современного обще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И. Лев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может считаться «первым подлинно художественным положительным героем в русском реалисти-ческом роман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>
            <a:hlinkClick r:id="rId2" action="ppaction://hlinksldjump"/>
          </p:cNvPr>
          <p:cNvSpPr/>
          <p:nvPr/>
        </p:nvSpPr>
        <p:spPr>
          <a:xfrm>
            <a:off x="468360" y="119700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1">
            <a:hlinkClick r:id="rId3" action="ppaction://hlinksldjump"/>
          </p:cNvPr>
          <p:cNvSpPr/>
          <p:nvPr/>
        </p:nvSpPr>
        <p:spPr>
          <a:xfrm>
            <a:off x="8317080" y="6562800"/>
            <a:ext cx="720720" cy="250920"/>
          </a:xfrm>
          <a:custGeom>
            <a:avLst/>
            <a:gdLst>
              <a:gd name="textAreaLeft" fmla="*/ 16200 w 720720"/>
              <a:gd name="textAreaRight" fmla="*/ 704520 w 72072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61984" h="21600">
                <a:moveTo>
                  <a:pt x="0" y="0"/>
                </a:moveTo>
                <a:lnTo>
                  <a:pt x="61984" y="0"/>
                </a:lnTo>
                <a:lnTo>
                  <a:pt x="61984" y="21600"/>
                </a:lnTo>
                <a:lnTo>
                  <a:pt x="0" y="21600"/>
                </a:lnTo>
                <a:close/>
              </a:path>
              <a:path fill="lightenLess" w="61984" h="21600">
                <a:moveTo>
                  <a:pt x="0" y="0"/>
                </a:moveTo>
                <a:lnTo>
                  <a:pt x="61984" y="0"/>
                </a:lnTo>
                <a:lnTo>
                  <a:pt x="60584" y="1400"/>
                </a:lnTo>
                <a:lnTo>
                  <a:pt x="1400" y="1400"/>
                </a:lnTo>
                <a:close/>
              </a:path>
              <a:path fill="darken" w="61984" h="21600">
                <a:moveTo>
                  <a:pt x="61984" y="0"/>
                </a:moveTo>
                <a:lnTo>
                  <a:pt x="61984" y="21600"/>
                </a:lnTo>
                <a:lnTo>
                  <a:pt x="60584" y="20200"/>
                </a:lnTo>
                <a:lnTo>
                  <a:pt x="60584" y="1400"/>
                </a:lnTo>
                <a:close/>
              </a:path>
              <a:path fill="darkenLess" w="61984" h="21600">
                <a:moveTo>
                  <a:pt x="61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84" y="20200"/>
                </a:lnTo>
                <a:close/>
              </a:path>
              <a:path fill="lighten" w="61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984" h="21600">
                <a:moveTo>
                  <a:pt x="23985" y="3794"/>
                </a:moveTo>
                <a:lnTo>
                  <a:pt x="37998" y="10800"/>
                </a:lnTo>
                <a:lnTo>
                  <a:pt x="23985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2">
            <a:hlinkClick r:id="rId4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nikolay1"/>
          <p:cNvPicPr/>
          <p:nvPr/>
        </p:nvPicPr>
        <p:blipFill>
          <a:blip r:embed="rId2"/>
          <a:stretch/>
        </p:blipFill>
        <p:spPr>
          <a:xfrm>
            <a:off x="250920" y="404640"/>
            <a:ext cx="4248000" cy="5477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653000" y="1406520"/>
            <a:ext cx="44478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 книга  испытала на себ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ще недавно несчастную дове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вость некоторых читателе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же  журналов  к  букваль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ю  слов.   Иные  ужас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иделись, и  не  шутя,  что  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вят в пример такого безнрав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венного  человека,  как 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его Времени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>
            <a:hlinkClick r:id="rId3" action="ppaction://hlinksldjump"/>
          </p:cNvPr>
          <p:cNvSpPr/>
          <p:nvPr/>
        </p:nvSpPr>
        <p:spPr>
          <a:xfrm rot="16200000">
            <a:off x="286560" y="6345720"/>
            <a:ext cx="289080" cy="6462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46200"/>
              <a:gd name="textAreaBottom" fmla="*/ 627480 h 646200"/>
            </a:gdLst>
            <a:ahLst/>
            <a:rect l="textAreaLeft" t="textAreaTop" r="textAreaRight" b="textAreaBottom"/>
            <a:pathLst>
              <a:path w="21600" h="48251">
                <a:moveTo>
                  <a:pt x="0" y="0"/>
                </a:moveTo>
                <a:lnTo>
                  <a:pt x="21600" y="0"/>
                </a:lnTo>
                <a:lnTo>
                  <a:pt x="21600" y="48251"/>
                </a:lnTo>
                <a:lnTo>
                  <a:pt x="0" y="48251"/>
                </a:lnTo>
                <a:close/>
              </a:path>
              <a:path fill="lightenLess" w="21600" h="48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251">
                <a:moveTo>
                  <a:pt x="21600" y="0"/>
                </a:moveTo>
                <a:lnTo>
                  <a:pt x="21600" y="48251"/>
                </a:lnTo>
                <a:lnTo>
                  <a:pt x="20200" y="46851"/>
                </a:lnTo>
                <a:lnTo>
                  <a:pt x="20200" y="1400"/>
                </a:lnTo>
                <a:close/>
              </a:path>
              <a:path fill="darkenLess" w="21600" h="48251">
                <a:moveTo>
                  <a:pt x="21600" y="48251"/>
                </a:moveTo>
                <a:lnTo>
                  <a:pt x="0" y="48251"/>
                </a:lnTo>
                <a:lnTo>
                  <a:pt x="1400" y="46851"/>
                </a:lnTo>
                <a:lnTo>
                  <a:pt x="20200" y="46851"/>
                </a:lnTo>
                <a:close/>
              </a:path>
              <a:path fill="lighten" w="21600" h="48251">
                <a:moveTo>
                  <a:pt x="0" y="48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46851"/>
                </a:lnTo>
                <a:close/>
              </a:path>
              <a:path fill="darken" w="21600" h="48251">
                <a:moveTo>
                  <a:pt x="3794" y="20818"/>
                </a:moveTo>
                <a:lnTo>
                  <a:pt x="7301" y="20818"/>
                </a:lnTo>
                <a:lnTo>
                  <a:pt x="7301" y="26153"/>
                </a:lnTo>
                <a:cubicBezTo>
                  <a:pt x="7301" y="27076"/>
                  <a:pt x="8102" y="27807"/>
                  <a:pt x="9138" y="27807"/>
                </a:cubicBezTo>
                <a:lnTo>
                  <a:pt x="10800" y="27807"/>
                </a:lnTo>
                <a:cubicBezTo>
                  <a:pt x="11836" y="27807"/>
                  <a:pt x="12636" y="27076"/>
                  <a:pt x="12636" y="26153"/>
                </a:cubicBezTo>
                <a:lnTo>
                  <a:pt x="12636" y="20818"/>
                </a:lnTo>
                <a:lnTo>
                  <a:pt x="10800" y="20818"/>
                </a:lnTo>
                <a:lnTo>
                  <a:pt x="14308" y="17310"/>
                </a:lnTo>
                <a:lnTo>
                  <a:pt x="17981" y="20818"/>
                </a:lnTo>
                <a:lnTo>
                  <a:pt x="16144" y="20818"/>
                </a:lnTo>
                <a:lnTo>
                  <a:pt x="16144" y="26153"/>
                </a:lnTo>
                <a:cubicBezTo>
                  <a:pt x="16144" y="28921"/>
                  <a:pt x="13568" y="31480"/>
                  <a:pt x="10800" y="31480"/>
                </a:cubicBezTo>
                <a:lnTo>
                  <a:pt x="9138" y="31480"/>
                </a:lnTo>
                <a:cubicBezTo>
                  <a:pt x="6370" y="31480"/>
                  <a:pt x="3794" y="28921"/>
                  <a:pt x="3794" y="26153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Композиция рома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92200" y="179388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755640" y="278136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Максим Максимыч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755640" y="198900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э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755640" y="357336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Тама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755640" y="443700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няжна Мер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755640" y="530064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аталис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755640" y="198900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э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755640" y="278136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Максим Максимыч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5"/>
          <p:cNvSpPr/>
          <p:nvPr/>
        </p:nvSpPr>
        <p:spPr>
          <a:xfrm>
            <a:off x="755640" y="357336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Тама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6"/>
          <p:cNvSpPr/>
          <p:nvPr/>
        </p:nvSpPr>
        <p:spPr>
          <a:xfrm>
            <a:off x="755640" y="443700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няжна Мер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7"/>
          <p:cNvSpPr/>
          <p:nvPr/>
        </p:nvSpPr>
        <p:spPr>
          <a:xfrm>
            <a:off x="755640" y="530064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аталис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403280" y="11253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Ю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5295240" y="105264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БУ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5">
            <a:hlinkClick r:id="rId2" action="ppaction://hlinksldjump"/>
          </p:cNvPr>
          <p:cNvSpPr/>
          <p:nvPr/>
        </p:nvSpPr>
        <p:spPr>
          <a:xfrm>
            <a:off x="3924360" y="5950080"/>
            <a:ext cx="647640" cy="691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1920"/>
              <a:gd name="textAreaBottom" fmla="*/ 650160 h 691920"/>
            </a:gdLst>
            <a:ahLst/>
            <a:rect l="textAreaLeft" t="textAreaTop" r="textAreaRight" b="textAreaBottom"/>
            <a:pathLst>
              <a:path w="21600" h="23076">
                <a:moveTo>
                  <a:pt x="0" y="0"/>
                </a:moveTo>
                <a:lnTo>
                  <a:pt x="21600" y="0"/>
                </a:lnTo>
                <a:lnTo>
                  <a:pt x="21600" y="23076"/>
                </a:lnTo>
                <a:lnTo>
                  <a:pt x="0" y="23076"/>
                </a:lnTo>
                <a:close/>
              </a:path>
              <a:path fill="lightenLess" w="21600" h="23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76">
                <a:moveTo>
                  <a:pt x="21600" y="0"/>
                </a:moveTo>
                <a:lnTo>
                  <a:pt x="21600" y="23076"/>
                </a:lnTo>
                <a:lnTo>
                  <a:pt x="20200" y="21676"/>
                </a:lnTo>
                <a:lnTo>
                  <a:pt x="20200" y="1400"/>
                </a:lnTo>
                <a:close/>
              </a:path>
              <a:path fill="darkenLess" w="21600" h="23076">
                <a:moveTo>
                  <a:pt x="21600" y="23076"/>
                </a:moveTo>
                <a:lnTo>
                  <a:pt x="0" y="23076"/>
                </a:lnTo>
                <a:lnTo>
                  <a:pt x="1400" y="21676"/>
                </a:lnTo>
                <a:lnTo>
                  <a:pt x="20200" y="21676"/>
                </a:lnTo>
                <a:close/>
              </a:path>
              <a:path fill="lighten" w="21600" h="23076">
                <a:moveTo>
                  <a:pt x="0" y="23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76"/>
                </a:lnTo>
                <a:close/>
              </a:path>
              <a:path fill="darken" w="21600" h="23076">
                <a:moveTo>
                  <a:pt x="10800" y="1554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76">
                <a:moveTo>
                  <a:pt x="11905" y="15019"/>
                </a:moveTo>
                <a:lnTo>
                  <a:pt x="11905" y="13061"/>
                </a:lnTo>
                <a:cubicBezTo>
                  <a:pt x="11905" y="12234"/>
                  <a:pt x="12236" y="11538"/>
                  <a:pt x="12837" y="11538"/>
                </a:cubicBezTo>
                <a:cubicBezTo>
                  <a:pt x="13968" y="11538"/>
                  <a:pt x="14865" y="10172"/>
                  <a:pt x="14865" y="8587"/>
                </a:cubicBezTo>
                <a:cubicBezTo>
                  <a:pt x="14865" y="6272"/>
                  <a:pt x="13011" y="4532"/>
                  <a:pt x="10800" y="4532"/>
                </a:cubicBezTo>
                <a:cubicBezTo>
                  <a:pt x="8589" y="4532"/>
                  <a:pt x="6918" y="6272"/>
                  <a:pt x="6918" y="8587"/>
                </a:cubicBezTo>
                <a:lnTo>
                  <a:pt x="8772" y="8587"/>
                </a:lnTo>
                <a:cubicBezTo>
                  <a:pt x="8772" y="7447"/>
                  <a:pt x="9695" y="6559"/>
                  <a:pt x="10800" y="6559"/>
                </a:cubicBezTo>
                <a:cubicBezTo>
                  <a:pt x="11905" y="6559"/>
                  <a:pt x="12837" y="7447"/>
                  <a:pt x="12837" y="8587"/>
                </a:cubicBezTo>
                <a:cubicBezTo>
                  <a:pt x="12837" y="9327"/>
                  <a:pt x="12367" y="10058"/>
                  <a:pt x="11905" y="10058"/>
                </a:cubicBezTo>
                <a:cubicBezTo>
                  <a:pt x="10800" y="10058"/>
                  <a:pt x="9695" y="11538"/>
                  <a:pt x="9695" y="13061"/>
                </a:cubicBezTo>
                <a:lnTo>
                  <a:pt x="9695" y="15019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7">
            <a:hlinkClick r:id="rId3" action="ppaction://hlinksldjump"/>
          </p:cNvPr>
          <p:cNvSpPr/>
          <p:nvPr/>
        </p:nvSpPr>
        <p:spPr>
          <a:xfrm>
            <a:off x="1476360" y="1125360"/>
            <a:ext cx="1584360" cy="57636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353" h="21600">
                <a:moveTo>
                  <a:pt x="0" y="0"/>
                </a:moveTo>
                <a:lnTo>
                  <a:pt x="59353" y="0"/>
                </a:lnTo>
                <a:lnTo>
                  <a:pt x="59353" y="21600"/>
                </a:lnTo>
                <a:lnTo>
                  <a:pt x="0" y="21600"/>
                </a:lnTo>
                <a:close/>
              </a:path>
              <a:path fill="lightenLess" w="59353" h="21600">
                <a:moveTo>
                  <a:pt x="0" y="0"/>
                </a:moveTo>
                <a:lnTo>
                  <a:pt x="59353" y="0"/>
                </a:lnTo>
                <a:lnTo>
                  <a:pt x="57953" y="1400"/>
                </a:lnTo>
                <a:lnTo>
                  <a:pt x="1400" y="1400"/>
                </a:lnTo>
                <a:close/>
              </a:path>
              <a:path fill="darken" w="59353" h="21600">
                <a:moveTo>
                  <a:pt x="59353" y="0"/>
                </a:moveTo>
                <a:lnTo>
                  <a:pt x="59353" y="21600"/>
                </a:lnTo>
                <a:lnTo>
                  <a:pt x="57953" y="20200"/>
                </a:lnTo>
                <a:lnTo>
                  <a:pt x="57953" y="1400"/>
                </a:lnTo>
                <a:close/>
              </a:path>
              <a:path fill="darkenLess" w="59353" h="21600">
                <a:moveTo>
                  <a:pt x="59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3" y="20200"/>
                </a:lnTo>
                <a:close/>
              </a:path>
              <a:path fill="lighten" w="59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8">
            <a:hlinkClick r:id="rId4" action="ppaction://hlinksldjump"/>
          </p:cNvPr>
          <p:cNvSpPr/>
          <p:nvPr/>
        </p:nvSpPr>
        <p:spPr>
          <a:xfrm>
            <a:off x="5364000" y="1052640"/>
            <a:ext cx="1656000" cy="57600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2075" h="21600">
                <a:moveTo>
                  <a:pt x="0" y="0"/>
                </a:moveTo>
                <a:lnTo>
                  <a:pt x="62075" y="0"/>
                </a:lnTo>
                <a:lnTo>
                  <a:pt x="62075" y="21600"/>
                </a:lnTo>
                <a:lnTo>
                  <a:pt x="0" y="21600"/>
                </a:lnTo>
                <a:close/>
              </a:path>
              <a:path fill="lightenLess" w="62075" h="21600">
                <a:moveTo>
                  <a:pt x="0" y="0"/>
                </a:moveTo>
                <a:lnTo>
                  <a:pt x="62075" y="0"/>
                </a:lnTo>
                <a:lnTo>
                  <a:pt x="60675" y="1400"/>
                </a:lnTo>
                <a:lnTo>
                  <a:pt x="1400" y="1400"/>
                </a:lnTo>
                <a:close/>
              </a:path>
              <a:path fill="darken" w="62075" h="21600">
                <a:moveTo>
                  <a:pt x="62075" y="0"/>
                </a:moveTo>
                <a:lnTo>
                  <a:pt x="62075" y="21600"/>
                </a:lnTo>
                <a:lnTo>
                  <a:pt x="60675" y="20200"/>
                </a:lnTo>
                <a:lnTo>
                  <a:pt x="60675" y="1400"/>
                </a:lnTo>
                <a:close/>
              </a:path>
              <a:path fill="darkenLess" w="62075" h="21600">
                <a:moveTo>
                  <a:pt x="6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75" y="20200"/>
                </a:lnTo>
                <a:close/>
              </a:path>
              <a:path fill="lighten" w="6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539640" y="3716280"/>
            <a:ext cx="144720" cy="2017800"/>
          </a:xfrm>
          <a:custGeom>
            <a:avLst/>
            <a:gdLst>
              <a:gd name="textAreaLeft" fmla="*/ 92520 w 144720"/>
              <a:gd name="textAreaRight" fmla="*/ 145080 w 144720"/>
              <a:gd name="textAreaTop" fmla="*/ 52560 h 2017800"/>
              <a:gd name="textAreaBottom" fmla="*/ 1965240 h 20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08000" y="3502080"/>
            <a:ext cx="360360" cy="2448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448000"/>
              <a:gd name="textAreaBottom" fmla="*/ 2430720 h 2448000"/>
            </a:gdLst>
            <a:ahLst/>
            <a:rect l="textAreaLeft" t="textAreaTop" r="textAreaRight" b="textAreaBottom"/>
            <a:pathLst>
              <a:path w="21600" h="146608">
                <a:moveTo>
                  <a:pt x="3600" y="0"/>
                </a:moveTo>
                <a:arcTo wR="3600" hR="3600" stAng="16200000" swAng="-5400000"/>
                <a:lnTo>
                  <a:pt x="0" y="143008"/>
                </a:lnTo>
                <a:arcTo wR="3600" hR="3600" stAng="10800000" swAng="-5400000"/>
                <a:lnTo>
                  <a:pt x="18000" y="146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>
            <a:hlinkClick r:id="rId5" action="ppaction://hlinksldjump"/>
          </p:cNvPr>
          <p:cNvSpPr/>
          <p:nvPr/>
        </p:nvSpPr>
        <p:spPr>
          <a:xfrm rot="16200000">
            <a:off x="264960" y="6296040"/>
            <a:ext cx="333360" cy="647640"/>
          </a:xfrm>
          <a:custGeom>
            <a:avLst/>
            <a:gdLst>
              <a:gd name="textAreaLeft" fmla="*/ 21600 w 333360"/>
              <a:gd name="textAreaRight" fmla="*/ 311760 w 333360"/>
              <a:gd name="textAreaTop" fmla="*/ 21600 h 647640"/>
              <a:gd name="textAreaBottom" fmla="*/ 626040 h 647640"/>
            </a:gdLst>
            <a:ahLst/>
            <a:rect l="textAreaLeft" t="textAreaTop" r="textAreaRight" b="textAreaBottom"/>
            <a:pathLst>
              <a:path w="21600" h="41942">
                <a:moveTo>
                  <a:pt x="0" y="0"/>
                </a:moveTo>
                <a:lnTo>
                  <a:pt x="21600" y="0"/>
                </a:lnTo>
                <a:lnTo>
                  <a:pt x="21600" y="41942"/>
                </a:lnTo>
                <a:lnTo>
                  <a:pt x="0" y="41942"/>
                </a:lnTo>
                <a:close/>
              </a:path>
              <a:path fill="lightenLess" w="21600" h="41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942">
                <a:moveTo>
                  <a:pt x="21600" y="0"/>
                </a:moveTo>
                <a:lnTo>
                  <a:pt x="21600" y="41942"/>
                </a:lnTo>
                <a:lnTo>
                  <a:pt x="20200" y="40542"/>
                </a:lnTo>
                <a:lnTo>
                  <a:pt x="20200" y="1400"/>
                </a:lnTo>
                <a:close/>
              </a:path>
              <a:path fill="darkenLess" w="21600" h="41942">
                <a:moveTo>
                  <a:pt x="21600" y="41942"/>
                </a:moveTo>
                <a:lnTo>
                  <a:pt x="0" y="41942"/>
                </a:lnTo>
                <a:lnTo>
                  <a:pt x="1400" y="40542"/>
                </a:lnTo>
                <a:lnTo>
                  <a:pt x="20200" y="40542"/>
                </a:lnTo>
                <a:close/>
              </a:path>
              <a:path fill="lighten" w="21600" h="41942">
                <a:moveTo>
                  <a:pt x="0" y="41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40542"/>
                </a:lnTo>
                <a:close/>
              </a:path>
              <a:path fill="darken" w="21600" h="41942">
                <a:moveTo>
                  <a:pt x="3794" y="17663"/>
                </a:moveTo>
                <a:lnTo>
                  <a:pt x="7301" y="17663"/>
                </a:lnTo>
                <a:lnTo>
                  <a:pt x="7301" y="22999"/>
                </a:lnTo>
                <a:cubicBezTo>
                  <a:pt x="7301" y="23921"/>
                  <a:pt x="8102" y="24653"/>
                  <a:pt x="9138" y="24653"/>
                </a:cubicBezTo>
                <a:lnTo>
                  <a:pt x="10800" y="24653"/>
                </a:lnTo>
                <a:cubicBezTo>
                  <a:pt x="11836" y="24653"/>
                  <a:pt x="12636" y="23921"/>
                  <a:pt x="12636" y="22999"/>
                </a:cubicBezTo>
                <a:lnTo>
                  <a:pt x="12636" y="17663"/>
                </a:lnTo>
                <a:lnTo>
                  <a:pt x="10800" y="17663"/>
                </a:lnTo>
                <a:lnTo>
                  <a:pt x="14308" y="14156"/>
                </a:lnTo>
                <a:lnTo>
                  <a:pt x="17981" y="17663"/>
                </a:lnTo>
                <a:lnTo>
                  <a:pt x="16144" y="17663"/>
                </a:lnTo>
                <a:lnTo>
                  <a:pt x="16144" y="22999"/>
                </a:lnTo>
                <a:cubicBezTo>
                  <a:pt x="16144" y="25767"/>
                  <a:pt x="13568" y="28326"/>
                  <a:pt x="10800" y="28326"/>
                </a:cubicBezTo>
                <a:lnTo>
                  <a:pt x="9138" y="28326"/>
                </a:lnTo>
                <a:cubicBezTo>
                  <a:pt x="6370" y="28326"/>
                  <a:pt x="3794" y="25767"/>
                  <a:pt x="3794" y="2299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>
            <a:hlinkClick r:id="rId6" action="ppaction://hlinksldjump"/>
          </p:cNvPr>
          <p:cNvSpPr/>
          <p:nvPr/>
        </p:nvSpPr>
        <p:spPr>
          <a:xfrm>
            <a:off x="8317080" y="6491160"/>
            <a:ext cx="753840" cy="322560"/>
          </a:xfrm>
          <a:custGeom>
            <a:avLst/>
            <a:gdLst>
              <a:gd name="textAreaLeft" fmla="*/ 20880 w 753840"/>
              <a:gd name="textAreaRight" fmla="*/ 732960 w 75384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50448" h="21600">
                <a:moveTo>
                  <a:pt x="0" y="0"/>
                </a:moveTo>
                <a:lnTo>
                  <a:pt x="50448" y="0"/>
                </a:lnTo>
                <a:lnTo>
                  <a:pt x="50448" y="21600"/>
                </a:lnTo>
                <a:lnTo>
                  <a:pt x="0" y="21600"/>
                </a:lnTo>
                <a:close/>
              </a:path>
              <a:path fill="lightenLess" w="50448" h="21600">
                <a:moveTo>
                  <a:pt x="0" y="0"/>
                </a:moveTo>
                <a:lnTo>
                  <a:pt x="50448" y="0"/>
                </a:lnTo>
                <a:lnTo>
                  <a:pt x="49048" y="1400"/>
                </a:lnTo>
                <a:lnTo>
                  <a:pt x="1400" y="1400"/>
                </a:lnTo>
                <a:close/>
              </a:path>
              <a:path fill="darken" w="50448" h="21600">
                <a:moveTo>
                  <a:pt x="50448" y="0"/>
                </a:moveTo>
                <a:lnTo>
                  <a:pt x="50448" y="21600"/>
                </a:lnTo>
                <a:lnTo>
                  <a:pt x="49048" y="20200"/>
                </a:lnTo>
                <a:lnTo>
                  <a:pt x="49048" y="1400"/>
                </a:lnTo>
                <a:close/>
              </a:path>
              <a:path fill="darkenLess" w="50448" h="21600">
                <a:moveTo>
                  <a:pt x="50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48" y="20200"/>
                </a:lnTo>
                <a:close/>
              </a:path>
              <a:path fill="lighten" w="50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48" h="21600">
                <a:moveTo>
                  <a:pt x="18218" y="3794"/>
                </a:moveTo>
                <a:lnTo>
                  <a:pt x="32231" y="10800"/>
                </a:lnTo>
                <a:lnTo>
                  <a:pt x="18218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43 L 0.43334 -0.23378 E">
                                      <p:cBhvr>
                                        <p:cTn id="55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0371E-006 L 0.43316 -0.24421 E">
                                      <p:cBhvr>
                                        <p:cTn id="55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1427E-007 L 0.43316 0.22868 E">
                                      <p:cBhvr>
                                        <p:cTn id="5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7164E-006 L 0.43316 -0.12859 E">
                                      <p:cBhvr>
                                        <p:cTn id="56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4717E-006 L 0.43316 0.36538 E">
                                      <p:cBhvr>
                                        <p:cTn id="57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79280" y="692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юж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ранц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jet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) – событие  или совокупность событий в эпических и   драматургических произведениях, развитие которых позволяет писателю раскрыть характеры героев и суть изображаемых явлений в соответствии с  авторским замысл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50920" y="3068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бу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ula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з) – цепь, череда событий в эпическом или драматургическом произведении, положенная в основу сюж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">
            <a:hlinkClick r:id="rId3" action="ppaction://hlinksldjump"/>
          </p:cNvPr>
          <p:cNvSpPr/>
          <p:nvPr/>
        </p:nvSpPr>
        <p:spPr>
          <a:xfrm>
            <a:off x="611280" y="3068640"/>
            <a:ext cx="1187280" cy="504720"/>
          </a:xfrm>
          <a:custGeom>
            <a:avLst/>
            <a:gdLst>
              <a:gd name="textAreaLeft" fmla="*/ 32400 w 1187280"/>
              <a:gd name="textAreaRight" fmla="*/ 1154880 w 1187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0790" h="21600">
                <a:moveTo>
                  <a:pt x="0" y="0"/>
                </a:moveTo>
                <a:lnTo>
                  <a:pt x="50790" y="0"/>
                </a:lnTo>
                <a:lnTo>
                  <a:pt x="50790" y="21600"/>
                </a:lnTo>
                <a:lnTo>
                  <a:pt x="0" y="21600"/>
                </a:lnTo>
                <a:close/>
              </a:path>
              <a:path fill="lightenLess" w="50790" h="21600">
                <a:moveTo>
                  <a:pt x="0" y="0"/>
                </a:moveTo>
                <a:lnTo>
                  <a:pt x="50790" y="0"/>
                </a:lnTo>
                <a:lnTo>
                  <a:pt x="49390" y="1400"/>
                </a:lnTo>
                <a:lnTo>
                  <a:pt x="1400" y="1400"/>
                </a:lnTo>
                <a:close/>
              </a:path>
              <a:path fill="darken" w="50790" h="21600">
                <a:moveTo>
                  <a:pt x="50790" y="0"/>
                </a:moveTo>
                <a:lnTo>
                  <a:pt x="50790" y="21600"/>
                </a:lnTo>
                <a:lnTo>
                  <a:pt x="49390" y="20200"/>
                </a:lnTo>
                <a:lnTo>
                  <a:pt x="49390" y="1400"/>
                </a:lnTo>
                <a:close/>
              </a:path>
              <a:path fill="darkenLess" w="50790" h="21600">
                <a:moveTo>
                  <a:pt x="50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390" y="20200"/>
                </a:lnTo>
                <a:close/>
              </a:path>
              <a:path fill="lighten" w="50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87280" y="5013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окурова С.П. Словарь литературоведческих терминов. – СПб.: Паритет,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on0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0" y="-100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Хронология событи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1073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03120" y="114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амань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оло  1830 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 направляется  из  Санкт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ербурга в действующий отряд и останавливает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а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0" y="20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0" y="1916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няжна Мери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 мая – 17 июня 183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приезжает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ани на воды в Пятигорск, затем в Кисловодс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дуэли с Грушницким переведен в креп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начальство Максима Максимыч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Фаталист»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кабрь 1832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приезжает на две н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репости в казачью стан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0" y="429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Бэла»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сна 1833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похищает дочь «мирнова кн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я»; через четыре месяца она погибает от рук Казбич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ксим Максимыч»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ень 1837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чорин отправляетс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ю, снова оказывается на Кавказ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речается с Максимом Максимыч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7144920" y="62578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В. Набо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7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аз от хронологии обусловлен следующим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36920" y="1360440"/>
            <a:ext cx="817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 наиболее значимых эпиз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ое внимание психологическим размышления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жели описанию соб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соотнесения героя с другими персонаж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яющимися в определенной последова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 рассказчика (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ен, служит общему замысл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зиция подчине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скому замыс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501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сторон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глубоко раскрыть образ героя своего времени, прослед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ю его жизни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8">
            <a:hlinkClick r:id="rId3" action="ppaction://hlinksldjump"/>
          </p:cNvPr>
          <p:cNvSpPr/>
          <p:nvPr/>
        </p:nvSpPr>
        <p:spPr>
          <a:xfrm>
            <a:off x="4067280" y="5013360"/>
            <a:ext cx="2736720" cy="431640"/>
          </a:xfrm>
          <a:custGeom>
            <a:avLst/>
            <a:gdLst>
              <a:gd name="textAreaLeft" fmla="*/ 27720 w 2736720"/>
              <a:gd name="textAreaRight" fmla="*/ 2709000 w 27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854" h="21600">
                <a:moveTo>
                  <a:pt x="0" y="0"/>
                </a:moveTo>
                <a:lnTo>
                  <a:pt x="136854" y="0"/>
                </a:lnTo>
                <a:lnTo>
                  <a:pt x="136854" y="21600"/>
                </a:lnTo>
                <a:lnTo>
                  <a:pt x="0" y="21600"/>
                </a:lnTo>
                <a:close/>
              </a:path>
              <a:path fill="lightenLess" w="136854" h="21600">
                <a:moveTo>
                  <a:pt x="0" y="0"/>
                </a:moveTo>
                <a:lnTo>
                  <a:pt x="136854" y="0"/>
                </a:lnTo>
                <a:lnTo>
                  <a:pt x="135454" y="1400"/>
                </a:lnTo>
                <a:lnTo>
                  <a:pt x="1400" y="1400"/>
                </a:lnTo>
                <a:close/>
              </a:path>
              <a:path fill="darken" w="136854" h="21600">
                <a:moveTo>
                  <a:pt x="136854" y="0"/>
                </a:moveTo>
                <a:lnTo>
                  <a:pt x="136854" y="21600"/>
                </a:lnTo>
                <a:lnTo>
                  <a:pt x="135454" y="20200"/>
                </a:lnTo>
                <a:lnTo>
                  <a:pt x="135454" y="1400"/>
                </a:lnTo>
                <a:close/>
              </a:path>
              <a:path fill="darkenLess" w="136854" h="21600">
                <a:moveTo>
                  <a:pt x="13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454" y="20200"/>
                </a:lnTo>
                <a:close/>
              </a:path>
              <a:path fill="lighten" w="13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179280" y="1277640"/>
            <a:ext cx="4103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ерой Нашего Времени, &lt;…&gt;, точно, портрет, но не одного человека: это портрет, составленный из пороков всего нашего поколения, в полном их развит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427640" y="1277640"/>
            <a:ext cx="45720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не думайте, &lt;…&gt; чтоб автор этой книги имел когда-нибудь гордую мечту сделаться исправителем людских пороков.  &lt;…&gt; Будет и того, что болезнь указана, а как ее излечить - это уж бог знает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50920" y="4367880"/>
            <a:ext cx="87850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рия души человеческой, хотя бы самой мелкой души, едва ли не любопытнее и не полезнее истории целого народа, особенно когда она - следствие наблюдений ума зрелого над самим собою и когда она писана без тщеславного желания возбудить участие или удивл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мысел Лермонт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19120" y="765000"/>
            <a:ext cx="83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предисловии ко второму изданию рома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95280" y="3860640"/>
            <a:ext cx="83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предисловии  журналу Печори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9">
            <a:hlinkClick r:id="rId2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09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Жанр рома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79280" y="1052640"/>
            <a:ext cx="3024360" cy="3490920"/>
            <a:chOff x="179280" y="1052640"/>
            <a:chExt cx="3024360" cy="3490920"/>
          </a:xfrm>
        </p:grpSpPr>
        <p:sp>
          <p:nvSpPr>
            <p:cNvPr id="207" name="AutoShape 7"/>
            <p:cNvSpPr/>
            <p:nvPr/>
          </p:nvSpPr>
          <p:spPr>
            <a:xfrm>
              <a:off x="179280" y="1052640"/>
              <a:ext cx="3024360" cy="609480"/>
            </a:xfrm>
            <a:prstGeom prst="flowChartAlternateProcess">
              <a:avLst/>
            </a:prstGeom>
            <a:solidFill>
              <a:srgbClr val="ffe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«Бэла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8"/>
            <p:cNvSpPr/>
            <p:nvPr/>
          </p:nvSpPr>
          <p:spPr>
            <a:xfrm>
              <a:off x="179280" y="1773360"/>
              <a:ext cx="3024360" cy="609480"/>
            </a:xfrm>
            <a:prstGeom prst="flowChartAlternateProcess">
              <a:avLst/>
            </a:prstGeom>
            <a:solidFill>
              <a:srgbClr val="ffe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«Максим Максимыч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9"/>
            <p:cNvSpPr/>
            <p:nvPr/>
          </p:nvSpPr>
          <p:spPr>
            <a:xfrm>
              <a:off x="179280" y="2492280"/>
              <a:ext cx="3024360" cy="609840"/>
            </a:xfrm>
            <a:prstGeom prst="flowChartAlternateProcess">
              <a:avLst/>
            </a:prstGeom>
            <a:solidFill>
              <a:srgbClr val="ffe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«Тамань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179280" y="3213000"/>
              <a:ext cx="3024360" cy="609840"/>
            </a:xfrm>
            <a:prstGeom prst="flowChartAlternateProcess">
              <a:avLst/>
            </a:prstGeom>
            <a:solidFill>
              <a:srgbClr val="ffe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«Княжна Мер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179280" y="3933720"/>
              <a:ext cx="3024360" cy="609840"/>
            </a:xfrm>
            <a:prstGeom prst="flowChartAlternateProcess">
              <a:avLst/>
            </a:prstGeom>
            <a:solidFill>
              <a:srgbClr val="ffe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«Фаталист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AutoShape 13"/>
          <p:cNvSpPr/>
          <p:nvPr/>
        </p:nvSpPr>
        <p:spPr>
          <a:xfrm>
            <a:off x="3851280" y="105264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тическая нове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вой очер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3851280" y="1773360"/>
            <a:ext cx="3024360" cy="60948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ая нове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3851280" y="249228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антюрная нове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сюжетная пове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3851280" y="321300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ев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ветская» пове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7"/>
          <p:cNvSpPr/>
          <p:nvPr/>
        </p:nvSpPr>
        <p:spPr>
          <a:xfrm>
            <a:off x="3851280" y="3933720"/>
            <a:ext cx="3024360" cy="60984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тическая нове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276720" y="1268280"/>
            <a:ext cx="503280" cy="3151440"/>
            <a:chOff x="3276720" y="1268280"/>
            <a:chExt cx="503280" cy="3151440"/>
          </a:xfrm>
        </p:grpSpPr>
        <p:sp>
          <p:nvSpPr>
            <p:cNvPr id="218" name="AutoShape 18"/>
            <p:cNvSpPr/>
            <p:nvPr/>
          </p:nvSpPr>
          <p:spPr>
            <a:xfrm>
              <a:off x="3276720" y="1268280"/>
              <a:ext cx="503280" cy="2700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3276720" y="1989000"/>
              <a:ext cx="503280" cy="2700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20"/>
            <p:cNvSpPr/>
            <p:nvPr/>
          </p:nvSpPr>
          <p:spPr>
            <a:xfrm>
              <a:off x="3276720" y="2637000"/>
              <a:ext cx="503280" cy="269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22"/>
            <p:cNvSpPr/>
            <p:nvPr/>
          </p:nvSpPr>
          <p:spPr>
            <a:xfrm>
              <a:off x="3276720" y="3357720"/>
              <a:ext cx="503280" cy="269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>
              <a:off x="3276720" y="4149720"/>
              <a:ext cx="503280" cy="2700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AutoShape 24"/>
          <p:cNvSpPr/>
          <p:nvPr/>
        </p:nvSpPr>
        <p:spPr>
          <a:xfrm>
            <a:off x="7020000" y="1197000"/>
            <a:ext cx="296640" cy="3311640"/>
          </a:xfrm>
          <a:custGeom>
            <a:avLst/>
            <a:gdLst>
              <a:gd name="textAreaLeft" fmla="*/ 0 w 296640"/>
              <a:gd name="textAreaRight" fmla="*/ 106920 w 29664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5" descr="096238_печорин"/>
          <p:cNvPicPr/>
          <p:nvPr/>
        </p:nvPicPr>
        <p:blipFill>
          <a:blip r:embed="rId2"/>
          <a:stretch/>
        </p:blipFill>
        <p:spPr>
          <a:xfrm>
            <a:off x="7451640" y="1557360"/>
            <a:ext cx="1596960" cy="25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Рисунок1"/>
          <p:cNvPicPr/>
          <p:nvPr/>
        </p:nvPicPr>
        <p:blipFill>
          <a:blip r:embed="rId3"/>
          <a:stretch/>
        </p:blipFill>
        <p:spPr>
          <a:xfrm rot="5400000">
            <a:off x="3383280" y="2959560"/>
            <a:ext cx="288720" cy="4681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9"/>
          <p:cNvSpPr/>
          <p:nvPr/>
        </p:nvSpPr>
        <p:spPr>
          <a:xfrm>
            <a:off x="1478520" y="5630760"/>
            <a:ext cx="38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ский ро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0">
            <a:hlinkClick r:id="rId4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5">
            <a:hlinkClick r:id="rId5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истема рассказчик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ТОЧКИ ЗР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203640" y="1378080"/>
            <a:ext cx="2663640" cy="61092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тешеств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иц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250920" y="1378080"/>
            <a:ext cx="2663640" cy="61092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сим Максимы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6227640" y="1378080"/>
            <a:ext cx="2664000" cy="61092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250920" y="2276640"/>
            <a:ext cx="266364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к чести, воин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го долга, дисцип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ны; простодуше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бр, искрен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203640" y="2276640"/>
            <a:ext cx="266364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нный офи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р, кое-что знает 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е, о его стран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 и противоречи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м характере. Объ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ктивная оц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6227640" y="2276640"/>
            <a:ext cx="266400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к, размышл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щий о смысле жизн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собственном назн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нии. Сам себя су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казн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319840" y="405144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М ПРЕДСТАВЛЕН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8"/>
          <p:cNvSpPr/>
          <p:nvPr/>
        </p:nvSpPr>
        <p:spPr>
          <a:xfrm>
            <a:off x="250920" y="4508640"/>
            <a:ext cx="266364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 – таинствен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ый и загадочный ч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век, его нельзя п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ять, а его поступ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льзя объяс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3203640" y="4508640"/>
            <a:ext cx="266364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героя. Попы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 дать объяснение н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торым поступ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ретный и реали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чный об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6227640" y="4508640"/>
            <a:ext cx="2664000" cy="1800000"/>
          </a:xfrm>
          <a:prstGeom prst="flowChartAlternate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гическая испове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роя. Искренен пер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телем и сам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1"/>
          <p:cNvSpPr/>
          <p:nvPr/>
        </p:nvSpPr>
        <p:spPr>
          <a:xfrm flipH="1">
            <a:off x="2123640" y="1052640"/>
            <a:ext cx="187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4572000" y="10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5148360" y="1052640"/>
            <a:ext cx="2374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3"/>
          <p:cNvGrpSpPr/>
          <p:nvPr/>
        </p:nvGrpSpPr>
        <p:grpSpPr>
          <a:xfrm>
            <a:off x="1547640" y="1989000"/>
            <a:ext cx="6048720" cy="287280"/>
            <a:chOff x="1547640" y="1989000"/>
            <a:chExt cx="6048720" cy="287280"/>
          </a:xfrm>
        </p:grpSpPr>
        <p:sp>
          <p:nvSpPr>
            <p:cNvPr id="246" name="Line 25"/>
            <p:cNvSpPr/>
            <p:nvPr/>
          </p:nvSpPr>
          <p:spPr>
            <a:xfrm>
              <a:off x="1547640" y="198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>
              <a:off x="4572000" y="198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>
              <a:off x="7596360" y="198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8"/>
          <p:cNvGrpSpPr/>
          <p:nvPr/>
        </p:nvGrpSpPr>
        <p:grpSpPr>
          <a:xfrm>
            <a:off x="1547640" y="4076640"/>
            <a:ext cx="6048720" cy="433080"/>
            <a:chOff x="1547640" y="4076640"/>
            <a:chExt cx="6048720" cy="433080"/>
          </a:xfrm>
        </p:grpSpPr>
        <p:sp>
          <p:nvSpPr>
            <p:cNvPr id="250" name="Line 28"/>
            <p:cNvSpPr/>
            <p:nvPr/>
          </p:nvSpPr>
          <p:spPr>
            <a:xfrm>
              <a:off x="1547640" y="4076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4500720" y="4076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7596360" y="4076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AutoShape 31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39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indefinite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истема персонаже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16760" y="1989000"/>
            <a:ext cx="334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Бэ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Максим Максимыч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Тама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Княжна Мер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Фаталис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">
            <a:hlinkClick r:id="rId2" action="ppaction://hlinksldjump"/>
          </p:cNvPr>
          <p:cNvSpPr/>
          <p:nvPr/>
        </p:nvSpPr>
        <p:spPr>
          <a:xfrm>
            <a:off x="826920" y="1989000"/>
            <a:ext cx="1441440" cy="503280"/>
          </a:xfrm>
          <a:custGeom>
            <a:avLst/>
            <a:gdLst>
              <a:gd name="textAreaLeft" fmla="*/ 32400 w 1441440"/>
              <a:gd name="textAreaRight" fmla="*/ 1409040 w 1441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836" h="21600">
                <a:moveTo>
                  <a:pt x="0" y="0"/>
                </a:moveTo>
                <a:lnTo>
                  <a:pt x="61836" y="0"/>
                </a:lnTo>
                <a:lnTo>
                  <a:pt x="61836" y="21600"/>
                </a:lnTo>
                <a:lnTo>
                  <a:pt x="0" y="21600"/>
                </a:lnTo>
                <a:close/>
              </a:path>
              <a:path fill="lightenLess" w="61836" h="21600">
                <a:moveTo>
                  <a:pt x="0" y="0"/>
                </a:moveTo>
                <a:lnTo>
                  <a:pt x="61836" y="0"/>
                </a:lnTo>
                <a:lnTo>
                  <a:pt x="60436" y="1400"/>
                </a:lnTo>
                <a:lnTo>
                  <a:pt x="1400" y="1400"/>
                </a:lnTo>
                <a:close/>
              </a:path>
              <a:path fill="darken" w="61836" h="21600">
                <a:moveTo>
                  <a:pt x="61836" y="0"/>
                </a:moveTo>
                <a:lnTo>
                  <a:pt x="61836" y="21600"/>
                </a:lnTo>
                <a:lnTo>
                  <a:pt x="60436" y="20200"/>
                </a:lnTo>
                <a:lnTo>
                  <a:pt x="60436" y="1400"/>
                </a:lnTo>
                <a:close/>
              </a:path>
              <a:path fill="darkenLess" w="61836" h="21600">
                <a:moveTo>
                  <a:pt x="6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436" y="20200"/>
                </a:lnTo>
                <a:close/>
              </a:path>
              <a:path fill="lighten" w="6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6">
            <a:hlinkClick r:id="rId3" action="ppaction://hlinksldjump"/>
          </p:cNvPr>
          <p:cNvSpPr/>
          <p:nvPr/>
        </p:nvSpPr>
        <p:spPr>
          <a:xfrm>
            <a:off x="755640" y="2708280"/>
            <a:ext cx="3240000" cy="504720"/>
          </a:xfrm>
          <a:custGeom>
            <a:avLst/>
            <a:gdLst>
              <a:gd name="textAreaLeft" fmla="*/ 32400 w 3240000"/>
              <a:gd name="textAreaRight" fmla="*/ 3207600 w 32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38576" h="21600">
                <a:moveTo>
                  <a:pt x="0" y="0"/>
                </a:moveTo>
                <a:lnTo>
                  <a:pt x="138576" y="0"/>
                </a:lnTo>
                <a:lnTo>
                  <a:pt x="138576" y="21600"/>
                </a:lnTo>
                <a:lnTo>
                  <a:pt x="0" y="21600"/>
                </a:lnTo>
                <a:close/>
              </a:path>
              <a:path fill="lightenLess" w="138576" h="21600">
                <a:moveTo>
                  <a:pt x="0" y="0"/>
                </a:moveTo>
                <a:lnTo>
                  <a:pt x="138576" y="0"/>
                </a:lnTo>
                <a:lnTo>
                  <a:pt x="137176" y="1400"/>
                </a:lnTo>
                <a:lnTo>
                  <a:pt x="1400" y="1400"/>
                </a:lnTo>
                <a:close/>
              </a:path>
              <a:path fill="darken" w="138576" h="21600">
                <a:moveTo>
                  <a:pt x="138576" y="0"/>
                </a:moveTo>
                <a:lnTo>
                  <a:pt x="138576" y="21600"/>
                </a:lnTo>
                <a:lnTo>
                  <a:pt x="137176" y="20200"/>
                </a:lnTo>
                <a:lnTo>
                  <a:pt x="137176" y="1400"/>
                </a:lnTo>
                <a:close/>
              </a:path>
              <a:path fill="darkenLess" w="138576" h="21600">
                <a:moveTo>
                  <a:pt x="138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176" y="20200"/>
                </a:lnTo>
                <a:close/>
              </a:path>
              <a:path fill="lighten" w="138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7">
            <a:hlinkClick r:id="rId4" action="ppaction://hlinksldjump"/>
          </p:cNvPr>
          <p:cNvSpPr/>
          <p:nvPr/>
        </p:nvSpPr>
        <p:spPr>
          <a:xfrm>
            <a:off x="971640" y="3500280"/>
            <a:ext cx="1512720" cy="433440"/>
          </a:xfrm>
          <a:custGeom>
            <a:avLst/>
            <a:gdLst>
              <a:gd name="textAreaLeft" fmla="*/ 28080 w 1512720"/>
              <a:gd name="textAreaRight" fmla="*/ 1484640 w 1512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5340" h="21600">
                <a:moveTo>
                  <a:pt x="0" y="0"/>
                </a:moveTo>
                <a:lnTo>
                  <a:pt x="75340" y="0"/>
                </a:lnTo>
                <a:lnTo>
                  <a:pt x="75340" y="21600"/>
                </a:lnTo>
                <a:lnTo>
                  <a:pt x="0" y="21600"/>
                </a:lnTo>
                <a:close/>
              </a:path>
              <a:path fill="lightenLess" w="75340" h="21600">
                <a:moveTo>
                  <a:pt x="0" y="0"/>
                </a:moveTo>
                <a:lnTo>
                  <a:pt x="75340" y="0"/>
                </a:lnTo>
                <a:lnTo>
                  <a:pt x="73940" y="1400"/>
                </a:lnTo>
                <a:lnTo>
                  <a:pt x="1400" y="1400"/>
                </a:lnTo>
                <a:close/>
              </a:path>
              <a:path fill="darken" w="75340" h="21600">
                <a:moveTo>
                  <a:pt x="75340" y="0"/>
                </a:moveTo>
                <a:lnTo>
                  <a:pt x="75340" y="21600"/>
                </a:lnTo>
                <a:lnTo>
                  <a:pt x="73940" y="20200"/>
                </a:lnTo>
                <a:lnTo>
                  <a:pt x="73940" y="1400"/>
                </a:lnTo>
                <a:close/>
              </a:path>
              <a:path fill="darkenLess" w="75340" h="21600">
                <a:moveTo>
                  <a:pt x="75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0" y="20200"/>
                </a:lnTo>
                <a:close/>
              </a:path>
              <a:path fill="lighten" w="75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8">
            <a:hlinkClick r:id="rId5" action="ppaction://hlinksldjump"/>
          </p:cNvPr>
          <p:cNvSpPr/>
          <p:nvPr/>
        </p:nvSpPr>
        <p:spPr>
          <a:xfrm>
            <a:off x="900000" y="4221000"/>
            <a:ext cx="2376720" cy="433440"/>
          </a:xfrm>
          <a:custGeom>
            <a:avLst/>
            <a:gdLst>
              <a:gd name="textAreaLeft" fmla="*/ 28080 w 2376720"/>
              <a:gd name="textAreaRight" fmla="*/ 2348640 w 237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8361" h="21600">
                <a:moveTo>
                  <a:pt x="0" y="0"/>
                </a:moveTo>
                <a:lnTo>
                  <a:pt x="118361" y="0"/>
                </a:lnTo>
                <a:lnTo>
                  <a:pt x="118361" y="21600"/>
                </a:lnTo>
                <a:lnTo>
                  <a:pt x="0" y="21600"/>
                </a:lnTo>
                <a:close/>
              </a:path>
              <a:path fill="lightenLess" w="118361" h="21600">
                <a:moveTo>
                  <a:pt x="0" y="0"/>
                </a:moveTo>
                <a:lnTo>
                  <a:pt x="118361" y="0"/>
                </a:lnTo>
                <a:lnTo>
                  <a:pt x="116961" y="1400"/>
                </a:lnTo>
                <a:lnTo>
                  <a:pt x="1400" y="1400"/>
                </a:lnTo>
                <a:close/>
              </a:path>
              <a:path fill="darken" w="118361" h="21600">
                <a:moveTo>
                  <a:pt x="118361" y="0"/>
                </a:moveTo>
                <a:lnTo>
                  <a:pt x="118361" y="21600"/>
                </a:lnTo>
                <a:lnTo>
                  <a:pt x="116961" y="20200"/>
                </a:lnTo>
                <a:lnTo>
                  <a:pt x="116961" y="1400"/>
                </a:lnTo>
                <a:close/>
              </a:path>
              <a:path fill="darkenLess" w="118361" h="21600">
                <a:moveTo>
                  <a:pt x="118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61" y="20200"/>
                </a:lnTo>
                <a:close/>
              </a:path>
              <a:path fill="lighten" w="118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9">
            <a:hlinkClick r:id="rId6" action="ppaction://hlinksldjump"/>
          </p:cNvPr>
          <p:cNvSpPr/>
          <p:nvPr/>
        </p:nvSpPr>
        <p:spPr>
          <a:xfrm>
            <a:off x="826920" y="4941720"/>
            <a:ext cx="1944720" cy="433440"/>
          </a:xfrm>
          <a:custGeom>
            <a:avLst/>
            <a:gdLst>
              <a:gd name="textAreaLeft" fmla="*/ 28080 w 1944720"/>
              <a:gd name="textAreaRight" fmla="*/ 1916640 w 194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96850" h="21600">
                <a:moveTo>
                  <a:pt x="0" y="0"/>
                </a:moveTo>
                <a:lnTo>
                  <a:pt x="96850" y="0"/>
                </a:lnTo>
                <a:lnTo>
                  <a:pt x="96850" y="21600"/>
                </a:lnTo>
                <a:lnTo>
                  <a:pt x="0" y="21600"/>
                </a:lnTo>
                <a:close/>
              </a:path>
              <a:path fill="lightenLess" w="96850" h="21600">
                <a:moveTo>
                  <a:pt x="0" y="0"/>
                </a:moveTo>
                <a:lnTo>
                  <a:pt x="96850" y="0"/>
                </a:lnTo>
                <a:lnTo>
                  <a:pt x="95451" y="1400"/>
                </a:lnTo>
                <a:lnTo>
                  <a:pt x="1400" y="1400"/>
                </a:lnTo>
                <a:close/>
              </a:path>
              <a:path fill="darken" w="96850" h="21600">
                <a:moveTo>
                  <a:pt x="96850" y="0"/>
                </a:moveTo>
                <a:lnTo>
                  <a:pt x="96850" y="21600"/>
                </a:lnTo>
                <a:lnTo>
                  <a:pt x="95451" y="20200"/>
                </a:lnTo>
                <a:lnTo>
                  <a:pt x="95451" y="1400"/>
                </a:lnTo>
                <a:close/>
              </a:path>
              <a:path fill="darkenLess" w="96850" h="21600">
                <a:moveTo>
                  <a:pt x="96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451" y="20200"/>
                </a:lnTo>
                <a:close/>
              </a:path>
              <a:path fill="lighten" w="96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19280" y="1989000"/>
            <a:ext cx="48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создания ром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зиция и жанр произ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а рассказч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а персона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2">
            <a:hlinkClick r:id="rId2" action="ppaction://hlinksldjump"/>
          </p:cNvPr>
          <p:cNvSpPr/>
          <p:nvPr/>
        </p:nvSpPr>
        <p:spPr>
          <a:xfrm>
            <a:off x="826920" y="1989000"/>
            <a:ext cx="3673800" cy="503280"/>
          </a:xfrm>
          <a:custGeom>
            <a:avLst/>
            <a:gdLst>
              <a:gd name="textAreaLeft" fmla="*/ 32400 w 3673800"/>
              <a:gd name="textAreaRight" fmla="*/ 3641400 w 36738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57577" h="21600">
                <a:moveTo>
                  <a:pt x="0" y="0"/>
                </a:moveTo>
                <a:lnTo>
                  <a:pt x="157577" y="0"/>
                </a:lnTo>
                <a:lnTo>
                  <a:pt x="157577" y="21600"/>
                </a:lnTo>
                <a:lnTo>
                  <a:pt x="0" y="21600"/>
                </a:lnTo>
                <a:close/>
              </a:path>
              <a:path fill="lightenLess" w="157577" h="21600">
                <a:moveTo>
                  <a:pt x="0" y="0"/>
                </a:moveTo>
                <a:lnTo>
                  <a:pt x="157577" y="0"/>
                </a:lnTo>
                <a:lnTo>
                  <a:pt x="156177" y="1400"/>
                </a:lnTo>
                <a:lnTo>
                  <a:pt x="1400" y="1400"/>
                </a:lnTo>
                <a:close/>
              </a:path>
              <a:path fill="darken" w="157577" h="21600">
                <a:moveTo>
                  <a:pt x="157577" y="0"/>
                </a:moveTo>
                <a:lnTo>
                  <a:pt x="157577" y="21600"/>
                </a:lnTo>
                <a:lnTo>
                  <a:pt x="156177" y="20200"/>
                </a:lnTo>
                <a:lnTo>
                  <a:pt x="156177" y="1400"/>
                </a:lnTo>
                <a:close/>
              </a:path>
              <a:path fill="darkenLess" w="157577" h="21600">
                <a:moveTo>
                  <a:pt x="1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177" y="20200"/>
                </a:lnTo>
                <a:close/>
              </a:path>
              <a:path fill="lighten" w="1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3">
            <a:hlinkClick r:id="rId3" action="ppaction://hlinksldjump"/>
          </p:cNvPr>
          <p:cNvSpPr/>
          <p:nvPr/>
        </p:nvSpPr>
        <p:spPr>
          <a:xfrm>
            <a:off x="900000" y="2708280"/>
            <a:ext cx="4537080" cy="431640"/>
          </a:xfrm>
          <a:custGeom>
            <a:avLst/>
            <a:gdLst>
              <a:gd name="textAreaLeft" fmla="*/ 27720 w 4537080"/>
              <a:gd name="textAreaRight" fmla="*/ 4509360 w 453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26872" h="21600">
                <a:moveTo>
                  <a:pt x="0" y="0"/>
                </a:moveTo>
                <a:lnTo>
                  <a:pt x="226872" y="0"/>
                </a:lnTo>
                <a:lnTo>
                  <a:pt x="226872" y="21600"/>
                </a:lnTo>
                <a:lnTo>
                  <a:pt x="0" y="21600"/>
                </a:lnTo>
                <a:close/>
              </a:path>
              <a:path fill="lightenLess" w="226872" h="21600">
                <a:moveTo>
                  <a:pt x="0" y="0"/>
                </a:moveTo>
                <a:lnTo>
                  <a:pt x="226872" y="0"/>
                </a:lnTo>
                <a:lnTo>
                  <a:pt x="225472" y="1400"/>
                </a:lnTo>
                <a:lnTo>
                  <a:pt x="1400" y="1400"/>
                </a:lnTo>
                <a:close/>
              </a:path>
              <a:path fill="darken" w="226872" h="21600">
                <a:moveTo>
                  <a:pt x="226872" y="0"/>
                </a:moveTo>
                <a:lnTo>
                  <a:pt x="226872" y="21600"/>
                </a:lnTo>
                <a:lnTo>
                  <a:pt x="225472" y="20200"/>
                </a:lnTo>
                <a:lnTo>
                  <a:pt x="225472" y="1400"/>
                </a:lnTo>
                <a:close/>
              </a:path>
              <a:path fill="darkenLess" w="226872" h="21600">
                <a:moveTo>
                  <a:pt x="226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72" y="20200"/>
                </a:lnTo>
                <a:close/>
              </a:path>
              <a:path fill="lighten" w="226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4">
            <a:hlinkClick r:id="rId4" action="ppaction://hlinksldjump"/>
          </p:cNvPr>
          <p:cNvSpPr/>
          <p:nvPr/>
        </p:nvSpPr>
        <p:spPr>
          <a:xfrm>
            <a:off x="900000" y="3429000"/>
            <a:ext cx="3024360" cy="431640"/>
          </a:xfrm>
          <a:custGeom>
            <a:avLst/>
            <a:gdLst>
              <a:gd name="textAreaLeft" fmla="*/ 27720 w 3024360"/>
              <a:gd name="textAreaRight" fmla="*/ 2996640 w 3024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51236" h="21600">
                <a:moveTo>
                  <a:pt x="0" y="0"/>
                </a:moveTo>
                <a:lnTo>
                  <a:pt x="151236" y="0"/>
                </a:lnTo>
                <a:lnTo>
                  <a:pt x="151236" y="21600"/>
                </a:lnTo>
                <a:lnTo>
                  <a:pt x="0" y="21600"/>
                </a:lnTo>
                <a:close/>
              </a:path>
              <a:path fill="lightenLess" w="151236" h="21600">
                <a:moveTo>
                  <a:pt x="0" y="0"/>
                </a:moveTo>
                <a:lnTo>
                  <a:pt x="151236" y="0"/>
                </a:lnTo>
                <a:lnTo>
                  <a:pt x="149836" y="1400"/>
                </a:lnTo>
                <a:lnTo>
                  <a:pt x="1400" y="1400"/>
                </a:lnTo>
                <a:close/>
              </a:path>
              <a:path fill="darken" w="151236" h="21600">
                <a:moveTo>
                  <a:pt x="151236" y="0"/>
                </a:moveTo>
                <a:lnTo>
                  <a:pt x="151236" y="21600"/>
                </a:lnTo>
                <a:lnTo>
                  <a:pt x="149836" y="20200"/>
                </a:lnTo>
                <a:lnTo>
                  <a:pt x="149836" y="1400"/>
                </a:lnTo>
                <a:close/>
              </a:path>
              <a:path fill="darkenLess" w="151236" h="21600">
                <a:moveTo>
                  <a:pt x="15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836" y="20200"/>
                </a:lnTo>
                <a:close/>
              </a:path>
              <a:path fill="lighten" w="15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5">
            <a:hlinkClick r:id="rId5" action="ppaction://hlinksldjump"/>
          </p:cNvPr>
          <p:cNvSpPr/>
          <p:nvPr/>
        </p:nvSpPr>
        <p:spPr>
          <a:xfrm>
            <a:off x="826920" y="4221000"/>
            <a:ext cx="3024360" cy="433440"/>
          </a:xfrm>
          <a:custGeom>
            <a:avLst/>
            <a:gdLst>
              <a:gd name="textAreaLeft" fmla="*/ 28080 w 3024360"/>
              <a:gd name="textAreaRight" fmla="*/ 2996280 w 302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50608" h="21600">
                <a:moveTo>
                  <a:pt x="0" y="0"/>
                </a:moveTo>
                <a:lnTo>
                  <a:pt x="150608" y="0"/>
                </a:lnTo>
                <a:lnTo>
                  <a:pt x="150608" y="21600"/>
                </a:lnTo>
                <a:lnTo>
                  <a:pt x="0" y="21600"/>
                </a:lnTo>
                <a:close/>
              </a:path>
              <a:path fill="lightenLess" w="150608" h="21600">
                <a:moveTo>
                  <a:pt x="0" y="0"/>
                </a:moveTo>
                <a:lnTo>
                  <a:pt x="150608" y="0"/>
                </a:lnTo>
                <a:lnTo>
                  <a:pt x="149209" y="1400"/>
                </a:lnTo>
                <a:lnTo>
                  <a:pt x="1400" y="1400"/>
                </a:lnTo>
                <a:close/>
              </a:path>
              <a:path fill="darken" w="150608" h="21600">
                <a:moveTo>
                  <a:pt x="150608" y="0"/>
                </a:moveTo>
                <a:lnTo>
                  <a:pt x="150608" y="21600"/>
                </a:lnTo>
                <a:lnTo>
                  <a:pt x="149209" y="20200"/>
                </a:lnTo>
                <a:lnTo>
                  <a:pt x="149209" y="1400"/>
                </a:lnTo>
                <a:close/>
              </a:path>
              <a:path fill="darkenLess" w="150608" h="21600">
                <a:moveTo>
                  <a:pt x="150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209" y="20200"/>
                </a:lnTo>
                <a:close/>
              </a:path>
              <a:path fill="lighten" w="150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8"/>
          <p:cNvGrpSpPr/>
          <p:nvPr/>
        </p:nvGrpSpPr>
        <p:grpSpPr>
          <a:xfrm>
            <a:off x="250920" y="907920"/>
            <a:ext cx="4033800" cy="5568480"/>
            <a:chOff x="250920" y="907920"/>
            <a:chExt cx="4033800" cy="5568480"/>
          </a:xfrm>
        </p:grpSpPr>
        <p:pic>
          <p:nvPicPr>
            <p:cNvPr id="265" name="Picture 4" descr="В_А_Агин_Бэла_1840_е"/>
            <p:cNvPicPr/>
            <p:nvPr/>
          </p:nvPicPr>
          <p:blipFill>
            <a:blip r:embed="rId2"/>
            <a:stretch/>
          </p:blipFill>
          <p:spPr>
            <a:xfrm>
              <a:off x="306360" y="907920"/>
              <a:ext cx="3914640" cy="5040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66" name="Text Box 5"/>
            <p:cNvSpPr/>
            <p:nvPr/>
          </p:nvSpPr>
          <p:spPr>
            <a:xfrm>
              <a:off x="250920" y="601668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.А. Агин, 1840-е г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"/>
          <p:cNvGrpSpPr/>
          <p:nvPr/>
        </p:nvGrpSpPr>
        <p:grpSpPr>
          <a:xfrm>
            <a:off x="5003640" y="907920"/>
            <a:ext cx="3889440" cy="5547600"/>
            <a:chOff x="5003640" y="907920"/>
            <a:chExt cx="3889440" cy="5547600"/>
          </a:xfrm>
        </p:grpSpPr>
        <p:pic>
          <p:nvPicPr>
            <p:cNvPr id="268" name="Picture 6" descr="Л_Е_Фейнберг_Бела и АЗамат_1941"/>
            <p:cNvPicPr/>
            <p:nvPr/>
          </p:nvPicPr>
          <p:blipFill>
            <a:blip r:embed="rId3"/>
            <a:stretch/>
          </p:blipFill>
          <p:spPr>
            <a:xfrm>
              <a:off x="5003640" y="907920"/>
              <a:ext cx="3889440" cy="5040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69" name="Text Box 7"/>
            <p:cNvSpPr/>
            <p:nvPr/>
          </p:nvSpPr>
          <p:spPr>
            <a:xfrm>
              <a:off x="5003640" y="5995800"/>
              <a:ext cx="38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.Е. Фейнберг, 1841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2556000" y="476280"/>
            <a:ext cx="4089240" cy="6266880"/>
            <a:chOff x="2556000" y="476280"/>
            <a:chExt cx="4089240" cy="6266880"/>
          </a:xfrm>
        </p:grpSpPr>
        <p:pic>
          <p:nvPicPr>
            <p:cNvPr id="271" name="Picture 12" descr="Ф_Д_Константинов_1962"/>
            <p:cNvPicPr/>
            <p:nvPr/>
          </p:nvPicPr>
          <p:blipFill>
            <a:blip r:embed="rId4"/>
            <a:stretch/>
          </p:blipFill>
          <p:spPr>
            <a:xfrm>
              <a:off x="2771640" y="476280"/>
              <a:ext cx="387360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3"/>
            <p:cNvSpPr/>
            <p:nvPr/>
          </p:nvSpPr>
          <p:spPr>
            <a:xfrm>
              <a:off x="2556000" y="62834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.Д. Константинов, 1962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14"/>
          <p:cNvSpPr/>
          <p:nvPr/>
        </p:nvSpPr>
        <p:spPr>
          <a:xfrm>
            <a:off x="0" y="-2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весть «Бэла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5">
            <a:hlinkClick r:id="rId5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6">
            <a:hlinkClick r:id="rId6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эла в креп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179280" y="981000"/>
            <a:ext cx="2857680" cy="4276080"/>
            <a:chOff x="179280" y="981000"/>
            <a:chExt cx="2857680" cy="4276080"/>
          </a:xfrm>
        </p:grpSpPr>
        <p:pic>
          <p:nvPicPr>
            <p:cNvPr id="279" name="Picture 3" descr="lit04-04"/>
            <p:cNvPicPr/>
            <p:nvPr/>
          </p:nvPicPr>
          <p:blipFill>
            <a:blip r:embed="rId2"/>
            <a:stretch/>
          </p:blipFill>
          <p:spPr>
            <a:xfrm>
              <a:off x="179280" y="981000"/>
              <a:ext cx="2857680" cy="3810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0" name="Text Box 8"/>
            <p:cNvSpPr/>
            <p:nvPr/>
          </p:nvSpPr>
          <p:spPr>
            <a:xfrm>
              <a:off x="254160" y="4797360"/>
              <a:ext cx="26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.А. Серов, 1891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2"/>
          <p:cNvGrpSpPr/>
          <p:nvPr/>
        </p:nvGrpSpPr>
        <p:grpSpPr>
          <a:xfrm>
            <a:off x="3132000" y="981000"/>
            <a:ext cx="6085800" cy="3412440"/>
            <a:chOff x="3132000" y="981000"/>
            <a:chExt cx="6085800" cy="3412440"/>
          </a:xfrm>
        </p:grpSpPr>
        <p:pic>
          <p:nvPicPr>
            <p:cNvPr id="282" name="Picture 4" descr="В_А_Фербер_Бела в крепости_1939"/>
            <p:cNvPicPr/>
            <p:nvPr/>
          </p:nvPicPr>
          <p:blipFill>
            <a:blip r:embed="rId3"/>
            <a:stretch/>
          </p:blipFill>
          <p:spPr>
            <a:xfrm>
              <a:off x="3132000" y="981000"/>
              <a:ext cx="5508720" cy="2984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3" name="Text Box 9"/>
            <p:cNvSpPr/>
            <p:nvPr/>
          </p:nvSpPr>
          <p:spPr>
            <a:xfrm>
              <a:off x="6374520" y="3933720"/>
              <a:ext cx="28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.А. Фербер, 1939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3095640" y="4121280"/>
            <a:ext cx="6048000" cy="2612880"/>
            <a:chOff x="3095640" y="4121280"/>
            <a:chExt cx="6048000" cy="2612880"/>
          </a:xfrm>
        </p:grpSpPr>
        <p:pic>
          <p:nvPicPr>
            <p:cNvPr id="285" name="Picture 6" descr="bela2"/>
            <p:cNvPicPr/>
            <p:nvPr/>
          </p:nvPicPr>
          <p:blipFill>
            <a:blip r:embed="rId4"/>
            <a:stretch/>
          </p:blipFill>
          <p:spPr>
            <a:xfrm>
              <a:off x="3095640" y="4121280"/>
              <a:ext cx="3168720" cy="2612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6" name="Text Box 10"/>
            <p:cNvSpPr/>
            <p:nvPr/>
          </p:nvSpPr>
          <p:spPr>
            <a:xfrm>
              <a:off x="6257880" y="5950080"/>
              <a:ext cx="28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.Е. Лансере, 1914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AutoShape 14">
            <a:hlinkClick r:id="rId5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6">
            <a:hlinkClick r:id="rId6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indefinite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В_Г_Бехтерев_1936"/>
          <p:cNvPicPr/>
          <p:nvPr/>
        </p:nvPicPr>
        <p:blipFill>
          <a:blip r:embed="rId2"/>
          <a:stretch/>
        </p:blipFill>
        <p:spPr>
          <a:xfrm>
            <a:off x="250920" y="692280"/>
            <a:ext cx="383220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Picture 4" descr="М_Зичи_ Бэла и Казбич"/>
          <p:cNvPicPr/>
          <p:nvPr/>
        </p:nvPicPr>
        <p:blipFill>
          <a:blip r:embed="rId3"/>
          <a:stretch/>
        </p:blipFill>
        <p:spPr>
          <a:xfrm>
            <a:off x="4932360" y="692280"/>
            <a:ext cx="397836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2" name="Picture 6" descr="И_Е_Репин_1887"/>
          <p:cNvPicPr/>
          <p:nvPr/>
        </p:nvPicPr>
        <p:blipFill>
          <a:blip r:embed="rId4"/>
          <a:stretch/>
        </p:blipFill>
        <p:spPr>
          <a:xfrm>
            <a:off x="1990800" y="1700280"/>
            <a:ext cx="516240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3" name="Text Box 7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цена похищения Бэ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5360" y="59500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Г. Бехтерев, 1936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869800" y="592452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Зичи, 1881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279600" y="501336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.Е. Репин, 1887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12">
            <a:hlinkClick r:id="rId5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3">
            <a:hlinkClick r:id="rId6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indefinite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indefinite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эла и Печори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250920" y="1125360"/>
            <a:ext cx="4176720" cy="1511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н часто грезился ей во сне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и один мужчина никогда 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л на нее та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чатления…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250920" y="292572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юбить не может, так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чорин - инове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250920" y="4941720"/>
            <a:ext cx="4176720" cy="1511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дает от противоре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1980000" y="2540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22"/>
          <p:cNvGrpSpPr/>
          <p:nvPr/>
        </p:nvGrpSpPr>
        <p:grpSpPr>
          <a:xfrm>
            <a:off x="2249640" y="473040"/>
            <a:ext cx="4058640" cy="727200"/>
            <a:chOff x="2249640" y="473040"/>
            <a:chExt cx="4058640" cy="727200"/>
          </a:xfrm>
        </p:grpSpPr>
        <p:sp>
          <p:nvSpPr>
            <p:cNvPr id="306" name="AutoShape 14"/>
            <p:cNvSpPr/>
            <p:nvPr/>
          </p:nvSpPr>
          <p:spPr>
            <a:xfrm rot="9580800">
              <a:off x="2268360" y="695160"/>
              <a:ext cx="938160" cy="27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5"/>
            <p:cNvSpPr/>
            <p:nvPr/>
          </p:nvSpPr>
          <p:spPr>
            <a:xfrm rot="1841400">
              <a:off x="5361480" y="692280"/>
              <a:ext cx="938520" cy="2887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AutoShape 16"/>
          <p:cNvSpPr/>
          <p:nvPr/>
        </p:nvSpPr>
        <p:spPr>
          <a:xfrm rot="5400000">
            <a:off x="2071800" y="4560840"/>
            <a:ext cx="457200" cy="2095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7"/>
          <p:cNvSpPr/>
          <p:nvPr/>
        </p:nvSpPr>
        <p:spPr>
          <a:xfrm>
            <a:off x="4788000" y="1125360"/>
            <a:ext cx="4176720" cy="1511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наряжал ее , как куколк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ил и лелеял…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я ее еще люблю… я за н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отдам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4788000" y="292428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 опять ошибся: любовь дикар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ногим лучше любви знат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рыни; невежество и простосерд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е одной так же надоедают, как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кетство другой…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6732720" y="2540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0"/>
          <p:cNvSpPr/>
          <p:nvPr/>
        </p:nvSpPr>
        <p:spPr>
          <a:xfrm rot="5400000">
            <a:off x="6608880" y="4560840"/>
            <a:ext cx="457200" cy="2095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4788000" y="4941720"/>
            <a:ext cx="4176720" cy="1511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пытка приблизиться к чело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еку другой веры заканчивается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рагическ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3">
            <a:hlinkClick r:id="rId2" action="ppaction://hlinksldjump"/>
          </p:cNvPr>
          <p:cNvSpPr/>
          <p:nvPr/>
        </p:nvSpPr>
        <p:spPr>
          <a:xfrm rot="16200000">
            <a:off x="300600" y="6287040"/>
            <a:ext cx="333720" cy="718920"/>
          </a:xfrm>
          <a:custGeom>
            <a:avLst/>
            <a:gdLst>
              <a:gd name="textAreaLeft" fmla="*/ 21600 w 333720"/>
              <a:gd name="textAreaRight" fmla="*/ 312120 w 333720"/>
              <a:gd name="textAreaTop" fmla="*/ 21600 h 718920"/>
              <a:gd name="textAreaBottom" fmla="*/ 697320 h 718920"/>
            </a:gdLst>
            <a:ahLst/>
            <a:rect l="textAreaLeft" t="textAreaTop" r="textAreaRight" b="textAreaBottom"/>
            <a:pathLst>
              <a:path w="21600" h="46505">
                <a:moveTo>
                  <a:pt x="0" y="0"/>
                </a:moveTo>
                <a:lnTo>
                  <a:pt x="21600" y="0"/>
                </a:lnTo>
                <a:lnTo>
                  <a:pt x="21600" y="46505"/>
                </a:lnTo>
                <a:lnTo>
                  <a:pt x="0" y="46505"/>
                </a:lnTo>
                <a:close/>
              </a:path>
              <a:path fill="lightenLess" w="21600" h="465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505">
                <a:moveTo>
                  <a:pt x="21600" y="0"/>
                </a:moveTo>
                <a:lnTo>
                  <a:pt x="21600" y="46505"/>
                </a:lnTo>
                <a:lnTo>
                  <a:pt x="20200" y="45105"/>
                </a:lnTo>
                <a:lnTo>
                  <a:pt x="20200" y="1400"/>
                </a:lnTo>
                <a:close/>
              </a:path>
              <a:path fill="darkenLess" w="21600" h="46505">
                <a:moveTo>
                  <a:pt x="21600" y="46505"/>
                </a:moveTo>
                <a:lnTo>
                  <a:pt x="0" y="46505"/>
                </a:lnTo>
                <a:lnTo>
                  <a:pt x="1400" y="45105"/>
                </a:lnTo>
                <a:lnTo>
                  <a:pt x="20200" y="45105"/>
                </a:lnTo>
                <a:close/>
              </a:path>
              <a:path fill="lighten" w="21600" h="46505">
                <a:moveTo>
                  <a:pt x="0" y="46505"/>
                </a:moveTo>
                <a:lnTo>
                  <a:pt x="0" y="0"/>
                </a:lnTo>
                <a:lnTo>
                  <a:pt x="1400" y="1400"/>
                </a:lnTo>
                <a:lnTo>
                  <a:pt x="1400" y="45105"/>
                </a:lnTo>
                <a:close/>
              </a:path>
              <a:path fill="darken" w="21600" h="46505">
                <a:moveTo>
                  <a:pt x="3794" y="19945"/>
                </a:moveTo>
                <a:lnTo>
                  <a:pt x="7301" y="19945"/>
                </a:lnTo>
                <a:lnTo>
                  <a:pt x="7301" y="25281"/>
                </a:lnTo>
                <a:cubicBezTo>
                  <a:pt x="7301" y="26203"/>
                  <a:pt x="8102" y="26934"/>
                  <a:pt x="9138" y="26934"/>
                </a:cubicBezTo>
                <a:lnTo>
                  <a:pt x="10800" y="26934"/>
                </a:lnTo>
                <a:cubicBezTo>
                  <a:pt x="11836" y="26934"/>
                  <a:pt x="12636" y="26203"/>
                  <a:pt x="12636" y="25281"/>
                </a:cubicBezTo>
                <a:lnTo>
                  <a:pt x="12636" y="19945"/>
                </a:lnTo>
                <a:lnTo>
                  <a:pt x="10800" y="19945"/>
                </a:lnTo>
                <a:lnTo>
                  <a:pt x="14308" y="16438"/>
                </a:lnTo>
                <a:lnTo>
                  <a:pt x="17981" y="19945"/>
                </a:lnTo>
                <a:lnTo>
                  <a:pt x="16144" y="19945"/>
                </a:lnTo>
                <a:lnTo>
                  <a:pt x="16144" y="25281"/>
                </a:lnTo>
                <a:cubicBezTo>
                  <a:pt x="16144" y="28048"/>
                  <a:pt x="13568" y="30607"/>
                  <a:pt x="10800" y="30607"/>
                </a:cubicBezTo>
                <a:lnTo>
                  <a:pt x="9138" y="30607"/>
                </a:lnTo>
                <a:cubicBezTo>
                  <a:pt x="6370" y="30607"/>
                  <a:pt x="3794" y="28048"/>
                  <a:pt x="3794" y="2528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4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весть «Максим Максимы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1619280" y="692280"/>
            <a:ext cx="5905440" cy="503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ШЕНИЕ  ГЕРОЕВ К ПРОШЛ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11280" y="1413000"/>
            <a:ext cx="3274920" cy="503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5148360" y="1413000"/>
            <a:ext cx="3274920" cy="503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 Максимы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468360" y="2133720"/>
            <a:ext cx="3598920" cy="1295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прошедш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чи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0"/>
          <p:cNvSpPr/>
          <p:nvPr/>
        </p:nvSpPr>
        <p:spPr>
          <a:xfrm>
            <a:off x="468360" y="3645000"/>
            <a:ext cx="3598920" cy="1295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может и не хоч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инать спокой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историю с Бэ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21"/>
          <p:cNvSpPr/>
          <p:nvPr/>
        </p:nvSpPr>
        <p:spPr>
          <a:xfrm>
            <a:off x="468360" y="5157720"/>
            <a:ext cx="3598920" cy="1295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 в душе – не мо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ить историю с Бэ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е гибе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22"/>
          <p:cNvSpPr/>
          <p:nvPr/>
        </p:nvSpPr>
        <p:spPr>
          <a:xfrm>
            <a:off x="5003640" y="2133720"/>
            <a:ext cx="3598920" cy="1295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прошедшее ми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5003640" y="3645000"/>
            <a:ext cx="3672000" cy="1295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е воспоминани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 для беседы, котор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дет с нетерп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5003640" y="5157720"/>
            <a:ext cx="3598920" cy="12956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минания о прош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ют не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"/>
          <p:cNvSpPr/>
          <p:nvPr/>
        </p:nvSpPr>
        <p:spPr>
          <a:xfrm>
            <a:off x="2124000" y="191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6"/>
          <p:cNvSpPr/>
          <p:nvPr/>
        </p:nvSpPr>
        <p:spPr>
          <a:xfrm>
            <a:off x="212400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7"/>
          <p:cNvSpPr/>
          <p:nvPr/>
        </p:nvSpPr>
        <p:spPr>
          <a:xfrm>
            <a:off x="21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8"/>
          <p:cNvSpPr/>
          <p:nvPr/>
        </p:nvSpPr>
        <p:spPr>
          <a:xfrm>
            <a:off x="6877080" y="191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9"/>
          <p:cNvSpPr/>
          <p:nvPr/>
        </p:nvSpPr>
        <p:spPr>
          <a:xfrm>
            <a:off x="694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694836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2">
            <a:hlinkClick r:id="rId2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212400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5"/>
          <p:cNvSpPr/>
          <p:nvPr/>
        </p:nvSpPr>
        <p:spPr>
          <a:xfrm>
            <a:off x="687708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6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lit04-06"/>
          <p:cNvPicPr/>
          <p:nvPr/>
        </p:nvPicPr>
        <p:blipFill>
          <a:blip r:embed="rId2"/>
          <a:stretch/>
        </p:blipFill>
        <p:spPr>
          <a:xfrm>
            <a:off x="108000" y="907920"/>
            <a:ext cx="3409920" cy="540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0" name="Rectangle 5"/>
          <p:cNvSpPr/>
          <p:nvPr/>
        </p:nvSpPr>
        <p:spPr>
          <a:xfrm>
            <a:off x="3635280" y="909000"/>
            <a:ext cx="5400720" cy="52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же мой, боже мой! да куда это так спешите?.. Мне столько бы хотелось вам сказать... столько расспросить... Ну что? в отставке?.. как?.. что поделывали?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учал! - отвечал Печорин, улыбая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помните наше житье-бытье в крепости? Славная страна для охоты!.. Ведь вы были страстный охотник стрелять... А Бэла?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чорин чуть-чуть побледнел и отвернулся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, помню! - сказал он, почти тотчас принужденно зевнув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следняя встреча герое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">
            <a:hlinkClick r:id="rId3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8">
            <a:hlinkClick r:id="rId4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indefinite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lit04-07"/>
          <p:cNvPicPr/>
          <p:nvPr/>
        </p:nvPicPr>
        <p:blipFill>
          <a:blip r:embed="rId2"/>
          <a:stretch/>
        </p:blipFill>
        <p:spPr>
          <a:xfrm>
            <a:off x="179280" y="774720"/>
            <a:ext cx="4537080" cy="330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6" name="Rectangle 4"/>
          <p:cNvSpPr/>
          <p:nvPr/>
        </p:nvSpPr>
        <p:spPr>
          <a:xfrm>
            <a:off x="4788000" y="768600"/>
            <a:ext cx="42418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но уж не слышно было ни звона колокольчика, ни стука колес по кремнистой дороге, - а бедный старик еще стоял на том же месте в глубокой задумчив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33200" y="4295880"/>
            <a:ext cx="887760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…&gt; сказал он наконец, стараясь принять равнодушный вид, хотя слеза досады по временам сверкала на его ресницах &lt;…&gt; Эти слова были произнесены с иронической улыбкой. &lt;…&gt; Тут он отвернулся, чтоб скрыть свое волнение, пошел ходить по двору около своей повозки, показывая, будто осматривает колеса, тогда как глаза его поминутно наполнялись слез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052640" y="4362840"/>
            <a:ext cx="776736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посмотрел на меня с удивлением, проворчал что-то сквозь зубы и начал рыться в чемодане; вот он вынул одну тетрадку и бросил ее с презрением на землю; потом другая, третья и десятая имели ту же участь: в его досаде было что-то детское; мне стало смешно и жалко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Максим Максимы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">
            <a:hlinkClick r:id="rId3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9">
            <a:hlinkClick r:id="rId4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indefinite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0" y="-169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весть «Тамань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"/>
          <p:cNvGrpSpPr/>
          <p:nvPr/>
        </p:nvGrpSpPr>
        <p:grpSpPr>
          <a:xfrm>
            <a:off x="4572000" y="981000"/>
            <a:ext cx="4341600" cy="3360240"/>
            <a:chOff x="4572000" y="981000"/>
            <a:chExt cx="4341600" cy="3360240"/>
          </a:xfrm>
        </p:grpSpPr>
        <p:pic>
          <p:nvPicPr>
            <p:cNvPr id="355" name="Picture 5" descr="lit04-08"/>
            <p:cNvPicPr/>
            <p:nvPr/>
          </p:nvPicPr>
          <p:blipFill>
            <a:blip r:embed="rId2"/>
            <a:stretch/>
          </p:blipFill>
          <p:spPr>
            <a:xfrm>
              <a:off x="4592520" y="981000"/>
              <a:ext cx="431964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7"/>
            <p:cNvSpPr/>
            <p:nvPr/>
          </p:nvSpPr>
          <p:spPr>
            <a:xfrm>
              <a:off x="4572000" y="3881520"/>
              <a:ext cx="43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.Ю. Лермонтов, 1837 г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395280" y="981000"/>
            <a:ext cx="3834000" cy="5233320"/>
            <a:chOff x="395280" y="981000"/>
            <a:chExt cx="3834000" cy="5233320"/>
          </a:xfrm>
        </p:grpSpPr>
        <p:pic>
          <p:nvPicPr>
            <p:cNvPr id="358" name="Picture 6" descr="Константинов_1962"/>
            <p:cNvPicPr/>
            <p:nvPr/>
          </p:nvPicPr>
          <p:blipFill>
            <a:blip r:embed="rId3"/>
            <a:stretch/>
          </p:blipFill>
          <p:spPr>
            <a:xfrm>
              <a:off x="395280" y="981000"/>
              <a:ext cx="380520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8"/>
            <p:cNvSpPr/>
            <p:nvPr/>
          </p:nvSpPr>
          <p:spPr>
            <a:xfrm>
              <a:off x="412920" y="575460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.Д. Константинов, 1962 г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AutoShape 11">
            <a:hlinkClick r:id="rId4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>
            <a:hlinkClick r:id="rId5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lit04-09"/>
          <p:cNvPicPr/>
          <p:nvPr/>
        </p:nvPicPr>
        <p:blipFill>
          <a:blip r:embed="rId2"/>
          <a:stretch/>
        </p:blipFill>
        <p:spPr>
          <a:xfrm>
            <a:off x="5003640" y="549360"/>
            <a:ext cx="3181680" cy="380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2-5"/>
          <p:cNvPicPr/>
          <p:nvPr/>
        </p:nvPicPr>
        <p:blipFill>
          <a:blip r:embed="rId3"/>
          <a:stretch/>
        </p:blipFill>
        <p:spPr>
          <a:xfrm>
            <a:off x="250920" y="549360"/>
            <a:ext cx="4263840" cy="499572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6">
            <a:hlinkClick r:id="rId4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5005080" y="52293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Е. Фейнберг, 1941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8">
            <a:hlinkClick r:id="rId5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-1865520" y="-171360"/>
            <a:ext cx="1280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Отношение Печорина к героя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826920" y="692280"/>
            <a:ext cx="3816360" cy="3585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пов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148360" y="692280"/>
            <a:ext cx="3816360" cy="3585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пов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/>
          <p:cNvSpPr/>
          <p:nvPr/>
        </p:nvSpPr>
        <p:spPr>
          <a:xfrm rot="16200000">
            <a:off x="-721080" y="2385360"/>
            <a:ext cx="2303280" cy="3585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пой маль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/>
          <p:cNvSpPr/>
          <p:nvPr/>
        </p:nvSpPr>
        <p:spPr>
          <a:xfrm rot="16200000">
            <a:off x="-721080" y="5050800"/>
            <a:ext cx="2303280" cy="3585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д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5148360" y="4149720"/>
            <a:ext cx="3816360" cy="2160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…и между нами началась отча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нная борьба;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но я скоро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метил, что уступаю моему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тивнику в ловкости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…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верхъестественным усилие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валила меня на борт…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5148360" y="1484280"/>
            <a:ext cx="3816360" cy="2160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Слепой мальчик точно плакал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 долго, долго… Мне стало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рустно»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дьба мальчика вызыва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чувстви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5219640" y="2924280"/>
            <a:ext cx="576360" cy="269640"/>
          </a:xfrm>
          <a:prstGeom prst="rightArrow">
            <a:avLst>
              <a:gd name="adj1" fmla="val 50000"/>
              <a:gd name="adj2" fmla="val 534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755640" y="4148280"/>
            <a:ext cx="3889440" cy="2160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Странное существо…эти глаза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залось, были одарены какой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 магнетической властью… Он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ыла далеко не красавица…В не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ыло много породы… Хотя в ее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свенных взглядах я читал что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 дикое и подозрительное…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3"/>
          <p:cNvSpPr/>
          <p:nvPr/>
        </p:nvSpPr>
        <p:spPr>
          <a:xfrm>
            <a:off x="755640" y="1484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…я имею сильное предубежде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ие против всех слепых, кривых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лухих… я глядел на него с не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льным сожалением… улыбка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извела на меня самое непри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тное впечатление…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4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5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indefinite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352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История созда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184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36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замысел романа. Герой – молодой гвардейский офице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ытия  разворачиваются на фоне  столичной 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83600" y="2924280"/>
            <a:ext cx="87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37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ле  первой  ссылки на Кавказ  замысел  меняетс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чатления  Лермонтова  от  поездки  в  Пятигорс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ловодск, в казачьи станицы, от пребывания в мес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евых  действий,  посещения  Тамани,  встречи  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сыльными декабри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496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37 – 1840 г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ремя написания ром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>
            <a:hlinkClick r:id="rId2" action="ppaction://hlinksldjump"/>
          </p:cNvPr>
          <p:cNvSpPr/>
          <p:nvPr/>
        </p:nvSpPr>
        <p:spPr>
          <a:xfrm rot="16200000">
            <a:off x="268920" y="6327000"/>
            <a:ext cx="325440" cy="64764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42961">
                <a:moveTo>
                  <a:pt x="0" y="0"/>
                </a:moveTo>
                <a:lnTo>
                  <a:pt x="21600" y="0"/>
                </a:lnTo>
                <a:lnTo>
                  <a:pt x="21600" y="42961"/>
                </a:lnTo>
                <a:lnTo>
                  <a:pt x="0" y="42961"/>
                </a:lnTo>
                <a:close/>
              </a:path>
              <a:path fill="lightenLess" w="21600" h="42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61">
                <a:moveTo>
                  <a:pt x="21600" y="0"/>
                </a:moveTo>
                <a:lnTo>
                  <a:pt x="21600" y="42961"/>
                </a:lnTo>
                <a:lnTo>
                  <a:pt x="20200" y="41561"/>
                </a:lnTo>
                <a:lnTo>
                  <a:pt x="20200" y="1400"/>
                </a:lnTo>
                <a:close/>
              </a:path>
              <a:path fill="darkenLess" w="21600" h="42961">
                <a:moveTo>
                  <a:pt x="21600" y="42961"/>
                </a:moveTo>
                <a:lnTo>
                  <a:pt x="0" y="42961"/>
                </a:lnTo>
                <a:lnTo>
                  <a:pt x="1400" y="41561"/>
                </a:lnTo>
                <a:lnTo>
                  <a:pt x="20200" y="41561"/>
                </a:lnTo>
                <a:close/>
              </a:path>
              <a:path fill="lighten" w="21600" h="42961">
                <a:moveTo>
                  <a:pt x="0" y="42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61"/>
                </a:lnTo>
                <a:close/>
              </a:path>
              <a:path fill="darken" w="21600" h="42961">
                <a:moveTo>
                  <a:pt x="3794" y="18173"/>
                </a:moveTo>
                <a:lnTo>
                  <a:pt x="7301" y="18173"/>
                </a:lnTo>
                <a:lnTo>
                  <a:pt x="7301" y="23509"/>
                </a:lnTo>
                <a:cubicBezTo>
                  <a:pt x="7301" y="24431"/>
                  <a:pt x="8102" y="25162"/>
                  <a:pt x="9138" y="25162"/>
                </a:cubicBezTo>
                <a:lnTo>
                  <a:pt x="10800" y="25162"/>
                </a:lnTo>
                <a:cubicBezTo>
                  <a:pt x="11836" y="25162"/>
                  <a:pt x="12636" y="24431"/>
                  <a:pt x="12636" y="23509"/>
                </a:cubicBezTo>
                <a:lnTo>
                  <a:pt x="12636" y="18173"/>
                </a:lnTo>
                <a:lnTo>
                  <a:pt x="10800" y="18173"/>
                </a:lnTo>
                <a:lnTo>
                  <a:pt x="14308" y="14666"/>
                </a:lnTo>
                <a:lnTo>
                  <a:pt x="17981" y="18173"/>
                </a:lnTo>
                <a:lnTo>
                  <a:pt x="16144" y="18173"/>
                </a:lnTo>
                <a:lnTo>
                  <a:pt x="16144" y="23509"/>
                </a:lnTo>
                <a:cubicBezTo>
                  <a:pt x="16144" y="26276"/>
                  <a:pt x="13568" y="28835"/>
                  <a:pt x="10800" y="28835"/>
                </a:cubicBezTo>
                <a:lnTo>
                  <a:pt x="9138" y="28835"/>
                </a:lnTo>
                <a:cubicBezTo>
                  <a:pt x="6370" y="28835"/>
                  <a:pt x="3794" y="26276"/>
                  <a:pt x="3794" y="2350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lit04-18"/>
          <p:cNvPicPr/>
          <p:nvPr/>
        </p:nvPicPr>
        <p:blipFill>
          <a:blip r:embed="rId2"/>
          <a:stretch/>
        </p:blipFill>
        <p:spPr>
          <a:xfrm>
            <a:off x="250920" y="692280"/>
            <a:ext cx="2152440" cy="36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3" name="Text Box 4"/>
          <p:cNvSpPr/>
          <p:nvPr/>
        </p:nvSpPr>
        <p:spPr>
          <a:xfrm>
            <a:off x="2769480" y="858960"/>
            <a:ext cx="607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од, неопы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вства пылки и стремитель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чатлителен, романти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щет приключений, готов риско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поступки – желание проникнуть во в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йны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696200" y="2971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768040" y="330516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щущение мира как тайны, интерес к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няются равнодушием и разочарова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250920" y="460224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239040" y="4724280"/>
            <a:ext cx="84484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а и какое мне дело до радостей и бедствий человечески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, странствующему офицеру, да еще с подорожной по каз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й надобности!.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ечори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0">
            <a:hlinkClick r:id="rId3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1">
            <a:hlinkClick r:id="rId4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indefinite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1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8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7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2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весть «Княжна Мери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Lre240-17"/>
          <p:cNvPicPr/>
          <p:nvPr/>
        </p:nvPicPr>
        <p:blipFill>
          <a:blip r:embed="rId2"/>
          <a:stretch/>
        </p:blipFill>
        <p:spPr>
          <a:xfrm>
            <a:off x="250920" y="763560"/>
            <a:ext cx="6086520" cy="47530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7"/>
          <p:cNvSpPr/>
          <p:nvPr/>
        </p:nvSpPr>
        <p:spPr>
          <a:xfrm>
            <a:off x="250920" y="5516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Ю. Лермонтов, вид Пятигорска, 193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8">
            <a:hlinkClick r:id="rId3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9">
            <a:hlinkClick r:id="rId4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0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ечорин и «водяное» обще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234000" y="1639800"/>
            <a:ext cx="444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итив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цемерны, неискрен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ны на об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пособны понять и при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чорина таким, какой он е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719960" y="1628640"/>
            <a:ext cx="43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рожденная страсть прот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ечить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ыть всегда настороже, л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ь каждый взгляд, зна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ого  слова,  угадывать н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ение,  разрушать  заговор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воряться   обманутым, 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руг  одним  толчком опрок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ть все огромное и многотру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е  здание из  хитростей  и  з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слов  –  вот  что  я  называ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ю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635040" y="110016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одяное» 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6124680" y="11001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4"/>
          <p:cNvSpPr/>
          <p:nvPr/>
        </p:nvSpPr>
        <p:spPr>
          <a:xfrm flipH="1" rot="16200000">
            <a:off x="4096080" y="3954240"/>
            <a:ext cx="279360" cy="4270680"/>
          </a:xfrm>
          <a:custGeom>
            <a:avLst/>
            <a:gdLst>
              <a:gd name="textAreaLeft" fmla="*/ 0 w 279360"/>
              <a:gd name="textAreaRight" fmla="*/ 100800 w 279360"/>
              <a:gd name="textAreaTop" fmla="*/ 111240 h 4270680"/>
              <a:gd name="textAreaBottom" fmla="*/ 4159440 h 427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3276360" y="623736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6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17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indefinite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5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2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4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3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8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8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-141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Грушницкий – карикатура на Печ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0" y="907920"/>
            <a:ext cx="914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ятигорск Грушницкий приехал, чтобы «сделаться героем  роман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н не знает людей и их слабых струн, потому что занимался  целу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знь одним собою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оворит «пышными фразами», «важно драпируется в необыкновен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увства, возвышенные  страсти и исключительные страдания. Произво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ть эффект – его наслаждение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душе его нет «ни на грош поэзии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…Я его понял, и за это он меня не  любит, хотя  мы  наружно в  самых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жеских  отношениях… я   его тоже  не  люблю:  я чувствую, что м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да-нибудь  с  ним  столкнемся  на  узкой  дороге,  и  одному  из  нас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сдобровать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2700360" y="620640"/>
            <a:ext cx="3456000" cy="360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ми Печо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2700360" y="4365720"/>
            <a:ext cx="3456000" cy="360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ми чит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4920" y="4653000"/>
            <a:ext cx="9109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особен на подлость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ман (дуэль с Печорины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же на границе жизни и смерти самолюбие Грушницкого оказывается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льнее чес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время пытается кому-то подраж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ядом с Печориным выглядит жалким и смеш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8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9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0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6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6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7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1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0" y="-698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4" descr="княжна мери и грушницкий_М Врубель_1890_91"/>
          <p:cNvPicPr/>
          <p:nvPr/>
        </p:nvPicPr>
        <p:blipFill>
          <a:blip r:embed="rId2"/>
          <a:stretch/>
        </p:blipFill>
        <p:spPr>
          <a:xfrm>
            <a:off x="250920" y="692280"/>
            <a:ext cx="3628800" cy="5329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Д_А_Шмаринов_194"/>
          <p:cNvPicPr/>
          <p:nvPr/>
        </p:nvPicPr>
        <p:blipFill>
          <a:blip r:embed="rId3"/>
          <a:stretch/>
        </p:blipFill>
        <p:spPr>
          <a:xfrm>
            <a:off x="5197320" y="692280"/>
            <a:ext cx="3657600" cy="5329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цена у колодц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50920" y="59500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рубель, 1890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5003640" y="59245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А. Шмаринов, 1941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9">
            <a:hlinkClick r:id="rId4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0">
            <a:hlinkClick r:id="rId5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indefinite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0" y="-169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очь перед дуэль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lit04-20"/>
          <p:cNvPicPr/>
          <p:nvPr/>
        </p:nvPicPr>
        <p:blipFill>
          <a:blip r:embed="rId2"/>
          <a:stretch/>
        </p:blipFill>
        <p:spPr>
          <a:xfrm>
            <a:off x="250920" y="765000"/>
            <a:ext cx="3593880" cy="446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lit04-19"/>
          <p:cNvPicPr/>
          <p:nvPr/>
        </p:nvPicPr>
        <p:blipFill>
          <a:blip r:embed="rId3"/>
          <a:stretch/>
        </p:blipFill>
        <p:spPr>
          <a:xfrm>
            <a:off x="4218120" y="765000"/>
            <a:ext cx="4674960" cy="30402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4140360" y="4438800"/>
            <a:ext cx="50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рывок из телеспектакля «Страницы журнала Печорина», реж. А. Эфрос, 1975 г. Печорин – Олег Д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211640" y="3789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А. Врубель, 1890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50920" y="522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А. Шмаринов, 1941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4572000" y="5589720"/>
            <a:ext cx="383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рывок из к/ф «Княжна Мер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ж. И. Анненский, 1955 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чорин – Анатолий Вербиц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11">
            <a:hlinkClick r:id="rId4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12">
            <a:hlinkClick r:id="rId5"/>
          </p:cNvPr>
          <p:cNvSpPr/>
          <p:nvPr/>
        </p:nvSpPr>
        <p:spPr>
          <a:xfrm>
            <a:off x="3995640" y="4437000"/>
            <a:ext cx="5004000" cy="1008000"/>
          </a:xfrm>
          <a:custGeom>
            <a:avLst/>
            <a:gdLst>
              <a:gd name="textAreaLeft" fmla="*/ 65160 w 5004000"/>
              <a:gd name="textAreaRight" fmla="*/ 4938840 w 500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107198" h="21600">
                <a:moveTo>
                  <a:pt x="0" y="0"/>
                </a:moveTo>
                <a:lnTo>
                  <a:pt x="107198" y="0"/>
                </a:lnTo>
                <a:lnTo>
                  <a:pt x="107198" y="21600"/>
                </a:lnTo>
                <a:lnTo>
                  <a:pt x="0" y="21600"/>
                </a:lnTo>
                <a:close/>
              </a:path>
              <a:path fill="lightenLess" w="107198" h="21600">
                <a:moveTo>
                  <a:pt x="0" y="0"/>
                </a:moveTo>
                <a:lnTo>
                  <a:pt x="107198" y="0"/>
                </a:lnTo>
                <a:lnTo>
                  <a:pt x="105798" y="1400"/>
                </a:lnTo>
                <a:lnTo>
                  <a:pt x="1400" y="1400"/>
                </a:lnTo>
                <a:close/>
              </a:path>
              <a:path fill="darken" w="107198" h="21600">
                <a:moveTo>
                  <a:pt x="107198" y="0"/>
                </a:moveTo>
                <a:lnTo>
                  <a:pt x="107198" y="21600"/>
                </a:lnTo>
                <a:lnTo>
                  <a:pt x="105798" y="20200"/>
                </a:lnTo>
                <a:lnTo>
                  <a:pt x="105798" y="1400"/>
                </a:lnTo>
                <a:close/>
              </a:path>
              <a:path fill="darkenLess" w="107198" h="21600">
                <a:moveTo>
                  <a:pt x="107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798" y="20200"/>
                </a:lnTo>
                <a:close/>
              </a:path>
              <a:path fill="lighten" w="107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13">
            <a:hlinkClick r:id="rId6"/>
          </p:cNvPr>
          <p:cNvSpPr/>
          <p:nvPr/>
        </p:nvSpPr>
        <p:spPr>
          <a:xfrm>
            <a:off x="4572000" y="5661000"/>
            <a:ext cx="3672000" cy="1042920"/>
          </a:xfrm>
          <a:custGeom>
            <a:avLst/>
            <a:gdLst>
              <a:gd name="textAreaLeft" fmla="*/ 67320 w 3672000"/>
              <a:gd name="textAreaRight" fmla="*/ 3604680 w 367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76032" h="21600">
                <a:moveTo>
                  <a:pt x="0" y="0"/>
                </a:moveTo>
                <a:lnTo>
                  <a:pt x="76032" y="0"/>
                </a:lnTo>
                <a:lnTo>
                  <a:pt x="76032" y="21600"/>
                </a:lnTo>
                <a:lnTo>
                  <a:pt x="0" y="21600"/>
                </a:lnTo>
                <a:close/>
              </a:path>
              <a:path fill="lightenLess" w="76032" h="21600">
                <a:moveTo>
                  <a:pt x="0" y="0"/>
                </a:moveTo>
                <a:lnTo>
                  <a:pt x="76032" y="0"/>
                </a:lnTo>
                <a:lnTo>
                  <a:pt x="74632" y="1400"/>
                </a:lnTo>
                <a:lnTo>
                  <a:pt x="1400" y="1400"/>
                </a:lnTo>
                <a:close/>
              </a:path>
              <a:path fill="darken" w="76032" h="21600">
                <a:moveTo>
                  <a:pt x="76032" y="0"/>
                </a:moveTo>
                <a:lnTo>
                  <a:pt x="76032" y="21600"/>
                </a:lnTo>
                <a:lnTo>
                  <a:pt x="74632" y="20200"/>
                </a:lnTo>
                <a:lnTo>
                  <a:pt x="74632" y="1400"/>
                </a:lnTo>
                <a:close/>
              </a:path>
              <a:path fill="darkenLess" w="76032" h="21600">
                <a:moveTo>
                  <a:pt x="76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632" y="20200"/>
                </a:lnTo>
                <a:close/>
              </a:path>
              <a:path fill="lighten" w="76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14">
            <a:hlinkClick r:id="rId7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0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indefinite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2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уэль с Грушницки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lit04-13"/>
          <p:cNvPicPr/>
          <p:nvPr/>
        </p:nvPicPr>
        <p:blipFill>
          <a:blip r:embed="rId2"/>
          <a:stretch/>
        </p:blipFill>
        <p:spPr>
          <a:xfrm>
            <a:off x="250920" y="765000"/>
            <a:ext cx="3485880" cy="4392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lit04-14"/>
          <p:cNvPicPr/>
          <p:nvPr/>
        </p:nvPicPr>
        <p:blipFill>
          <a:blip r:embed="rId3"/>
          <a:stretch/>
        </p:blipFill>
        <p:spPr>
          <a:xfrm>
            <a:off x="5076720" y="76356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6"/>
          <p:cNvSpPr/>
          <p:nvPr/>
        </p:nvSpPr>
        <p:spPr>
          <a:xfrm>
            <a:off x="34920" y="53737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рывок из телеспектакля «Страницы журнала Печорина», реж. А. Эфрос, 1975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чорин – Олег Дал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рушницкий – Андрей Ми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932360" y="555156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рывок из к/ф «Княжна Мери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еж. И. Анненский, 1955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чорин – Анатолий Вербицкий, Грушницкий – Л. Губан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3840" y="5089680"/>
            <a:ext cx="38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.А. Врубель, 1890 – 1891 г.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5724360" y="5229360"/>
            <a:ext cx="303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.А. Шмаринов, 1941 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0">
            <a:hlinkClick r:id="rId4" action="ppaction://hlinksldjump"/>
          </p:cNvPr>
          <p:cNvSpPr/>
          <p:nvPr/>
        </p:nvSpPr>
        <p:spPr>
          <a:xfrm rot="16200000">
            <a:off x="394200" y="6309000"/>
            <a:ext cx="289080" cy="719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53704">
                <a:moveTo>
                  <a:pt x="0" y="0"/>
                </a:moveTo>
                <a:lnTo>
                  <a:pt x="21600" y="0"/>
                </a:lnTo>
                <a:lnTo>
                  <a:pt x="21600" y="53704"/>
                </a:lnTo>
                <a:lnTo>
                  <a:pt x="0" y="53704"/>
                </a:lnTo>
                <a:close/>
              </a:path>
              <a:path fill="lightenLess" w="21600" h="53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704">
                <a:moveTo>
                  <a:pt x="21600" y="0"/>
                </a:moveTo>
                <a:lnTo>
                  <a:pt x="21600" y="53704"/>
                </a:lnTo>
                <a:lnTo>
                  <a:pt x="20200" y="52304"/>
                </a:lnTo>
                <a:lnTo>
                  <a:pt x="20200" y="1400"/>
                </a:lnTo>
                <a:close/>
              </a:path>
              <a:path fill="darkenLess" w="21600" h="53704">
                <a:moveTo>
                  <a:pt x="21600" y="53704"/>
                </a:moveTo>
                <a:lnTo>
                  <a:pt x="0" y="53704"/>
                </a:lnTo>
                <a:lnTo>
                  <a:pt x="1400" y="52304"/>
                </a:lnTo>
                <a:lnTo>
                  <a:pt x="20200" y="52304"/>
                </a:lnTo>
                <a:close/>
              </a:path>
              <a:path fill="lighten" w="21600" h="53704">
                <a:moveTo>
                  <a:pt x="0" y="53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52304"/>
                </a:lnTo>
                <a:close/>
              </a:path>
              <a:path fill="darken" w="21600" h="53704">
                <a:moveTo>
                  <a:pt x="3794" y="23545"/>
                </a:moveTo>
                <a:lnTo>
                  <a:pt x="7301" y="23545"/>
                </a:lnTo>
                <a:lnTo>
                  <a:pt x="7301" y="28880"/>
                </a:lnTo>
                <a:cubicBezTo>
                  <a:pt x="7301" y="29803"/>
                  <a:pt x="8102" y="30534"/>
                  <a:pt x="9138" y="30534"/>
                </a:cubicBezTo>
                <a:lnTo>
                  <a:pt x="10800" y="30534"/>
                </a:lnTo>
                <a:cubicBezTo>
                  <a:pt x="11836" y="30534"/>
                  <a:pt x="12636" y="29803"/>
                  <a:pt x="12636" y="28880"/>
                </a:cubicBezTo>
                <a:lnTo>
                  <a:pt x="12636" y="23545"/>
                </a:lnTo>
                <a:lnTo>
                  <a:pt x="10800" y="23545"/>
                </a:lnTo>
                <a:lnTo>
                  <a:pt x="14308" y="20037"/>
                </a:lnTo>
                <a:lnTo>
                  <a:pt x="17981" y="23545"/>
                </a:lnTo>
                <a:lnTo>
                  <a:pt x="16144" y="23545"/>
                </a:lnTo>
                <a:lnTo>
                  <a:pt x="16144" y="28880"/>
                </a:lnTo>
                <a:cubicBezTo>
                  <a:pt x="16144" y="31648"/>
                  <a:pt x="13568" y="34207"/>
                  <a:pt x="10800" y="34207"/>
                </a:cubicBezTo>
                <a:lnTo>
                  <a:pt x="9138" y="34207"/>
                </a:lnTo>
                <a:cubicBezTo>
                  <a:pt x="6370" y="34207"/>
                  <a:pt x="3794" y="31648"/>
                  <a:pt x="3794" y="28880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1">
            <a:hlinkClick r:id="rId5"/>
          </p:cNvPr>
          <p:cNvSpPr/>
          <p:nvPr/>
        </p:nvSpPr>
        <p:spPr>
          <a:xfrm>
            <a:off x="0" y="5445000"/>
            <a:ext cx="4211640" cy="936720"/>
          </a:xfrm>
          <a:custGeom>
            <a:avLst/>
            <a:gdLst>
              <a:gd name="textAreaLeft" fmla="*/ 60480 w 4211640"/>
              <a:gd name="textAreaRight" fmla="*/ 4151160 w 421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7088" h="21600">
                <a:moveTo>
                  <a:pt x="0" y="0"/>
                </a:moveTo>
                <a:lnTo>
                  <a:pt x="97088" y="0"/>
                </a:lnTo>
                <a:lnTo>
                  <a:pt x="97088" y="21600"/>
                </a:lnTo>
                <a:lnTo>
                  <a:pt x="0" y="21600"/>
                </a:lnTo>
                <a:close/>
              </a:path>
              <a:path fill="lightenLess" w="97088" h="21600">
                <a:moveTo>
                  <a:pt x="0" y="0"/>
                </a:moveTo>
                <a:lnTo>
                  <a:pt x="97088" y="0"/>
                </a:lnTo>
                <a:lnTo>
                  <a:pt x="95688" y="1400"/>
                </a:lnTo>
                <a:lnTo>
                  <a:pt x="1400" y="1400"/>
                </a:lnTo>
                <a:close/>
              </a:path>
              <a:path fill="darken" w="97088" h="21600">
                <a:moveTo>
                  <a:pt x="97088" y="0"/>
                </a:moveTo>
                <a:lnTo>
                  <a:pt x="97088" y="21600"/>
                </a:lnTo>
                <a:lnTo>
                  <a:pt x="95688" y="20200"/>
                </a:lnTo>
                <a:lnTo>
                  <a:pt x="95688" y="1400"/>
                </a:lnTo>
                <a:close/>
              </a:path>
              <a:path fill="darkenLess" w="97088" h="21600">
                <a:moveTo>
                  <a:pt x="9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88" y="20200"/>
                </a:lnTo>
                <a:close/>
              </a:path>
              <a:path fill="lighten" w="9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2">
            <a:hlinkClick r:id="rId6"/>
          </p:cNvPr>
          <p:cNvSpPr/>
          <p:nvPr/>
        </p:nvSpPr>
        <p:spPr>
          <a:xfrm>
            <a:off x="5003640" y="5661000"/>
            <a:ext cx="3168720" cy="1042920"/>
          </a:xfrm>
          <a:custGeom>
            <a:avLst/>
            <a:gdLst>
              <a:gd name="textAreaLeft" fmla="*/ 67320 w 3168720"/>
              <a:gd name="textAreaRight" fmla="*/ 3101400 w 31687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5612" h="21600">
                <a:moveTo>
                  <a:pt x="0" y="0"/>
                </a:moveTo>
                <a:lnTo>
                  <a:pt x="65612" y="0"/>
                </a:lnTo>
                <a:lnTo>
                  <a:pt x="65612" y="21600"/>
                </a:lnTo>
                <a:lnTo>
                  <a:pt x="0" y="21600"/>
                </a:lnTo>
                <a:close/>
              </a:path>
              <a:path fill="lightenLess" w="65612" h="21600">
                <a:moveTo>
                  <a:pt x="0" y="0"/>
                </a:moveTo>
                <a:lnTo>
                  <a:pt x="65612" y="0"/>
                </a:lnTo>
                <a:lnTo>
                  <a:pt x="64212" y="1400"/>
                </a:lnTo>
                <a:lnTo>
                  <a:pt x="1400" y="1400"/>
                </a:lnTo>
                <a:close/>
              </a:path>
              <a:path fill="darken" w="65612" h="21600">
                <a:moveTo>
                  <a:pt x="65612" y="0"/>
                </a:moveTo>
                <a:lnTo>
                  <a:pt x="65612" y="21600"/>
                </a:lnTo>
                <a:lnTo>
                  <a:pt x="64212" y="20200"/>
                </a:lnTo>
                <a:lnTo>
                  <a:pt x="64212" y="1400"/>
                </a:lnTo>
                <a:close/>
              </a:path>
              <a:path fill="darkenLess" w="65612" h="21600">
                <a:moveTo>
                  <a:pt x="65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12" y="20200"/>
                </a:lnTo>
                <a:close/>
              </a:path>
              <a:path fill="lighten" w="65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3">
            <a:hlinkClick r:id="rId7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indefinite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ернер – «двойник» Печор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249120" y="1052640"/>
            <a:ext cx="865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определению Печорина, «человек замечательный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убокий и острый м, проницательность, наблюдатель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ет людей: «Он изучал все живые струны сердца человеческого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оброе сердце («плакал над умирающим солдатом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рывает свои чувства и настроения под маской иронии и насмеш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11280" y="3174840"/>
            <a:ext cx="8208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ЛИ ПЕЧОРИН И ВЕРНЕР БЫТЬ ДРУЗЬЯМ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62640" y="470052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ЧОРИ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835280" y="4092480"/>
            <a:ext cx="7057800" cy="21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Мы друг друга скоро поняли и сделались приятелями, потому что я к дружбе не способен: из двух друзей всегда один раб другого, хотя часто ни одни из них в этом себе не признается; рабом я быть не могу, а повелевать в этом случае – труд утомительный, потому что надо вместе с этим и обманывать…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8">
            <a:hlinkClick r:id="rId2" action="ppaction://hlinksldjump"/>
          </p:cNvPr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9">
            <a:hlinkClick r:id="rId3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5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2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9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6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lit04-15"/>
          <p:cNvPicPr/>
          <p:nvPr/>
        </p:nvPicPr>
        <p:blipFill>
          <a:blip r:embed="rId2"/>
          <a:stretch/>
        </p:blipFill>
        <p:spPr>
          <a:xfrm>
            <a:off x="179280" y="371628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ечорин и Мер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AutoShape 10"/>
          <p:cNvCxnSpPr>
            <a:stCxn id="460" idx="3"/>
            <a:endCxn id="461" idx="0"/>
          </p:cNvCxnSpPr>
          <p:nvPr/>
        </p:nvCxnSpPr>
        <p:spPr>
          <a:xfrm>
            <a:off x="2124000" y="1000080"/>
            <a:ext cx="1224720" cy="23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AutoShape 13"/>
          <p:cNvCxnSpPr>
            <a:stCxn id="463" idx="3"/>
            <a:endCxn id="464" idx="0"/>
          </p:cNvCxnSpPr>
          <p:nvPr/>
        </p:nvCxnSpPr>
        <p:spPr>
          <a:xfrm>
            <a:off x="6587640" y="1969920"/>
            <a:ext cx="1321200" cy="30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65" name="Group 31"/>
          <p:cNvGrpSpPr/>
          <p:nvPr/>
        </p:nvGrpSpPr>
        <p:grpSpPr>
          <a:xfrm>
            <a:off x="258840" y="765000"/>
            <a:ext cx="1857240" cy="2413800"/>
            <a:chOff x="258840" y="765000"/>
            <a:chExt cx="1857240" cy="2413800"/>
          </a:xfrm>
        </p:grpSpPr>
        <p:sp>
          <p:nvSpPr>
            <p:cNvPr id="460" name="Text Box 6"/>
            <p:cNvSpPr/>
            <p:nvPr/>
          </p:nvSpPr>
          <p:spPr>
            <a:xfrm>
              <a:off x="258840" y="765000"/>
              <a:ext cx="18572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здраж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447840" y="1865160"/>
              <a:ext cx="1603080" cy="131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тсутствие внимания со стороны Печори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7" name="AutoShape 15"/>
          <p:cNvCxnSpPr>
            <a:stCxn id="466" idx="0"/>
            <a:endCxn id="460" idx="2"/>
          </p:cNvCxnSpPr>
          <p:nvPr/>
        </p:nvCxnSpPr>
        <p:spPr>
          <a:xfrm flipV="1" rot="16200000">
            <a:off x="902880" y="1518480"/>
            <a:ext cx="630720" cy="6264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68" name="Group 32"/>
          <p:cNvGrpSpPr/>
          <p:nvPr/>
        </p:nvGrpSpPr>
        <p:grpSpPr>
          <a:xfrm>
            <a:off x="2411280" y="1230480"/>
            <a:ext cx="1873440" cy="2259360"/>
            <a:chOff x="2411280" y="1230480"/>
            <a:chExt cx="1873440" cy="2259360"/>
          </a:xfrm>
        </p:grpSpPr>
        <p:sp>
          <p:nvSpPr>
            <p:cNvPr id="461" name="Text Box 7"/>
            <p:cNvSpPr/>
            <p:nvPr/>
          </p:nvSpPr>
          <p:spPr>
            <a:xfrm>
              <a:off x="2411280" y="1230480"/>
              <a:ext cx="1873440" cy="155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нависть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6"/>
            <p:cNvSpPr/>
            <p:nvPr/>
          </p:nvSpPr>
          <p:spPr>
            <a:xfrm>
              <a:off x="2535120" y="2481120"/>
              <a:ext cx="1605240" cy="100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«Дерзкие»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туп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чорина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0" name="AutoShape 20"/>
          <p:cNvCxnSpPr/>
          <p:nvPr/>
        </p:nvCxnSpPr>
        <p:spPr>
          <a:xfrm flipH="1" flipV="1" rot="5400000">
            <a:off x="2962080" y="2085120"/>
            <a:ext cx="7815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71" name="Group 33"/>
          <p:cNvGrpSpPr/>
          <p:nvPr/>
        </p:nvGrpSpPr>
        <p:grpSpPr>
          <a:xfrm>
            <a:off x="4284720" y="1465200"/>
            <a:ext cx="2303280" cy="2540880"/>
            <a:chOff x="4284720" y="1465200"/>
            <a:chExt cx="2303280" cy="2540880"/>
          </a:xfrm>
        </p:grpSpPr>
        <p:sp>
          <p:nvSpPr>
            <p:cNvPr id="463" name="Text Box 8"/>
            <p:cNvSpPr/>
            <p:nvPr/>
          </p:nvSpPr>
          <p:spPr>
            <a:xfrm>
              <a:off x="4572000" y="1735200"/>
              <a:ext cx="20160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нте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2" name="AutoShape 12"/>
            <p:cNvCxnSpPr>
              <a:stCxn id="461" idx="3"/>
              <a:endCxn id="463" idx="0"/>
            </p:cNvCxnSpPr>
            <p:nvPr/>
          </p:nvCxnSpPr>
          <p:spPr>
            <a:xfrm>
              <a:off x="4284720" y="1465200"/>
              <a:ext cx="1296000" cy="27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3" name="Text Box 21"/>
            <p:cNvSpPr/>
            <p:nvPr/>
          </p:nvSpPr>
          <p:spPr>
            <a:xfrm>
              <a:off x="4500720" y="2997360"/>
              <a:ext cx="2016000" cy="100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Желание узнать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то же тако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чор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4" name="AutoShape 22"/>
          <p:cNvCxnSpPr>
            <a:stCxn id="463" idx="2"/>
            <a:endCxn id="473" idx="0"/>
          </p:cNvCxnSpPr>
          <p:nvPr/>
        </p:nvCxnSpPr>
        <p:spPr>
          <a:xfrm rot="5400000">
            <a:off x="5147640" y="2565360"/>
            <a:ext cx="793080" cy="72000"/>
          </a:xfrm>
          <a:prstGeom prst="bentConnector3">
            <a:avLst>
              <a:gd name="adj1" fmla="val 498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75" name="Group 34"/>
          <p:cNvGrpSpPr/>
          <p:nvPr/>
        </p:nvGrpSpPr>
        <p:grpSpPr>
          <a:xfrm>
            <a:off x="6790320" y="2276640"/>
            <a:ext cx="2236680" cy="2589480"/>
            <a:chOff x="6790320" y="2276640"/>
            <a:chExt cx="2236680" cy="2589480"/>
          </a:xfrm>
        </p:grpSpPr>
        <p:sp>
          <p:nvSpPr>
            <p:cNvPr id="464" name="Text Box 9"/>
            <p:cNvSpPr/>
            <p:nvPr/>
          </p:nvSpPr>
          <p:spPr>
            <a:xfrm>
              <a:off x="6790320" y="2276640"/>
              <a:ext cx="223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пережи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7072200" y="3705120"/>
              <a:ext cx="1747800" cy="116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споведь Печори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7" name="AutoShape 24"/>
          <p:cNvCxnSpPr>
            <a:stCxn id="464" idx="2"/>
            <a:endCxn id="476" idx="0"/>
          </p:cNvCxnSpPr>
          <p:nvPr/>
        </p:nvCxnSpPr>
        <p:spPr>
          <a:xfrm flipH="1" rot="16200000">
            <a:off x="7448400" y="3206160"/>
            <a:ext cx="95940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78" name="Group 35"/>
          <p:cNvGrpSpPr/>
          <p:nvPr/>
        </p:nvGrpSpPr>
        <p:grpSpPr>
          <a:xfrm>
            <a:off x="4140360" y="4292640"/>
            <a:ext cx="2303280" cy="1295280"/>
            <a:chOff x="4140360" y="4292640"/>
            <a:chExt cx="2303280" cy="1295280"/>
          </a:xfrm>
        </p:grpSpPr>
        <p:sp>
          <p:nvSpPr>
            <p:cNvPr id="479" name="AutoShape 25"/>
            <p:cNvSpPr/>
            <p:nvPr/>
          </p:nvSpPr>
          <p:spPr>
            <a:xfrm rot="5400000">
              <a:off x="5847480" y="4385520"/>
              <a:ext cx="689040" cy="5032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6"/>
            <p:cNvSpPr/>
            <p:nvPr/>
          </p:nvSpPr>
          <p:spPr>
            <a:xfrm>
              <a:off x="4140360" y="5084640"/>
              <a:ext cx="688680" cy="5032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Text Box 27"/>
          <p:cNvSpPr/>
          <p:nvPr/>
        </p:nvSpPr>
        <p:spPr>
          <a:xfrm>
            <a:off x="5004720" y="52293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МЕНЫ В КНЯЖ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28">
            <a:hlinkClick r:id="rId3" action="ppaction://hlinksldjump"/>
          </p:cNvPr>
          <p:cNvSpPr/>
          <p:nvPr/>
        </p:nvSpPr>
        <p:spPr>
          <a:xfrm rot="16200000">
            <a:off x="413280" y="6327000"/>
            <a:ext cx="254160" cy="718920"/>
          </a:xfrm>
          <a:custGeom>
            <a:avLst/>
            <a:gdLst>
              <a:gd name="textAreaLeft" fmla="*/ 16200 w 254160"/>
              <a:gd name="textAreaRight" fmla="*/ 237960 w 254160"/>
              <a:gd name="textAreaTop" fmla="*/ 16200 h 718920"/>
              <a:gd name="textAreaBottom" fmla="*/ 702720 h 718920"/>
            </a:gdLst>
            <a:ahLst/>
            <a:rect l="textAreaLeft" t="textAreaTop" r="textAreaRight" b="textAreaBottom"/>
            <a:pathLst>
              <a:path w="21600" h="61042">
                <a:moveTo>
                  <a:pt x="0" y="0"/>
                </a:moveTo>
                <a:lnTo>
                  <a:pt x="21600" y="0"/>
                </a:lnTo>
                <a:lnTo>
                  <a:pt x="21600" y="61042"/>
                </a:lnTo>
                <a:lnTo>
                  <a:pt x="0" y="61042"/>
                </a:lnTo>
                <a:close/>
              </a:path>
              <a:path fill="lightenLess" w="21600" h="61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042">
                <a:moveTo>
                  <a:pt x="21600" y="0"/>
                </a:moveTo>
                <a:lnTo>
                  <a:pt x="21600" y="61042"/>
                </a:lnTo>
                <a:lnTo>
                  <a:pt x="20200" y="59642"/>
                </a:lnTo>
                <a:lnTo>
                  <a:pt x="20200" y="1400"/>
                </a:lnTo>
                <a:close/>
              </a:path>
              <a:path fill="darkenLess" w="21600" h="61042">
                <a:moveTo>
                  <a:pt x="21600" y="61042"/>
                </a:moveTo>
                <a:lnTo>
                  <a:pt x="0" y="61042"/>
                </a:lnTo>
                <a:lnTo>
                  <a:pt x="1400" y="59642"/>
                </a:lnTo>
                <a:lnTo>
                  <a:pt x="20200" y="59642"/>
                </a:lnTo>
                <a:close/>
              </a:path>
              <a:path fill="lighten" w="21600" h="61042">
                <a:moveTo>
                  <a:pt x="0" y="61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59642"/>
                </a:lnTo>
                <a:close/>
              </a:path>
              <a:path fill="darken" w="21600" h="61042">
                <a:moveTo>
                  <a:pt x="3794" y="27214"/>
                </a:moveTo>
                <a:lnTo>
                  <a:pt x="7301" y="27214"/>
                </a:lnTo>
                <a:lnTo>
                  <a:pt x="7301" y="32549"/>
                </a:lnTo>
                <a:cubicBezTo>
                  <a:pt x="7301" y="33472"/>
                  <a:pt x="8102" y="34203"/>
                  <a:pt x="9138" y="34203"/>
                </a:cubicBezTo>
                <a:lnTo>
                  <a:pt x="10800" y="34203"/>
                </a:lnTo>
                <a:cubicBezTo>
                  <a:pt x="11836" y="34203"/>
                  <a:pt x="12636" y="33472"/>
                  <a:pt x="12636" y="32549"/>
                </a:cubicBezTo>
                <a:lnTo>
                  <a:pt x="12636" y="27214"/>
                </a:lnTo>
                <a:lnTo>
                  <a:pt x="10800" y="27214"/>
                </a:lnTo>
                <a:lnTo>
                  <a:pt x="14308" y="23706"/>
                </a:lnTo>
                <a:lnTo>
                  <a:pt x="17981" y="27214"/>
                </a:lnTo>
                <a:lnTo>
                  <a:pt x="16144" y="27214"/>
                </a:lnTo>
                <a:lnTo>
                  <a:pt x="16144" y="32549"/>
                </a:lnTo>
                <a:cubicBezTo>
                  <a:pt x="16144" y="35317"/>
                  <a:pt x="13568" y="37876"/>
                  <a:pt x="10800" y="37876"/>
                </a:cubicBezTo>
                <a:lnTo>
                  <a:pt x="9138" y="37876"/>
                </a:lnTo>
                <a:cubicBezTo>
                  <a:pt x="6370" y="37876"/>
                  <a:pt x="3794" y="35317"/>
                  <a:pt x="3794" y="3254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36">
            <a:hlinkClick r:id="rId4" action="ppaction://hlinksldjump"/>
          </p:cNvPr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0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0" y="-169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ера и Печори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lit04-16"/>
          <p:cNvPicPr/>
          <p:nvPr/>
        </p:nvPicPr>
        <p:blipFill>
          <a:blip r:embed="rId2"/>
          <a:stretch/>
        </p:blipFill>
        <p:spPr>
          <a:xfrm>
            <a:off x="179280" y="2637000"/>
            <a:ext cx="2928960" cy="38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7" name="Text Box 5"/>
          <p:cNvSpPr/>
          <p:nvPr/>
        </p:nvSpPr>
        <p:spPr>
          <a:xfrm>
            <a:off x="3276720" y="2747880"/>
            <a:ext cx="5545080" cy="167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За что она меня так любит, право, не знаю! Тем более, что это одна женщина, которая меня поняла совершенно, со всеми моими  мелкими слабостями, дурными страстями… Неужели зло так привлекательно?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4767120" y="5489640"/>
            <a:ext cx="369252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р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ости потерять ее наве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ра стала для меня дороже всего на свете – дороже жизни, чести, счастья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564000" y="4510080"/>
            <a:ext cx="3836880" cy="106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на единственная женщина в мире, которую я не в силах был бы обмануть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08000" y="727200"/>
            <a:ext cx="8856720" cy="18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ер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«…в твоей природе есть что-то особенное, тебе одному свойственное, что-то гордое и таинственное; в твоем голосе … есть власть непобедимая; никто не умеет так постоянно хотеть быть любимым; ни в ком зло не бывает так привлекательно; ничей взор не обещает столько блаженства; никто не умеет лучше пользоваться своими преимуществами, и никто не может быть так истинно несчастлив, как ты, потому что никто столько не старается уверить себя в противном…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9">
            <a:hlinkClick r:id="rId3" action="ppaction://hlinksldjump"/>
          </p:cNvPr>
          <p:cNvSpPr/>
          <p:nvPr/>
        </p:nvSpPr>
        <p:spPr>
          <a:xfrm>
            <a:off x="4788000" y="5516640"/>
            <a:ext cx="3529080" cy="720720"/>
          </a:xfrm>
          <a:custGeom>
            <a:avLst/>
            <a:gdLst>
              <a:gd name="textAreaLeft" fmla="*/ 46440 w 3529080"/>
              <a:gd name="textAreaRight" fmla="*/ 3482640 w 3529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725" h="21600">
                <a:moveTo>
                  <a:pt x="0" y="0"/>
                </a:moveTo>
                <a:lnTo>
                  <a:pt x="105725" y="0"/>
                </a:lnTo>
                <a:lnTo>
                  <a:pt x="105725" y="21600"/>
                </a:lnTo>
                <a:lnTo>
                  <a:pt x="0" y="21600"/>
                </a:lnTo>
                <a:close/>
              </a:path>
              <a:path fill="lightenLess" w="105725" h="21600">
                <a:moveTo>
                  <a:pt x="0" y="0"/>
                </a:moveTo>
                <a:lnTo>
                  <a:pt x="105725" y="0"/>
                </a:lnTo>
                <a:lnTo>
                  <a:pt x="104325" y="1400"/>
                </a:lnTo>
                <a:lnTo>
                  <a:pt x="1400" y="1400"/>
                </a:lnTo>
                <a:close/>
              </a:path>
              <a:path fill="darken" w="105725" h="21600">
                <a:moveTo>
                  <a:pt x="105725" y="0"/>
                </a:moveTo>
                <a:lnTo>
                  <a:pt x="105725" y="21600"/>
                </a:lnTo>
                <a:lnTo>
                  <a:pt x="104325" y="20200"/>
                </a:lnTo>
                <a:lnTo>
                  <a:pt x="104325" y="1400"/>
                </a:lnTo>
                <a:close/>
              </a:path>
              <a:path fill="darkenLess" w="105725" h="21600">
                <a:moveTo>
                  <a:pt x="10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325" y="20200"/>
                </a:lnTo>
                <a:close/>
              </a:path>
              <a:path fill="lighten" w="10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10">
            <a:hlinkClick r:id="rId4" action="ppaction://hlinksldjump"/>
          </p:cNvPr>
          <p:cNvSpPr/>
          <p:nvPr/>
        </p:nvSpPr>
        <p:spPr>
          <a:xfrm rot="16200000">
            <a:off x="288000" y="6344280"/>
            <a:ext cx="289080" cy="64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49080"/>
              <a:gd name="textAreaBottom" fmla="*/ 630360 h 649080"/>
            </a:gdLst>
            <a:ahLst/>
            <a:rect l="textAreaLeft" t="textAreaTop" r="textAreaRight" b="textAreaBottom"/>
            <a:pathLst>
              <a:path w="21600" h="48466">
                <a:moveTo>
                  <a:pt x="0" y="0"/>
                </a:moveTo>
                <a:lnTo>
                  <a:pt x="21600" y="0"/>
                </a:lnTo>
                <a:lnTo>
                  <a:pt x="21600" y="48466"/>
                </a:lnTo>
                <a:lnTo>
                  <a:pt x="0" y="48466"/>
                </a:lnTo>
                <a:close/>
              </a:path>
              <a:path fill="lightenLess" w="21600" h="48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466">
                <a:moveTo>
                  <a:pt x="21600" y="0"/>
                </a:moveTo>
                <a:lnTo>
                  <a:pt x="21600" y="48466"/>
                </a:lnTo>
                <a:lnTo>
                  <a:pt x="20200" y="47066"/>
                </a:lnTo>
                <a:lnTo>
                  <a:pt x="20200" y="1400"/>
                </a:lnTo>
                <a:close/>
              </a:path>
              <a:path fill="darkenLess" w="21600" h="48466">
                <a:moveTo>
                  <a:pt x="21600" y="48466"/>
                </a:moveTo>
                <a:lnTo>
                  <a:pt x="0" y="48466"/>
                </a:lnTo>
                <a:lnTo>
                  <a:pt x="1400" y="47066"/>
                </a:lnTo>
                <a:lnTo>
                  <a:pt x="20200" y="47066"/>
                </a:lnTo>
                <a:close/>
              </a:path>
              <a:path fill="lighten" w="21600" h="48466">
                <a:moveTo>
                  <a:pt x="0" y="48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7066"/>
                </a:lnTo>
                <a:close/>
              </a:path>
              <a:path fill="darken" w="21600" h="48466">
                <a:moveTo>
                  <a:pt x="3794" y="20925"/>
                </a:moveTo>
                <a:lnTo>
                  <a:pt x="7301" y="20925"/>
                </a:lnTo>
                <a:lnTo>
                  <a:pt x="7301" y="26261"/>
                </a:lnTo>
                <a:cubicBezTo>
                  <a:pt x="7301" y="27183"/>
                  <a:pt x="8102" y="27915"/>
                  <a:pt x="9138" y="27915"/>
                </a:cubicBezTo>
                <a:lnTo>
                  <a:pt x="10800" y="27915"/>
                </a:lnTo>
                <a:cubicBezTo>
                  <a:pt x="11836" y="27915"/>
                  <a:pt x="12636" y="27183"/>
                  <a:pt x="12636" y="26261"/>
                </a:cubicBezTo>
                <a:lnTo>
                  <a:pt x="12636" y="20925"/>
                </a:lnTo>
                <a:lnTo>
                  <a:pt x="10800" y="20925"/>
                </a:lnTo>
                <a:lnTo>
                  <a:pt x="14308" y="17418"/>
                </a:lnTo>
                <a:lnTo>
                  <a:pt x="17981" y="20925"/>
                </a:lnTo>
                <a:lnTo>
                  <a:pt x="16144" y="20925"/>
                </a:lnTo>
                <a:lnTo>
                  <a:pt x="16144" y="26261"/>
                </a:lnTo>
                <a:cubicBezTo>
                  <a:pt x="16144" y="29029"/>
                  <a:pt x="13568" y="31587"/>
                  <a:pt x="10800" y="31587"/>
                </a:cubicBezTo>
                <a:lnTo>
                  <a:pt x="9138" y="31587"/>
                </a:lnTo>
                <a:cubicBezTo>
                  <a:pt x="6370" y="31587"/>
                  <a:pt x="3794" y="29029"/>
                  <a:pt x="3794" y="2626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11">
            <a:hlinkClick r:id="rId5" action="ppaction://hlinksldjump"/>
          </p:cNvPr>
          <p:cNvSpPr/>
          <p:nvPr/>
        </p:nvSpPr>
        <p:spPr>
          <a:xfrm>
            <a:off x="8497800" y="6597720"/>
            <a:ext cx="611280" cy="216000"/>
          </a:xfrm>
          <a:custGeom>
            <a:avLst/>
            <a:gdLst>
              <a:gd name="textAreaLeft" fmla="*/ 13680 w 611280"/>
              <a:gd name="textAreaRight" fmla="*/ 597600 w 611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1062" h="21600">
                <a:moveTo>
                  <a:pt x="0" y="0"/>
                </a:moveTo>
                <a:lnTo>
                  <a:pt x="61062" y="0"/>
                </a:lnTo>
                <a:lnTo>
                  <a:pt x="61062" y="21600"/>
                </a:lnTo>
                <a:lnTo>
                  <a:pt x="0" y="21600"/>
                </a:lnTo>
                <a:close/>
              </a:path>
              <a:path fill="lightenLess" w="61062" h="21600">
                <a:moveTo>
                  <a:pt x="0" y="0"/>
                </a:moveTo>
                <a:lnTo>
                  <a:pt x="61062" y="0"/>
                </a:lnTo>
                <a:lnTo>
                  <a:pt x="59662" y="1400"/>
                </a:lnTo>
                <a:lnTo>
                  <a:pt x="1400" y="1400"/>
                </a:lnTo>
                <a:close/>
              </a:path>
              <a:path fill="darken" w="61062" h="21600">
                <a:moveTo>
                  <a:pt x="61062" y="0"/>
                </a:moveTo>
                <a:lnTo>
                  <a:pt x="61062" y="21600"/>
                </a:lnTo>
                <a:lnTo>
                  <a:pt x="59662" y="20200"/>
                </a:lnTo>
                <a:lnTo>
                  <a:pt x="59662" y="1400"/>
                </a:lnTo>
                <a:close/>
              </a:path>
              <a:path fill="darkenLess" w="61062" h="21600">
                <a:moveTo>
                  <a:pt x="61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662" y="20200"/>
                </a:lnTo>
                <a:close/>
              </a:path>
              <a:path fill="lighten" w="61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062" h="21600">
                <a:moveTo>
                  <a:pt x="23525" y="3794"/>
                </a:moveTo>
                <a:lnTo>
                  <a:pt x="37538" y="10800"/>
                </a:lnTo>
                <a:lnTo>
                  <a:pt x="23525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indefinite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115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аты публика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70160" y="1341360"/>
            <a:ext cx="82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ень 1837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ма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40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апечатана в «Отечественных записках», №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70520" y="292428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39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тали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, «Отечественные записки, №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6000" y="227664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39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Бэла», «Отечественные записки», №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72320" y="35002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прель 1840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публиковано «Сочинение М.Ю. Лермонт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Герой нашего времен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впервые появилась повесть «Макс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ыч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il7-747-"/>
          <p:cNvPicPr/>
          <p:nvPr/>
        </p:nvPicPr>
        <p:blipFill>
          <a:blip r:embed="rId2"/>
          <a:stretch/>
        </p:blipFill>
        <p:spPr>
          <a:xfrm>
            <a:off x="900000" y="3933720"/>
            <a:ext cx="18226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>
            <a:hlinkClick r:id="rId3" action="ppaction://hlinksldjump"/>
          </p:cNvPr>
          <p:cNvSpPr/>
          <p:nvPr/>
        </p:nvSpPr>
        <p:spPr>
          <a:xfrm rot="16200000">
            <a:off x="195840" y="6327000"/>
            <a:ext cx="325440" cy="64764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42961">
                <a:moveTo>
                  <a:pt x="0" y="0"/>
                </a:moveTo>
                <a:lnTo>
                  <a:pt x="21600" y="0"/>
                </a:lnTo>
                <a:lnTo>
                  <a:pt x="21600" y="42961"/>
                </a:lnTo>
                <a:lnTo>
                  <a:pt x="0" y="42961"/>
                </a:lnTo>
                <a:close/>
              </a:path>
              <a:path fill="lightenLess" w="21600" h="42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61">
                <a:moveTo>
                  <a:pt x="21600" y="0"/>
                </a:moveTo>
                <a:lnTo>
                  <a:pt x="21600" y="42961"/>
                </a:lnTo>
                <a:lnTo>
                  <a:pt x="20200" y="41561"/>
                </a:lnTo>
                <a:lnTo>
                  <a:pt x="20200" y="1400"/>
                </a:lnTo>
                <a:close/>
              </a:path>
              <a:path fill="darkenLess" w="21600" h="42961">
                <a:moveTo>
                  <a:pt x="21600" y="42961"/>
                </a:moveTo>
                <a:lnTo>
                  <a:pt x="0" y="42961"/>
                </a:lnTo>
                <a:lnTo>
                  <a:pt x="1400" y="41561"/>
                </a:lnTo>
                <a:lnTo>
                  <a:pt x="20200" y="41561"/>
                </a:lnTo>
                <a:close/>
              </a:path>
              <a:path fill="lighten" w="21600" h="42961">
                <a:moveTo>
                  <a:pt x="0" y="42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61"/>
                </a:lnTo>
                <a:close/>
              </a:path>
              <a:path fill="darken" w="21600" h="42961">
                <a:moveTo>
                  <a:pt x="3794" y="18173"/>
                </a:moveTo>
                <a:lnTo>
                  <a:pt x="7301" y="18173"/>
                </a:lnTo>
                <a:lnTo>
                  <a:pt x="7301" y="23509"/>
                </a:lnTo>
                <a:cubicBezTo>
                  <a:pt x="7301" y="24431"/>
                  <a:pt x="8102" y="25162"/>
                  <a:pt x="9138" y="25162"/>
                </a:cubicBezTo>
                <a:lnTo>
                  <a:pt x="10800" y="25162"/>
                </a:lnTo>
                <a:cubicBezTo>
                  <a:pt x="11836" y="25162"/>
                  <a:pt x="12636" y="24431"/>
                  <a:pt x="12636" y="23509"/>
                </a:cubicBezTo>
                <a:lnTo>
                  <a:pt x="12636" y="18173"/>
                </a:lnTo>
                <a:lnTo>
                  <a:pt x="10800" y="18173"/>
                </a:lnTo>
                <a:lnTo>
                  <a:pt x="14308" y="14666"/>
                </a:lnTo>
                <a:lnTo>
                  <a:pt x="17981" y="18173"/>
                </a:lnTo>
                <a:lnTo>
                  <a:pt x="16144" y="18173"/>
                </a:lnTo>
                <a:lnTo>
                  <a:pt x="16144" y="23509"/>
                </a:lnTo>
                <a:cubicBezTo>
                  <a:pt x="16144" y="26276"/>
                  <a:pt x="13568" y="28835"/>
                  <a:pt x="10800" y="28835"/>
                </a:cubicBezTo>
                <a:lnTo>
                  <a:pt x="9138" y="28835"/>
                </a:lnTo>
                <a:cubicBezTo>
                  <a:pt x="6370" y="28835"/>
                  <a:pt x="3794" y="26276"/>
                  <a:pt x="3794" y="2350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>
            <a:hlinkClick r:id="rId4" action="ppaction://hlinksldjump"/>
          </p:cNvPr>
          <p:cNvSpPr/>
          <p:nvPr/>
        </p:nvSpPr>
        <p:spPr>
          <a:xfrm>
            <a:off x="1763640" y="2924280"/>
            <a:ext cx="1584360" cy="504720"/>
          </a:xfrm>
          <a:custGeom>
            <a:avLst/>
            <a:gdLst>
              <a:gd name="textAreaLeft" fmla="*/ 32400 w 1584360"/>
              <a:gd name="textAreaRight" fmla="*/ 1551960 w 1584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7771" h="21600">
                <a:moveTo>
                  <a:pt x="0" y="0"/>
                </a:moveTo>
                <a:lnTo>
                  <a:pt x="67771" y="0"/>
                </a:lnTo>
                <a:lnTo>
                  <a:pt x="67771" y="21600"/>
                </a:lnTo>
                <a:lnTo>
                  <a:pt x="0" y="21600"/>
                </a:lnTo>
                <a:close/>
              </a:path>
              <a:path fill="lightenLess" w="67771" h="21600">
                <a:moveTo>
                  <a:pt x="0" y="0"/>
                </a:moveTo>
                <a:lnTo>
                  <a:pt x="67771" y="0"/>
                </a:lnTo>
                <a:lnTo>
                  <a:pt x="66371" y="1400"/>
                </a:lnTo>
                <a:lnTo>
                  <a:pt x="1400" y="1400"/>
                </a:lnTo>
                <a:close/>
              </a:path>
              <a:path fill="darken" w="67771" h="21600">
                <a:moveTo>
                  <a:pt x="67771" y="0"/>
                </a:moveTo>
                <a:lnTo>
                  <a:pt x="67771" y="21600"/>
                </a:lnTo>
                <a:lnTo>
                  <a:pt x="66371" y="20200"/>
                </a:lnTo>
                <a:lnTo>
                  <a:pt x="66371" y="1400"/>
                </a:lnTo>
                <a:close/>
              </a:path>
              <a:path fill="darkenLess" w="67771" h="21600">
                <a:moveTo>
                  <a:pt x="6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71" y="20200"/>
                </a:lnTo>
                <a:close/>
              </a:path>
              <a:path fill="lighten" w="6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>
            <a:hlinkClick r:id="rId5" action="ppaction://hlinksldjump"/>
          </p:cNvPr>
          <p:cNvSpPr/>
          <p:nvPr/>
        </p:nvSpPr>
        <p:spPr>
          <a:xfrm>
            <a:off x="2843280" y="134136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>
            <a:hlinkClick r:id="rId6" action="ppaction://hlinksldjump"/>
          </p:cNvPr>
          <p:cNvSpPr/>
          <p:nvPr/>
        </p:nvSpPr>
        <p:spPr>
          <a:xfrm>
            <a:off x="8499600" y="6562800"/>
            <a:ext cx="609480" cy="250920"/>
          </a:xfrm>
          <a:custGeom>
            <a:avLst/>
            <a:gdLst>
              <a:gd name="textAreaLeft" fmla="*/ 16200 w 609480"/>
              <a:gd name="textAreaRight" fmla="*/ 593280 w 6094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2422" h="21600">
                <a:moveTo>
                  <a:pt x="0" y="0"/>
                </a:moveTo>
                <a:lnTo>
                  <a:pt x="52422" y="0"/>
                </a:lnTo>
                <a:lnTo>
                  <a:pt x="52422" y="21600"/>
                </a:lnTo>
                <a:lnTo>
                  <a:pt x="0" y="21600"/>
                </a:lnTo>
                <a:close/>
              </a:path>
              <a:path fill="lightenLess" w="52422" h="21600">
                <a:moveTo>
                  <a:pt x="0" y="0"/>
                </a:moveTo>
                <a:lnTo>
                  <a:pt x="52422" y="0"/>
                </a:lnTo>
                <a:lnTo>
                  <a:pt x="51022" y="1400"/>
                </a:lnTo>
                <a:lnTo>
                  <a:pt x="1400" y="1400"/>
                </a:lnTo>
                <a:close/>
              </a:path>
              <a:path fill="darken" w="52422" h="21600">
                <a:moveTo>
                  <a:pt x="52422" y="0"/>
                </a:moveTo>
                <a:lnTo>
                  <a:pt x="52422" y="21600"/>
                </a:lnTo>
                <a:lnTo>
                  <a:pt x="51022" y="20200"/>
                </a:lnTo>
                <a:lnTo>
                  <a:pt x="51022" y="1400"/>
                </a:lnTo>
                <a:close/>
              </a:path>
              <a:path fill="darkenLess" w="52422" h="21600">
                <a:moveTo>
                  <a:pt x="52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2" y="20200"/>
                </a:lnTo>
                <a:close/>
              </a:path>
              <a:path fill="lighten" w="52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2" h="21600">
                <a:moveTo>
                  <a:pt x="19204" y="3794"/>
                </a:moveTo>
                <a:lnTo>
                  <a:pt x="33217" y="10800"/>
                </a:lnTo>
                <a:lnTo>
                  <a:pt x="19204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цена погони за Вер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03120" y="712800"/>
            <a:ext cx="210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59220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50920" y="692280"/>
            <a:ext cx="369252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ри возможности потерять ее навеки Вера стала для меня дороже всего на свете – дороже жизни, чести, счастья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3255840" y="1844640"/>
            <a:ext cx="5708880" cy="167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се было бы спасено, если б у моего коня достало сил еще на 10 мин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нуренный тревогами дня и бессонницей, я упал на мокрую траву и как ребенок заплакал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50920" y="3284640"/>
            <a:ext cx="5833800" cy="106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…я думал, грудь моя разорвется; вся моя твердость, все мое хладнокровие – исчезли как дым. Душа обессилела, рассудок замолк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2268360" y="4508640"/>
            <a:ext cx="6716880" cy="137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гда ночная роса и горный ветер освежили мою горячую голову и мысли пришли в обычный порядок, то я понял что гнаться за погибшим счастием бесполезно и безрассудно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13"/>
          <p:cNvGrpSpPr/>
          <p:nvPr/>
        </p:nvGrpSpPr>
        <p:grpSpPr>
          <a:xfrm>
            <a:off x="250920" y="6021360"/>
            <a:ext cx="6456240" cy="459720"/>
            <a:chOff x="250920" y="6021360"/>
            <a:chExt cx="6456240" cy="459720"/>
          </a:xfrm>
        </p:grpSpPr>
        <p:sp>
          <p:nvSpPr>
            <p:cNvPr id="503" name="AutoShape 10"/>
            <p:cNvSpPr/>
            <p:nvPr/>
          </p:nvSpPr>
          <p:spPr>
            <a:xfrm>
              <a:off x="250920" y="6093000"/>
              <a:ext cx="792000" cy="34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1122480" y="6021360"/>
              <a:ext cx="558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тиворечивость, двойственность геро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AutoShape 12">
            <a:hlinkClick r:id="rId2" action="ppaction://hlinksldjump"/>
          </p:cNvPr>
          <p:cNvSpPr/>
          <p:nvPr/>
        </p:nvSpPr>
        <p:spPr>
          <a:xfrm rot="16200000">
            <a:off x="8549280" y="6327000"/>
            <a:ext cx="254160" cy="718920"/>
          </a:xfrm>
          <a:custGeom>
            <a:avLst/>
            <a:gdLst>
              <a:gd name="textAreaLeft" fmla="*/ 16200 w 254160"/>
              <a:gd name="textAreaRight" fmla="*/ 237960 w 254160"/>
              <a:gd name="textAreaTop" fmla="*/ 16200 h 718920"/>
              <a:gd name="textAreaBottom" fmla="*/ 702720 h 718920"/>
            </a:gdLst>
            <a:ahLst/>
            <a:rect l="textAreaLeft" t="textAreaTop" r="textAreaRight" b="textAreaBottom"/>
            <a:pathLst>
              <a:path w="21600" h="61042">
                <a:moveTo>
                  <a:pt x="0" y="0"/>
                </a:moveTo>
                <a:lnTo>
                  <a:pt x="21600" y="0"/>
                </a:lnTo>
                <a:lnTo>
                  <a:pt x="21600" y="61042"/>
                </a:lnTo>
                <a:lnTo>
                  <a:pt x="0" y="61042"/>
                </a:lnTo>
                <a:close/>
              </a:path>
              <a:path fill="lightenLess" w="21600" h="61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042">
                <a:moveTo>
                  <a:pt x="21600" y="0"/>
                </a:moveTo>
                <a:lnTo>
                  <a:pt x="21600" y="61042"/>
                </a:lnTo>
                <a:lnTo>
                  <a:pt x="20200" y="59642"/>
                </a:lnTo>
                <a:lnTo>
                  <a:pt x="20200" y="1400"/>
                </a:lnTo>
                <a:close/>
              </a:path>
              <a:path fill="darkenLess" w="21600" h="61042">
                <a:moveTo>
                  <a:pt x="21600" y="61042"/>
                </a:moveTo>
                <a:lnTo>
                  <a:pt x="0" y="61042"/>
                </a:lnTo>
                <a:lnTo>
                  <a:pt x="1400" y="59642"/>
                </a:lnTo>
                <a:lnTo>
                  <a:pt x="20200" y="59642"/>
                </a:lnTo>
                <a:close/>
              </a:path>
              <a:path fill="lighten" w="21600" h="61042">
                <a:moveTo>
                  <a:pt x="0" y="61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59642"/>
                </a:lnTo>
                <a:close/>
              </a:path>
              <a:path fill="darken" w="21600" h="61042">
                <a:moveTo>
                  <a:pt x="3794" y="27214"/>
                </a:moveTo>
                <a:lnTo>
                  <a:pt x="7301" y="27214"/>
                </a:lnTo>
                <a:lnTo>
                  <a:pt x="7301" y="32549"/>
                </a:lnTo>
                <a:cubicBezTo>
                  <a:pt x="7301" y="33472"/>
                  <a:pt x="8102" y="34203"/>
                  <a:pt x="9138" y="34203"/>
                </a:cubicBezTo>
                <a:lnTo>
                  <a:pt x="10800" y="34203"/>
                </a:lnTo>
                <a:cubicBezTo>
                  <a:pt x="11836" y="34203"/>
                  <a:pt x="12636" y="33472"/>
                  <a:pt x="12636" y="32549"/>
                </a:cubicBezTo>
                <a:lnTo>
                  <a:pt x="12636" y="27214"/>
                </a:lnTo>
                <a:lnTo>
                  <a:pt x="10800" y="27214"/>
                </a:lnTo>
                <a:lnTo>
                  <a:pt x="14308" y="23706"/>
                </a:lnTo>
                <a:lnTo>
                  <a:pt x="17981" y="27214"/>
                </a:lnTo>
                <a:lnTo>
                  <a:pt x="16144" y="27214"/>
                </a:lnTo>
                <a:lnTo>
                  <a:pt x="16144" y="32549"/>
                </a:lnTo>
                <a:cubicBezTo>
                  <a:pt x="16144" y="35317"/>
                  <a:pt x="13568" y="37876"/>
                  <a:pt x="10800" y="37876"/>
                </a:cubicBezTo>
                <a:lnTo>
                  <a:pt x="9138" y="37876"/>
                </a:lnTo>
                <a:cubicBezTo>
                  <a:pt x="6370" y="37876"/>
                  <a:pt x="3794" y="35317"/>
                  <a:pt x="3794" y="3254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indefinite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0" y="-169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весть «Фаталист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тексту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6"/>
          <p:cNvSpPr/>
          <p:nvPr/>
        </p:nvSpPr>
        <p:spPr>
          <a:xfrm flipH="1">
            <a:off x="3348000" y="105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5076720" y="105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250920" y="3213000"/>
            <a:ext cx="3960720" cy="314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Болезнь нашего века происходит от двух причин: народ, прошедший через 1793 и 1813 гг. носит в сердце две раны. Все то, что было, уже прошло. Все то, что будет, еще не наступило. Не ищите же ни в чем ином разгадки наших страдани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20"/>
          <p:cNvGrpSpPr/>
          <p:nvPr/>
        </p:nvGrpSpPr>
        <p:grpSpPr>
          <a:xfrm>
            <a:off x="250920" y="1773360"/>
            <a:ext cx="8642160" cy="764280"/>
            <a:chOff x="250920" y="1773360"/>
            <a:chExt cx="8642160" cy="764280"/>
          </a:xfrm>
        </p:grpSpPr>
        <p:sp>
          <p:nvSpPr>
            <p:cNvPr id="513" name="Text Box 8"/>
            <p:cNvSpPr/>
            <p:nvPr/>
          </p:nvSpPr>
          <p:spPr>
            <a:xfrm>
              <a:off x="250920" y="1773360"/>
              <a:ext cx="3960720" cy="76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Альфред де Мюсс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«Исповедь сына века», 1836 г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2"/>
            <p:cNvSpPr/>
            <p:nvPr/>
          </p:nvSpPr>
          <p:spPr>
            <a:xfrm>
              <a:off x="4859280" y="1773360"/>
              <a:ext cx="4033800" cy="76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Дневник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Джорджа Гордона Байрон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Text Box 13"/>
          <p:cNvSpPr/>
          <p:nvPr/>
        </p:nvSpPr>
        <p:spPr>
          <a:xfrm>
            <a:off x="4859280" y="3213000"/>
            <a:ext cx="4033800" cy="277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тральный эпизод «Фа-талиста» – случай, описанный в дневнике Байрона. «У Игрока интерес к жизни возобновляет-ся всякий раз, когда он выбра-сывает карты…»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Образ Вулича – его страсть к картам, его вызовы судьб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7164360" y="5011560"/>
            <a:ext cx="720720" cy="2890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21"/>
          <p:cNvGrpSpPr/>
          <p:nvPr/>
        </p:nvGrpSpPr>
        <p:grpSpPr>
          <a:xfrm>
            <a:off x="2268360" y="2565360"/>
            <a:ext cx="4608720" cy="647640"/>
            <a:chOff x="2268360" y="2565360"/>
            <a:chExt cx="4608720" cy="647640"/>
          </a:xfrm>
        </p:grpSpPr>
        <p:sp>
          <p:nvSpPr>
            <p:cNvPr id="518" name="Line 15"/>
            <p:cNvSpPr/>
            <p:nvPr/>
          </p:nvSpPr>
          <p:spPr>
            <a:xfrm>
              <a:off x="226836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6"/>
            <p:cNvSpPr/>
            <p:nvPr/>
          </p:nvSpPr>
          <p:spPr>
            <a:xfrm>
              <a:off x="68770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AutoShape 17">
            <a:hlinkClick r:id="rId2" action="ppaction://hlinksldjump"/>
          </p:cNvPr>
          <p:cNvSpPr/>
          <p:nvPr/>
        </p:nvSpPr>
        <p:spPr>
          <a:xfrm>
            <a:off x="3166920" y="620640"/>
            <a:ext cx="2808360" cy="432000"/>
          </a:xfrm>
          <a:custGeom>
            <a:avLst/>
            <a:gdLst>
              <a:gd name="textAreaLeft" fmla="*/ 27720 w 2808360"/>
              <a:gd name="textAreaRight" fmla="*/ 2780640 w 280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40319" h="21600">
                <a:moveTo>
                  <a:pt x="0" y="0"/>
                </a:moveTo>
                <a:lnTo>
                  <a:pt x="140319" y="0"/>
                </a:lnTo>
                <a:lnTo>
                  <a:pt x="140319" y="21600"/>
                </a:lnTo>
                <a:lnTo>
                  <a:pt x="0" y="21600"/>
                </a:lnTo>
                <a:close/>
              </a:path>
              <a:path fill="lightenLess" w="140319" h="21600">
                <a:moveTo>
                  <a:pt x="0" y="0"/>
                </a:moveTo>
                <a:lnTo>
                  <a:pt x="140319" y="0"/>
                </a:lnTo>
                <a:lnTo>
                  <a:pt x="138919" y="1400"/>
                </a:lnTo>
                <a:lnTo>
                  <a:pt x="1400" y="1400"/>
                </a:lnTo>
                <a:close/>
              </a:path>
              <a:path fill="darken" w="140319" h="21600">
                <a:moveTo>
                  <a:pt x="140319" y="0"/>
                </a:moveTo>
                <a:lnTo>
                  <a:pt x="140319" y="21600"/>
                </a:lnTo>
                <a:lnTo>
                  <a:pt x="138919" y="20200"/>
                </a:lnTo>
                <a:lnTo>
                  <a:pt x="138919" y="1400"/>
                </a:lnTo>
                <a:close/>
              </a:path>
              <a:path fill="darkenLess" w="140319" h="21600">
                <a:moveTo>
                  <a:pt x="140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19" y="20200"/>
                </a:lnTo>
                <a:close/>
              </a:path>
              <a:path fill="lighten" w="140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8"/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9"/>
          <p:cNvSpPr/>
          <p:nvPr/>
        </p:nvSpPr>
        <p:spPr>
          <a:xfrm>
            <a:off x="8317080" y="652464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3794"/>
                </a:moveTo>
                <a:lnTo>
                  <a:pt x="33845" y="10800"/>
                </a:lnTo>
                <a:lnTo>
                  <a:pt x="1983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indefinite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179280" y="209520"/>
            <a:ext cx="8785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тертекстуаль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дно из главных свойств литературы постмодернизма, включение одного текста в другой, растворение индивидуального, созданного автором текста в явных и неявн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ллюзиях, реминисценциях, цитата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ультурных и литературных перекличках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тертекстуаль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зволяет расширить границы текста, в результате чего он лишается законченности, закрыт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ллю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художественный прием: сознательный авторский намек на общеизвестный литературный или исторический факт, а также известное художественное произведени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еминисцен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неявная отсылка к другому тексту, наводящая на воспоминание о нем и рассчитанная на ассоциации читател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Цита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дословно приведенное автором чужое высказывание, включенное в собственный текст. Может рассматриваться как вид внетекстовых отношений, т.к. «чужое слово» в новом тексте, будучи принципиально узнаваемым, позволяет расширить смысл нового текста за счет «приращения» смысла старого, цитируемог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4"/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indefinit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Вулич_Константинов,_1962"/>
          <p:cNvPicPr/>
          <p:nvPr/>
        </p:nvPicPr>
        <p:blipFill>
          <a:blip r:embed="rId2"/>
          <a:stretch/>
        </p:blipFill>
        <p:spPr>
          <a:xfrm>
            <a:off x="250920" y="3429000"/>
            <a:ext cx="3816360" cy="2859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0" y="-17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улич и Печори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11"/>
          <p:cNvGrpSpPr/>
          <p:nvPr/>
        </p:nvGrpSpPr>
        <p:grpSpPr>
          <a:xfrm>
            <a:off x="2411280" y="549360"/>
            <a:ext cx="3600720" cy="718920"/>
            <a:chOff x="2411280" y="549360"/>
            <a:chExt cx="3600720" cy="718920"/>
          </a:xfrm>
        </p:grpSpPr>
        <p:sp>
          <p:nvSpPr>
            <p:cNvPr id="530" name="Line 5"/>
            <p:cNvSpPr/>
            <p:nvPr/>
          </p:nvSpPr>
          <p:spPr>
            <a:xfrm flipH="1">
              <a:off x="2411280" y="620640"/>
              <a:ext cx="64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"/>
            <p:cNvSpPr/>
            <p:nvPr/>
          </p:nvSpPr>
          <p:spPr>
            <a:xfrm>
              <a:off x="5292720" y="549360"/>
              <a:ext cx="71928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7"/>
          <p:cNvSpPr/>
          <p:nvPr/>
        </p:nvSpPr>
        <p:spPr>
          <a:xfrm>
            <a:off x="303120" y="1433520"/>
            <a:ext cx="40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ок, постоянно испытывает судьб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щет власти над судьб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аждому из нас назначена роковая минут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932360" y="1504800"/>
            <a:ext cx="396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верит в высшую силу, которая управляет движениями люд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 Я люблю сомневаться во вс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сегда смелее иду вперед, когда не знаю, что меня ожидает. Ведь хуже смерти ничего не случится – а смерти не минуешь!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0"/>
          <p:cNvSpPr/>
          <p:nvPr/>
        </p:nvSpPr>
        <p:spPr>
          <a:xfrm rot="16200000">
            <a:off x="337320" y="6294960"/>
            <a:ext cx="260280" cy="71892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718920"/>
              <a:gd name="textAreaBottom" fmla="*/ 702360 h 718920"/>
            </a:gdLst>
            <a:ahLst/>
            <a:rect l="textAreaLeft" t="textAreaTop" r="textAreaRight" b="textAreaBottom"/>
            <a:pathLst>
              <a:path w="21600" h="59609">
                <a:moveTo>
                  <a:pt x="0" y="0"/>
                </a:moveTo>
                <a:lnTo>
                  <a:pt x="21600" y="0"/>
                </a:lnTo>
                <a:lnTo>
                  <a:pt x="21600" y="59609"/>
                </a:lnTo>
                <a:lnTo>
                  <a:pt x="0" y="59609"/>
                </a:lnTo>
                <a:close/>
              </a:path>
              <a:path fill="lightenLess" w="21600" h="59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609">
                <a:moveTo>
                  <a:pt x="21600" y="0"/>
                </a:moveTo>
                <a:lnTo>
                  <a:pt x="21600" y="59609"/>
                </a:lnTo>
                <a:lnTo>
                  <a:pt x="20200" y="58209"/>
                </a:lnTo>
                <a:lnTo>
                  <a:pt x="20200" y="1400"/>
                </a:lnTo>
                <a:close/>
              </a:path>
              <a:path fill="darkenLess" w="21600" h="59609">
                <a:moveTo>
                  <a:pt x="21600" y="59609"/>
                </a:moveTo>
                <a:lnTo>
                  <a:pt x="0" y="59609"/>
                </a:lnTo>
                <a:lnTo>
                  <a:pt x="1400" y="58209"/>
                </a:lnTo>
                <a:lnTo>
                  <a:pt x="20200" y="58209"/>
                </a:lnTo>
                <a:close/>
              </a:path>
              <a:path fill="lighten" w="21600" h="59609">
                <a:moveTo>
                  <a:pt x="0" y="59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58209"/>
                </a:lnTo>
                <a:close/>
              </a:path>
              <a:path fill="darken" w="21600" h="59609">
                <a:moveTo>
                  <a:pt x="3794" y="26497"/>
                </a:moveTo>
                <a:lnTo>
                  <a:pt x="7301" y="26497"/>
                </a:lnTo>
                <a:lnTo>
                  <a:pt x="7301" y="31832"/>
                </a:lnTo>
                <a:cubicBezTo>
                  <a:pt x="7301" y="32755"/>
                  <a:pt x="8102" y="33486"/>
                  <a:pt x="9138" y="33486"/>
                </a:cubicBezTo>
                <a:lnTo>
                  <a:pt x="10800" y="33486"/>
                </a:lnTo>
                <a:cubicBezTo>
                  <a:pt x="11836" y="33486"/>
                  <a:pt x="12636" y="32755"/>
                  <a:pt x="12636" y="31832"/>
                </a:cubicBezTo>
                <a:lnTo>
                  <a:pt x="12636" y="26497"/>
                </a:lnTo>
                <a:lnTo>
                  <a:pt x="10800" y="26497"/>
                </a:lnTo>
                <a:lnTo>
                  <a:pt x="14308" y="22989"/>
                </a:lnTo>
                <a:lnTo>
                  <a:pt x="17981" y="26497"/>
                </a:lnTo>
                <a:lnTo>
                  <a:pt x="16144" y="26497"/>
                </a:lnTo>
                <a:lnTo>
                  <a:pt x="16144" y="31832"/>
                </a:lnTo>
                <a:cubicBezTo>
                  <a:pt x="16144" y="34600"/>
                  <a:pt x="13568" y="37159"/>
                  <a:pt x="10800" y="37159"/>
                </a:cubicBezTo>
                <a:lnTo>
                  <a:pt x="9138" y="37159"/>
                </a:lnTo>
                <a:cubicBezTo>
                  <a:pt x="6370" y="37159"/>
                  <a:pt x="3794" y="34600"/>
                  <a:pt x="3794" y="31832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0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indefinite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0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7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4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1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8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905040" y="333360"/>
            <a:ext cx="1713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аталис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658040" y="295200"/>
            <a:ext cx="4008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судьбы и вол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50920" y="1341360"/>
            <a:ext cx="864216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И если точно есть предопределение, то зачем же нам дана воля, рассудок? почему мы должны давать отчет в наших поступках?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50920" y="2852640"/>
            <a:ext cx="8642160" cy="21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 А мы, их жалкие потомки, скитающиеся по земле без убеждений и гордости, без наслаждения и страха, кроме той невольной боязни, сжимающей сердце при мысли о неизбежном конце, мы не способны более к великим жертвам ни для блага человечества, ни даже для собственного нашего счастья, потому что знаем его невозможность и равнодушно переходим от сомнения к сомнению…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643920" y="2238480"/>
            <a:ext cx="13208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2627280" y="5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565164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428472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250920" y="5157720"/>
            <a:ext cx="5545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ичие у человека веры и ц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250920" y="5877000"/>
            <a:ext cx="5545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сутствие у человека веры в судьбу, в себ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7504200" y="5157720"/>
            <a:ext cx="1388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7498080" y="5877000"/>
            <a:ext cx="138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579600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5796000" y="609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270036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4284720" y="494172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20"/>
          <p:cNvSpPr/>
          <p:nvPr/>
        </p:nvSpPr>
        <p:spPr>
          <a:xfrm rot="16200000">
            <a:off x="340200" y="6327000"/>
            <a:ext cx="254160" cy="718920"/>
          </a:xfrm>
          <a:custGeom>
            <a:avLst/>
            <a:gdLst>
              <a:gd name="textAreaLeft" fmla="*/ 16200 w 254160"/>
              <a:gd name="textAreaRight" fmla="*/ 237960 w 254160"/>
              <a:gd name="textAreaTop" fmla="*/ 16200 h 718920"/>
              <a:gd name="textAreaBottom" fmla="*/ 702720 h 718920"/>
            </a:gdLst>
            <a:ahLst/>
            <a:rect l="textAreaLeft" t="textAreaTop" r="textAreaRight" b="textAreaBottom"/>
            <a:pathLst>
              <a:path w="21600" h="61042">
                <a:moveTo>
                  <a:pt x="0" y="0"/>
                </a:moveTo>
                <a:lnTo>
                  <a:pt x="21600" y="0"/>
                </a:lnTo>
                <a:lnTo>
                  <a:pt x="21600" y="61042"/>
                </a:lnTo>
                <a:lnTo>
                  <a:pt x="0" y="61042"/>
                </a:lnTo>
                <a:close/>
              </a:path>
              <a:path fill="lightenLess" w="21600" h="61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042">
                <a:moveTo>
                  <a:pt x="21600" y="0"/>
                </a:moveTo>
                <a:lnTo>
                  <a:pt x="21600" y="61042"/>
                </a:lnTo>
                <a:lnTo>
                  <a:pt x="20200" y="59642"/>
                </a:lnTo>
                <a:lnTo>
                  <a:pt x="20200" y="1400"/>
                </a:lnTo>
                <a:close/>
              </a:path>
              <a:path fill="darkenLess" w="21600" h="61042">
                <a:moveTo>
                  <a:pt x="21600" y="61042"/>
                </a:moveTo>
                <a:lnTo>
                  <a:pt x="0" y="61042"/>
                </a:lnTo>
                <a:lnTo>
                  <a:pt x="1400" y="59642"/>
                </a:lnTo>
                <a:lnTo>
                  <a:pt x="20200" y="59642"/>
                </a:lnTo>
                <a:close/>
              </a:path>
              <a:path fill="lighten" w="21600" h="61042">
                <a:moveTo>
                  <a:pt x="0" y="61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59642"/>
                </a:lnTo>
                <a:close/>
              </a:path>
              <a:path fill="darken" w="21600" h="61042">
                <a:moveTo>
                  <a:pt x="3794" y="27214"/>
                </a:moveTo>
                <a:lnTo>
                  <a:pt x="7301" y="27214"/>
                </a:lnTo>
                <a:lnTo>
                  <a:pt x="7301" y="32549"/>
                </a:lnTo>
                <a:cubicBezTo>
                  <a:pt x="7301" y="33472"/>
                  <a:pt x="8102" y="34203"/>
                  <a:pt x="9138" y="34203"/>
                </a:cubicBezTo>
                <a:lnTo>
                  <a:pt x="10800" y="34203"/>
                </a:lnTo>
                <a:cubicBezTo>
                  <a:pt x="11836" y="34203"/>
                  <a:pt x="12636" y="33472"/>
                  <a:pt x="12636" y="32549"/>
                </a:cubicBezTo>
                <a:lnTo>
                  <a:pt x="12636" y="27214"/>
                </a:lnTo>
                <a:lnTo>
                  <a:pt x="10800" y="27214"/>
                </a:lnTo>
                <a:lnTo>
                  <a:pt x="14308" y="23706"/>
                </a:lnTo>
                <a:lnTo>
                  <a:pt x="17981" y="27214"/>
                </a:lnTo>
                <a:lnTo>
                  <a:pt x="16144" y="27214"/>
                </a:lnTo>
                <a:lnTo>
                  <a:pt x="16144" y="32549"/>
                </a:lnTo>
                <a:cubicBezTo>
                  <a:pt x="16144" y="35317"/>
                  <a:pt x="13568" y="37876"/>
                  <a:pt x="10800" y="37876"/>
                </a:cubicBezTo>
                <a:lnTo>
                  <a:pt x="9138" y="37876"/>
                </a:lnTo>
                <a:cubicBezTo>
                  <a:pt x="6370" y="37876"/>
                  <a:pt x="3794" y="35317"/>
                  <a:pt x="3794" y="3254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21"/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indefinite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0" y="-169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ечорин и Онеги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Онегин_Л_ Тимошенко"/>
          <p:cNvPicPr/>
          <p:nvPr/>
        </p:nvPicPr>
        <p:blipFill>
          <a:blip r:embed="rId2"/>
          <a:stretch/>
        </p:blipFill>
        <p:spPr>
          <a:xfrm>
            <a:off x="7343640" y="44280"/>
            <a:ext cx="1765440" cy="23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8" name="Picture 5" descr="image039"/>
          <p:cNvPicPr/>
          <p:nvPr/>
        </p:nvPicPr>
        <p:blipFill>
          <a:blip r:embed="rId3"/>
          <a:stretch/>
        </p:blipFill>
        <p:spPr>
          <a:xfrm>
            <a:off x="34920" y="44280"/>
            <a:ext cx="1782720" cy="23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9" name="Text Box 6"/>
          <p:cNvSpPr/>
          <p:nvPr/>
        </p:nvSpPr>
        <p:spPr>
          <a:xfrm>
            <a:off x="1979640" y="765000"/>
            <a:ext cx="5184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линск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Печорин – «Это Онегин нашего времени, герой нашего времени. Несходство их между собой гораздо меньше расстояния между Онегою и Печорою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547640" y="2492280"/>
            <a:ext cx="6048720" cy="42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ерц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Печорин – «младший брат Онегина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0" y="3017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од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303120" y="3594240"/>
            <a:ext cx="85899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ставители светского обще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тория жизни: вначале – погоня за светскими удовольствиями, затем – разочаров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пытка найти применение своим душевным силам (чтение книг, хозяйство) – вновь разочаров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оями овладевает скука (спли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итическое отношение не только к окружающим, но и к себе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0"/>
          <p:cNvSpPr/>
          <p:nvPr/>
        </p:nvSpPr>
        <p:spPr>
          <a:xfrm rot="16200000">
            <a:off x="322920" y="6309360"/>
            <a:ext cx="289080" cy="71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53678">
                <a:moveTo>
                  <a:pt x="0" y="0"/>
                </a:moveTo>
                <a:lnTo>
                  <a:pt x="21600" y="0"/>
                </a:lnTo>
                <a:lnTo>
                  <a:pt x="21600" y="53678"/>
                </a:lnTo>
                <a:lnTo>
                  <a:pt x="0" y="53678"/>
                </a:lnTo>
                <a:close/>
              </a:path>
              <a:path fill="lightenLess" w="21600" h="536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3678">
                <a:moveTo>
                  <a:pt x="21600" y="0"/>
                </a:moveTo>
                <a:lnTo>
                  <a:pt x="21600" y="53678"/>
                </a:lnTo>
                <a:lnTo>
                  <a:pt x="20200" y="52278"/>
                </a:lnTo>
                <a:lnTo>
                  <a:pt x="20200" y="1400"/>
                </a:lnTo>
                <a:close/>
              </a:path>
              <a:path fill="darkenLess" w="21600" h="53678">
                <a:moveTo>
                  <a:pt x="21600" y="53678"/>
                </a:moveTo>
                <a:lnTo>
                  <a:pt x="0" y="53678"/>
                </a:lnTo>
                <a:lnTo>
                  <a:pt x="1400" y="52278"/>
                </a:lnTo>
                <a:lnTo>
                  <a:pt x="20200" y="52278"/>
                </a:lnTo>
                <a:close/>
              </a:path>
              <a:path fill="lighten" w="21600" h="53678">
                <a:moveTo>
                  <a:pt x="0" y="53678"/>
                </a:moveTo>
                <a:lnTo>
                  <a:pt x="0" y="0"/>
                </a:lnTo>
                <a:lnTo>
                  <a:pt x="1400" y="1400"/>
                </a:lnTo>
                <a:lnTo>
                  <a:pt x="1400" y="52278"/>
                </a:lnTo>
                <a:close/>
              </a:path>
              <a:path fill="darken" w="21600" h="53678">
                <a:moveTo>
                  <a:pt x="3794" y="23531"/>
                </a:moveTo>
                <a:lnTo>
                  <a:pt x="7301" y="23531"/>
                </a:lnTo>
                <a:lnTo>
                  <a:pt x="7301" y="28867"/>
                </a:lnTo>
                <a:cubicBezTo>
                  <a:pt x="7301" y="29789"/>
                  <a:pt x="8102" y="30520"/>
                  <a:pt x="9138" y="30520"/>
                </a:cubicBezTo>
                <a:lnTo>
                  <a:pt x="10800" y="30520"/>
                </a:lnTo>
                <a:cubicBezTo>
                  <a:pt x="11836" y="30520"/>
                  <a:pt x="12636" y="29789"/>
                  <a:pt x="12636" y="28867"/>
                </a:cubicBezTo>
                <a:lnTo>
                  <a:pt x="12636" y="23531"/>
                </a:lnTo>
                <a:lnTo>
                  <a:pt x="10800" y="23531"/>
                </a:lnTo>
                <a:lnTo>
                  <a:pt x="14308" y="20024"/>
                </a:lnTo>
                <a:lnTo>
                  <a:pt x="17981" y="23531"/>
                </a:lnTo>
                <a:lnTo>
                  <a:pt x="16144" y="23531"/>
                </a:lnTo>
                <a:lnTo>
                  <a:pt x="16144" y="28867"/>
                </a:lnTo>
                <a:cubicBezTo>
                  <a:pt x="16144" y="31635"/>
                  <a:pt x="13568" y="34193"/>
                  <a:pt x="10800" y="34193"/>
                </a:cubicBezTo>
                <a:lnTo>
                  <a:pt x="9138" y="34193"/>
                </a:lnTo>
                <a:cubicBezTo>
                  <a:pt x="6370" y="34193"/>
                  <a:pt x="3794" y="31635"/>
                  <a:pt x="3794" y="28867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8459640" y="6562800"/>
            <a:ext cx="649440" cy="250920"/>
          </a:xfrm>
          <a:custGeom>
            <a:avLst/>
            <a:gdLst>
              <a:gd name="textAreaLeft" fmla="*/ 16200 w 649440"/>
              <a:gd name="textAreaRight" fmla="*/ 633240 w 6494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57" h="21600">
                <a:moveTo>
                  <a:pt x="0" y="0"/>
                </a:moveTo>
                <a:lnTo>
                  <a:pt x="55857" y="0"/>
                </a:lnTo>
                <a:lnTo>
                  <a:pt x="55857" y="21600"/>
                </a:lnTo>
                <a:lnTo>
                  <a:pt x="0" y="21600"/>
                </a:lnTo>
                <a:close/>
              </a:path>
              <a:path fill="lightenLess" w="55857" h="21600">
                <a:moveTo>
                  <a:pt x="0" y="0"/>
                </a:moveTo>
                <a:lnTo>
                  <a:pt x="55857" y="0"/>
                </a:lnTo>
                <a:lnTo>
                  <a:pt x="54457" y="1400"/>
                </a:lnTo>
                <a:lnTo>
                  <a:pt x="1400" y="1400"/>
                </a:lnTo>
                <a:close/>
              </a:path>
              <a:path fill="darken" w="55857" h="21600">
                <a:moveTo>
                  <a:pt x="55857" y="0"/>
                </a:moveTo>
                <a:lnTo>
                  <a:pt x="55857" y="21600"/>
                </a:lnTo>
                <a:lnTo>
                  <a:pt x="54457" y="20200"/>
                </a:lnTo>
                <a:lnTo>
                  <a:pt x="54457" y="1400"/>
                </a:lnTo>
                <a:close/>
              </a:path>
              <a:path fill="darkenLess" w="55857" h="21600">
                <a:moveTo>
                  <a:pt x="55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57" y="20200"/>
                </a:lnTo>
                <a:close/>
              </a:path>
              <a:path fill="lighten" w="55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57" h="21600">
                <a:moveTo>
                  <a:pt x="20922" y="3794"/>
                </a:moveTo>
                <a:lnTo>
                  <a:pt x="34935" y="10800"/>
                </a:lnTo>
                <a:lnTo>
                  <a:pt x="2092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fill="hold">
                      <p:stCondLst>
                        <p:cond delay="0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indefinite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8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5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2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9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6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Онегин"/>
          <p:cNvPicPr/>
          <p:nvPr/>
        </p:nvPicPr>
        <p:blipFill>
          <a:blip r:embed="rId2"/>
          <a:stretch/>
        </p:blipFill>
        <p:spPr>
          <a:xfrm>
            <a:off x="249120" y="907920"/>
            <a:ext cx="2162160" cy="30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7" name="Picture 4" descr="096238"/>
          <p:cNvPicPr/>
          <p:nvPr/>
        </p:nvPicPr>
        <p:blipFill>
          <a:blip r:embed="rId3"/>
          <a:stretch/>
        </p:blipFill>
        <p:spPr>
          <a:xfrm>
            <a:off x="6732720" y="836640"/>
            <a:ext cx="215892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8" name="Text Box 6"/>
          <p:cNvSpPr/>
          <p:nvPr/>
        </p:nvSpPr>
        <p:spPr>
          <a:xfrm>
            <a:off x="2484360" y="-270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2556000" y="295200"/>
            <a:ext cx="4032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чорин – человек 30-х гг. (время реак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аренная, неординарная личность (ум, сильные страсти, вол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 противоречив (борьба рассудочности с требованиями ума и сердц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ен на глубокую любовь (отношение к Вер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й герой своего врем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9"/>
          <p:cNvSpPr/>
          <p:nvPr/>
        </p:nvSpPr>
        <p:spPr>
          <a:xfrm rot="5400000">
            <a:off x="4428000" y="2491200"/>
            <a:ext cx="214200" cy="2663640"/>
          </a:xfrm>
          <a:custGeom>
            <a:avLst/>
            <a:gdLst>
              <a:gd name="textAreaLeft" fmla="*/ 0 w 214200"/>
              <a:gd name="textAreaRight" fmla="*/ 77400 w 2142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69"/>
                </a:lnTo>
                <a:cubicBezTo>
                  <a:pt x="10800" y="9769"/>
                  <a:pt x="16200" y="10669"/>
                  <a:pt x="21600" y="10669"/>
                </a:cubicBezTo>
                <a:cubicBezTo>
                  <a:pt x="16200" y="10669"/>
                  <a:pt x="10800" y="11569"/>
                  <a:pt x="10800" y="124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2598840" y="3860640"/>
            <a:ext cx="39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п лишне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179280" y="4529160"/>
            <a:ext cx="8856720" cy="169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А.И. Герцен (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61 г.)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«Время Онегиных и Печориных прошло.  Теперь в России нет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ишних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людей, теперь, напротив, к этим огромным запашкам рук недостает. Кто теперь не найдет дела, тому пенять не на кого, тот в самом деле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пусто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человек, свищ или лентяй. Оттого очень естественно Онегины и Печорины делаются Обломовыми»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2"/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3"/>
          <p:cNvSpPr/>
          <p:nvPr/>
        </p:nvSpPr>
        <p:spPr>
          <a:xfrm>
            <a:off x="8317080" y="652464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3794"/>
                </a:moveTo>
                <a:lnTo>
                  <a:pt x="33845" y="10800"/>
                </a:lnTo>
                <a:lnTo>
                  <a:pt x="19832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4"/>
          <p:cNvSpPr/>
          <p:nvPr/>
        </p:nvSpPr>
        <p:spPr>
          <a:xfrm>
            <a:off x="2987640" y="3860640"/>
            <a:ext cx="3168720" cy="505080"/>
          </a:xfrm>
          <a:custGeom>
            <a:avLst/>
            <a:gdLst>
              <a:gd name="textAreaLeft" fmla="*/ 32400 w 3168720"/>
              <a:gd name="textAreaRight" fmla="*/ 3136320 w 316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135431" h="21600">
                <a:moveTo>
                  <a:pt x="0" y="0"/>
                </a:moveTo>
                <a:lnTo>
                  <a:pt x="135431" y="0"/>
                </a:lnTo>
                <a:lnTo>
                  <a:pt x="135431" y="21600"/>
                </a:lnTo>
                <a:lnTo>
                  <a:pt x="0" y="21600"/>
                </a:lnTo>
                <a:close/>
              </a:path>
              <a:path fill="lightenLess" w="135431" h="21600">
                <a:moveTo>
                  <a:pt x="0" y="0"/>
                </a:moveTo>
                <a:lnTo>
                  <a:pt x="135431" y="0"/>
                </a:lnTo>
                <a:lnTo>
                  <a:pt x="134031" y="1400"/>
                </a:lnTo>
                <a:lnTo>
                  <a:pt x="1400" y="1400"/>
                </a:lnTo>
                <a:close/>
              </a:path>
              <a:path fill="darken" w="135431" h="21600">
                <a:moveTo>
                  <a:pt x="135431" y="0"/>
                </a:moveTo>
                <a:lnTo>
                  <a:pt x="135431" y="21600"/>
                </a:lnTo>
                <a:lnTo>
                  <a:pt x="134031" y="20200"/>
                </a:lnTo>
                <a:lnTo>
                  <a:pt x="134031" y="1400"/>
                </a:lnTo>
                <a:close/>
              </a:path>
              <a:path fill="darkenLess" w="135431" h="21600">
                <a:moveTo>
                  <a:pt x="135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031" y="20200"/>
                </a:lnTo>
                <a:close/>
              </a:path>
              <a:path fill="lighten" w="135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0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5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9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6" dur="1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fon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250920" y="-171360"/>
            <a:ext cx="8642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ипу «лишнего человек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ити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и некоторые литературоведы в ХХ в. относят Евгения Онегина, Печорина, Обломова, героев романов Тургенева (Рудина, Лаврецкого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 наименование вошло во всеобщее употребление после «Дневника лишнего человека» И.С. Тургенева. Сам же тип сложился раньше: первое законченное воплощение – это Онегин, затем – Печорин, тургеневские персонаж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оциально-психологический тип, которому свойственно отчуждение от официальной России, от родной среды ( обычно – дворянской), чувство интеллектуального и нравственного превосходства над ней и в то же время – душевная усталость, глубокий скептицизм, разлад слова и д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воряне, не нашедшие себе места в жизни, не увидевшие применения своим силам, нередко слабые и безволь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1912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тали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еловек, склонный к фатализ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314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тал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ера в неотвратимость судьбы, в то, что все в м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анее предопределено таинственной силой, р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4365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таль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. Предопределенный роком; загадочно-непоня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ковой, трагический по своей сути, по результа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91960" y="595008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егов С.И. Толковый словарь русского языка. – М,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4920" y="836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мань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анская) станица Темрюкского района Краснодар-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го края, порт на берегу Таманского залива Креч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го пролива. (БС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мысл назв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4520" y="1341360"/>
            <a:ext cx="41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дин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81800" y="2060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дин из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4427640" y="19159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356000" y="1628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343480" y="157644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902520" y="335772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е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Рисунок1"/>
          <p:cNvPicPr/>
          <p:nvPr/>
        </p:nvPicPr>
        <p:blipFill>
          <a:blip r:embed="rId2"/>
          <a:stretch/>
        </p:blipFill>
        <p:spPr>
          <a:xfrm rot="5400000">
            <a:off x="1259280" y="1916640"/>
            <a:ext cx="263520" cy="1414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3"/>
          <p:cNvSpPr/>
          <p:nvPr/>
        </p:nvSpPr>
        <p:spPr>
          <a:xfrm rot="5400000">
            <a:off x="1151640" y="2888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" descr="Рисунок1"/>
          <p:cNvPicPr/>
          <p:nvPr/>
        </p:nvPicPr>
        <p:blipFill>
          <a:blip r:embed="rId3"/>
          <a:stretch/>
        </p:blipFill>
        <p:spPr>
          <a:xfrm rot="5400000">
            <a:off x="2986200" y="3213720"/>
            <a:ext cx="263520" cy="1414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/>
          <p:cNvSpPr/>
          <p:nvPr/>
        </p:nvSpPr>
        <p:spPr>
          <a:xfrm>
            <a:off x="2917800" y="407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197800" y="48690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0-е гг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IX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7">
            <a:hlinkClick r:id="rId4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>
            <a:hlinkClick r:id="rId5" action="ppaction://hlinksldjump"/>
          </p:cNvPr>
          <p:cNvSpPr/>
          <p:nvPr/>
        </p:nvSpPr>
        <p:spPr>
          <a:xfrm>
            <a:off x="2124000" y="479736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549440" y="13413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549440" y="20606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044360" y="3357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2">
            <a:hlinkClick r:id="rId6" action="ppaction://hlinksldjump"/>
          </p:cNvPr>
          <p:cNvSpPr/>
          <p:nvPr/>
        </p:nvSpPr>
        <p:spPr>
          <a:xfrm>
            <a:off x="1116000" y="328608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3">
            <a:hlinkClick r:id="rId7" action="ppaction://hlinksldjump"/>
          </p:cNvPr>
          <p:cNvSpPr/>
          <p:nvPr/>
        </p:nvSpPr>
        <p:spPr>
          <a:xfrm>
            <a:off x="8388360" y="6524640"/>
            <a:ext cx="720720" cy="28908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812" h="21600">
                <a:moveTo>
                  <a:pt x="0" y="0"/>
                </a:moveTo>
                <a:lnTo>
                  <a:pt x="53812" y="0"/>
                </a:lnTo>
                <a:lnTo>
                  <a:pt x="53812" y="21600"/>
                </a:lnTo>
                <a:lnTo>
                  <a:pt x="0" y="21600"/>
                </a:lnTo>
                <a:close/>
              </a:path>
              <a:path fill="lightenLess" w="53812" h="21600">
                <a:moveTo>
                  <a:pt x="0" y="0"/>
                </a:moveTo>
                <a:lnTo>
                  <a:pt x="53812" y="0"/>
                </a:lnTo>
                <a:lnTo>
                  <a:pt x="52412" y="1400"/>
                </a:lnTo>
                <a:lnTo>
                  <a:pt x="1400" y="1400"/>
                </a:lnTo>
                <a:close/>
              </a:path>
              <a:path fill="darken" w="53812" h="21600">
                <a:moveTo>
                  <a:pt x="53812" y="0"/>
                </a:moveTo>
                <a:lnTo>
                  <a:pt x="53812" y="21600"/>
                </a:lnTo>
                <a:lnTo>
                  <a:pt x="52412" y="20200"/>
                </a:lnTo>
                <a:lnTo>
                  <a:pt x="52412" y="1400"/>
                </a:lnTo>
                <a:close/>
              </a:path>
              <a:path fill="darkenLess" w="53812" h="21600">
                <a:moveTo>
                  <a:pt x="53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2" y="20200"/>
                </a:lnTo>
                <a:close/>
              </a:path>
              <a:path fill="lighten" w="53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12" h="21600">
                <a:moveTo>
                  <a:pt x="19899" y="3794"/>
                </a:moveTo>
                <a:lnTo>
                  <a:pt x="33912" y="10800"/>
                </a:lnTo>
                <a:lnTo>
                  <a:pt x="19899" y="17806"/>
                </a:ln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1388880" y="616572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егов С.И. Толковый словарь русского языка. – М,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 rot="16200000">
            <a:off x="304560" y="6291360"/>
            <a:ext cx="325440" cy="7189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47687">
                <a:moveTo>
                  <a:pt x="0" y="0"/>
                </a:moveTo>
                <a:lnTo>
                  <a:pt x="21600" y="0"/>
                </a:lnTo>
                <a:lnTo>
                  <a:pt x="21600" y="47687"/>
                </a:lnTo>
                <a:lnTo>
                  <a:pt x="0" y="47687"/>
                </a:lnTo>
                <a:close/>
              </a:path>
              <a:path fill="lightenLess" w="21600" h="47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87">
                <a:moveTo>
                  <a:pt x="21600" y="0"/>
                </a:moveTo>
                <a:lnTo>
                  <a:pt x="21600" y="47687"/>
                </a:lnTo>
                <a:lnTo>
                  <a:pt x="20200" y="46287"/>
                </a:lnTo>
                <a:lnTo>
                  <a:pt x="20200" y="1400"/>
                </a:lnTo>
                <a:close/>
              </a:path>
              <a:path fill="darkenLess" w="21600" h="47687">
                <a:moveTo>
                  <a:pt x="21600" y="47687"/>
                </a:moveTo>
                <a:lnTo>
                  <a:pt x="0" y="47687"/>
                </a:lnTo>
                <a:lnTo>
                  <a:pt x="1400" y="46287"/>
                </a:lnTo>
                <a:lnTo>
                  <a:pt x="20200" y="46287"/>
                </a:lnTo>
                <a:close/>
              </a:path>
              <a:path fill="lighten" w="21600" h="47687">
                <a:moveTo>
                  <a:pt x="0" y="47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87"/>
                </a:lnTo>
                <a:close/>
              </a:path>
              <a:path fill="darken" w="21600" h="47687">
                <a:moveTo>
                  <a:pt x="3794" y="20536"/>
                </a:moveTo>
                <a:lnTo>
                  <a:pt x="7301" y="20536"/>
                </a:lnTo>
                <a:lnTo>
                  <a:pt x="7301" y="25871"/>
                </a:lnTo>
                <a:cubicBezTo>
                  <a:pt x="7301" y="26794"/>
                  <a:pt x="8102" y="27525"/>
                  <a:pt x="9138" y="27525"/>
                </a:cubicBezTo>
                <a:lnTo>
                  <a:pt x="10800" y="27525"/>
                </a:lnTo>
                <a:cubicBezTo>
                  <a:pt x="11836" y="27525"/>
                  <a:pt x="12636" y="26794"/>
                  <a:pt x="12636" y="25871"/>
                </a:cubicBezTo>
                <a:lnTo>
                  <a:pt x="12636" y="20536"/>
                </a:lnTo>
                <a:lnTo>
                  <a:pt x="10800" y="20536"/>
                </a:lnTo>
                <a:lnTo>
                  <a:pt x="14308" y="17029"/>
                </a:lnTo>
                <a:lnTo>
                  <a:pt x="17981" y="20536"/>
                </a:lnTo>
                <a:lnTo>
                  <a:pt x="16144" y="20536"/>
                </a:lnTo>
                <a:lnTo>
                  <a:pt x="16144" y="25871"/>
                </a:lnTo>
                <a:cubicBezTo>
                  <a:pt x="16144" y="28639"/>
                  <a:pt x="13568" y="31198"/>
                  <a:pt x="10800" y="31198"/>
                </a:cubicBezTo>
                <a:lnTo>
                  <a:pt x="9138" y="31198"/>
                </a:lnTo>
                <a:cubicBezTo>
                  <a:pt x="6370" y="31198"/>
                  <a:pt x="3794" y="28639"/>
                  <a:pt x="3794" y="2587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590920" y="260280"/>
            <a:ext cx="396072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, соверш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иги, необычный п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й храбрости, добле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тверж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590920" y="260280"/>
            <a:ext cx="396072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 действующее лиц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ературного произ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2590920" y="260280"/>
            <a:ext cx="396072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, воплощ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ебе черты эпохи,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2590920" y="260280"/>
            <a:ext cx="396072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т, кто привлек к с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мание (чаще о т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вызывает восхищ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ражание, удивл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2590920" y="260280"/>
            <a:ext cx="396072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-0.24393 0.28357 E">
                                      <p:cBhvr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0.22847 0.28357 E">
                                      <p:cBhvr>
                                        <p:cTn id="26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-0.24393 0.55648 E">
                                      <p:cBhvr>
                                        <p:cTn id="26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0.22847 0.55648 E">
                                      <p:cBhvr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думавшееся поколе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08000" y="759600"/>
            <a:ext cx="892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20-х-начало 30-х годов Х1Х 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поха идейного кризиса передовой дворянской интеллигенции. Он связан с поражени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ьского восс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 николаевской реакцией во всех сферах обществен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нейшая че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ность освоить «ошибки отцов», заново осмыслить то, что казалось непреложным предшествующему поколению, выработать свою собственную нравственно-философскую пози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вляющее большинство образованных, мыслящих людей 30-х годов не сумели или не успели еще обрести ясности ц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чо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типический характер последекабристской эпохи. И судьбой своей, страданиями и сомнениями своими, и всем складом своего внутреннего мира он действительно принадлежит тому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2340000" y="1557360"/>
            <a:ext cx="3168720" cy="433440"/>
          </a:xfrm>
          <a:custGeom>
            <a:avLst/>
            <a:gdLst>
              <a:gd name="textAreaLeft" fmla="*/ 28080 w 3168720"/>
              <a:gd name="textAreaRight" fmla="*/ 3140640 w 3168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57797" h="21600">
                <a:moveTo>
                  <a:pt x="0" y="0"/>
                </a:moveTo>
                <a:lnTo>
                  <a:pt x="157797" y="0"/>
                </a:lnTo>
                <a:lnTo>
                  <a:pt x="157797" y="21600"/>
                </a:lnTo>
                <a:lnTo>
                  <a:pt x="0" y="21600"/>
                </a:lnTo>
                <a:close/>
              </a:path>
              <a:path fill="lightenLess" w="157797" h="21600">
                <a:moveTo>
                  <a:pt x="0" y="0"/>
                </a:moveTo>
                <a:lnTo>
                  <a:pt x="157797" y="0"/>
                </a:lnTo>
                <a:lnTo>
                  <a:pt x="156397" y="1400"/>
                </a:lnTo>
                <a:lnTo>
                  <a:pt x="1400" y="1400"/>
                </a:lnTo>
                <a:close/>
              </a:path>
              <a:path fill="darken" w="157797" h="21600">
                <a:moveTo>
                  <a:pt x="157797" y="0"/>
                </a:moveTo>
                <a:lnTo>
                  <a:pt x="157797" y="21600"/>
                </a:lnTo>
                <a:lnTo>
                  <a:pt x="156397" y="20200"/>
                </a:lnTo>
                <a:lnTo>
                  <a:pt x="156397" y="1400"/>
                </a:lnTo>
                <a:close/>
              </a:path>
              <a:path fill="darkenLess" w="157797" h="21600">
                <a:moveTo>
                  <a:pt x="15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397" y="20200"/>
                </a:lnTo>
                <a:close/>
              </a:path>
              <a:path fill="lighten" w="15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>
            <a:hlinkClick r:id="rId3" action="ppaction://hlinksldjump"/>
          </p:cNvPr>
          <p:cNvSpPr/>
          <p:nvPr/>
        </p:nvSpPr>
        <p:spPr>
          <a:xfrm rot="16200000">
            <a:off x="303840" y="6290640"/>
            <a:ext cx="325440" cy="72072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720720"/>
              <a:gd name="textAreaBottom" fmla="*/ 699840 h 720720"/>
            </a:gdLst>
            <a:ahLst/>
            <a:rect l="textAreaLeft" t="textAreaTop" r="textAreaRight" b="textAreaBottom"/>
            <a:pathLst>
              <a:path w="21600" h="47806">
                <a:moveTo>
                  <a:pt x="0" y="0"/>
                </a:moveTo>
                <a:lnTo>
                  <a:pt x="21600" y="0"/>
                </a:lnTo>
                <a:lnTo>
                  <a:pt x="21600" y="47806"/>
                </a:lnTo>
                <a:lnTo>
                  <a:pt x="0" y="47806"/>
                </a:lnTo>
                <a:close/>
              </a:path>
              <a:path fill="lightenLess" w="21600" h="47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806">
                <a:moveTo>
                  <a:pt x="21600" y="0"/>
                </a:moveTo>
                <a:lnTo>
                  <a:pt x="21600" y="47806"/>
                </a:lnTo>
                <a:lnTo>
                  <a:pt x="20200" y="46406"/>
                </a:lnTo>
                <a:lnTo>
                  <a:pt x="20200" y="1400"/>
                </a:lnTo>
                <a:close/>
              </a:path>
              <a:path fill="darkenLess" w="21600" h="47806">
                <a:moveTo>
                  <a:pt x="21600" y="47806"/>
                </a:moveTo>
                <a:lnTo>
                  <a:pt x="0" y="47806"/>
                </a:lnTo>
                <a:lnTo>
                  <a:pt x="1400" y="46406"/>
                </a:lnTo>
                <a:lnTo>
                  <a:pt x="20200" y="46406"/>
                </a:lnTo>
                <a:close/>
              </a:path>
              <a:path fill="lighten" w="21600" h="47806">
                <a:moveTo>
                  <a:pt x="0" y="47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46406"/>
                </a:lnTo>
                <a:close/>
              </a:path>
              <a:path fill="darken" w="21600" h="47806">
                <a:moveTo>
                  <a:pt x="3794" y="20596"/>
                </a:moveTo>
                <a:lnTo>
                  <a:pt x="7301" y="20596"/>
                </a:lnTo>
                <a:lnTo>
                  <a:pt x="7301" y="25931"/>
                </a:lnTo>
                <a:cubicBezTo>
                  <a:pt x="7301" y="26854"/>
                  <a:pt x="8102" y="27585"/>
                  <a:pt x="9138" y="27585"/>
                </a:cubicBezTo>
                <a:lnTo>
                  <a:pt x="10800" y="27585"/>
                </a:lnTo>
                <a:cubicBezTo>
                  <a:pt x="11836" y="27585"/>
                  <a:pt x="12636" y="26854"/>
                  <a:pt x="12636" y="25931"/>
                </a:cubicBezTo>
                <a:lnTo>
                  <a:pt x="12636" y="20596"/>
                </a:lnTo>
                <a:lnTo>
                  <a:pt x="10800" y="20596"/>
                </a:lnTo>
                <a:lnTo>
                  <a:pt x="14308" y="17088"/>
                </a:lnTo>
                <a:lnTo>
                  <a:pt x="17981" y="20596"/>
                </a:lnTo>
                <a:lnTo>
                  <a:pt x="16144" y="20596"/>
                </a:lnTo>
                <a:lnTo>
                  <a:pt x="16144" y="25931"/>
                </a:lnTo>
                <a:cubicBezTo>
                  <a:pt x="16144" y="28699"/>
                  <a:pt x="13568" y="31258"/>
                  <a:pt x="10800" y="31258"/>
                </a:cubicBezTo>
                <a:lnTo>
                  <a:pt x="9138" y="31258"/>
                </a:lnTo>
                <a:cubicBezTo>
                  <a:pt x="6370" y="31258"/>
                  <a:pt x="3794" y="28699"/>
                  <a:pt x="3794" y="25931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o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608200" y="905760"/>
            <a:ext cx="65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(26) декабря 182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- последняя в истории России попытка гвардейского дворцового перев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оялась в Санкт-Петербург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енатской площ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obloz1web2a"/>
          <p:cNvPicPr/>
          <p:nvPr/>
        </p:nvPicPr>
        <p:blipFill>
          <a:blip r:embed="rId2"/>
          <a:stretch/>
        </p:blipFill>
        <p:spPr>
          <a:xfrm>
            <a:off x="179280" y="4797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00px-Mikhail_BestuzhevRumin"/>
          <p:cNvPicPr/>
          <p:nvPr/>
        </p:nvPicPr>
        <p:blipFill>
          <a:blip r:embed="rId3"/>
          <a:stretch/>
        </p:blipFill>
        <p:spPr>
          <a:xfrm>
            <a:off x="250920" y="1268280"/>
            <a:ext cx="216036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433px-Sergei_muravev-apostol"/>
          <p:cNvPicPr/>
          <p:nvPr/>
        </p:nvPicPr>
        <p:blipFill>
          <a:blip r:embed="rId4"/>
          <a:stretch/>
        </p:blipFill>
        <p:spPr>
          <a:xfrm>
            <a:off x="250920" y="1268280"/>
            <a:ext cx="2158920" cy="285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estel"/>
          <p:cNvPicPr/>
          <p:nvPr/>
        </p:nvPicPr>
        <p:blipFill>
          <a:blip r:embed="rId5"/>
          <a:stretch/>
        </p:blipFill>
        <p:spPr>
          <a:xfrm>
            <a:off x="250920" y="1268280"/>
            <a:ext cx="223344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Ryleev_portrait"/>
          <p:cNvPicPr/>
          <p:nvPr/>
        </p:nvPicPr>
        <p:blipFill>
          <a:blip r:embed="rId6"/>
          <a:stretch/>
        </p:blipFill>
        <p:spPr>
          <a:xfrm>
            <a:off x="108000" y="1268280"/>
            <a:ext cx="23623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Kakhovsky"/>
          <p:cNvPicPr/>
          <p:nvPr/>
        </p:nvPicPr>
        <p:blipFill>
          <a:blip r:embed="rId7"/>
          <a:stretch/>
        </p:blipFill>
        <p:spPr>
          <a:xfrm>
            <a:off x="179280" y="1268280"/>
            <a:ext cx="224964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0" y="-100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осстание декабрист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843280" y="249228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ль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личество участнико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ысяч солдат. В результате мятежа погиб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2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2124000" y="3786120"/>
            <a:ext cx="70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х из руководителей восстания приговорили к ссылке, а Каховск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Рыле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сте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уравьева-Апостола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Бестуж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Рюм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д вместо мучительной смертной казни четвертованием приговорил повес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иговор был исполн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июля 1826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кронверке Петропавловской креп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4" descr="Kakhovsky"/>
          <p:cNvPicPr/>
          <p:nvPr/>
        </p:nvPicPr>
        <p:blipFill>
          <a:blip r:embed="rId8"/>
          <a:stretch/>
        </p:blipFill>
        <p:spPr>
          <a:xfrm>
            <a:off x="179280" y="1268280"/>
            <a:ext cx="224964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5">
            <a:hlinkClick r:id="rId9" action="ppaction://hlinksldjump"/>
          </p:cNvPr>
          <p:cNvSpPr/>
          <p:nvPr/>
        </p:nvSpPr>
        <p:spPr>
          <a:xfrm rot="16200000">
            <a:off x="340200" y="6327000"/>
            <a:ext cx="254160" cy="718920"/>
          </a:xfrm>
          <a:custGeom>
            <a:avLst/>
            <a:gdLst>
              <a:gd name="textAreaLeft" fmla="*/ 16200 w 254160"/>
              <a:gd name="textAreaRight" fmla="*/ 237960 w 254160"/>
              <a:gd name="textAreaTop" fmla="*/ 16200 h 718920"/>
              <a:gd name="textAreaBottom" fmla="*/ 702720 h 718920"/>
            </a:gdLst>
            <a:ahLst/>
            <a:rect l="textAreaLeft" t="textAreaTop" r="textAreaRight" b="textAreaBottom"/>
            <a:pathLst>
              <a:path w="21600" h="61042">
                <a:moveTo>
                  <a:pt x="0" y="0"/>
                </a:moveTo>
                <a:lnTo>
                  <a:pt x="21600" y="0"/>
                </a:lnTo>
                <a:lnTo>
                  <a:pt x="21600" y="61042"/>
                </a:lnTo>
                <a:lnTo>
                  <a:pt x="0" y="61042"/>
                </a:lnTo>
                <a:close/>
              </a:path>
              <a:path fill="lightenLess" w="21600" h="61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042">
                <a:moveTo>
                  <a:pt x="21600" y="0"/>
                </a:moveTo>
                <a:lnTo>
                  <a:pt x="21600" y="61042"/>
                </a:lnTo>
                <a:lnTo>
                  <a:pt x="20200" y="59642"/>
                </a:lnTo>
                <a:lnTo>
                  <a:pt x="20200" y="1400"/>
                </a:lnTo>
                <a:close/>
              </a:path>
              <a:path fill="darkenLess" w="21600" h="61042">
                <a:moveTo>
                  <a:pt x="21600" y="61042"/>
                </a:moveTo>
                <a:lnTo>
                  <a:pt x="0" y="61042"/>
                </a:lnTo>
                <a:lnTo>
                  <a:pt x="1400" y="59642"/>
                </a:lnTo>
                <a:lnTo>
                  <a:pt x="20200" y="59642"/>
                </a:lnTo>
                <a:close/>
              </a:path>
              <a:path fill="lighten" w="21600" h="61042">
                <a:moveTo>
                  <a:pt x="0" y="61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59642"/>
                </a:lnTo>
                <a:close/>
              </a:path>
              <a:path fill="darken" w="21600" h="61042">
                <a:moveTo>
                  <a:pt x="3794" y="27214"/>
                </a:moveTo>
                <a:lnTo>
                  <a:pt x="7301" y="27214"/>
                </a:lnTo>
                <a:lnTo>
                  <a:pt x="7301" y="32549"/>
                </a:lnTo>
                <a:cubicBezTo>
                  <a:pt x="7301" y="33472"/>
                  <a:pt x="8102" y="34203"/>
                  <a:pt x="9138" y="34203"/>
                </a:cubicBezTo>
                <a:lnTo>
                  <a:pt x="10800" y="34203"/>
                </a:lnTo>
                <a:cubicBezTo>
                  <a:pt x="11836" y="34203"/>
                  <a:pt x="12636" y="33472"/>
                  <a:pt x="12636" y="32549"/>
                </a:cubicBezTo>
                <a:lnTo>
                  <a:pt x="12636" y="27214"/>
                </a:lnTo>
                <a:lnTo>
                  <a:pt x="10800" y="27214"/>
                </a:lnTo>
                <a:lnTo>
                  <a:pt x="14308" y="23706"/>
                </a:lnTo>
                <a:lnTo>
                  <a:pt x="17981" y="27214"/>
                </a:lnTo>
                <a:lnTo>
                  <a:pt x="16144" y="27214"/>
                </a:lnTo>
                <a:lnTo>
                  <a:pt x="16144" y="32549"/>
                </a:lnTo>
                <a:cubicBezTo>
                  <a:pt x="16144" y="35317"/>
                  <a:pt x="13568" y="37876"/>
                  <a:pt x="10800" y="37876"/>
                </a:cubicBezTo>
                <a:lnTo>
                  <a:pt x="9138" y="37876"/>
                </a:lnTo>
                <a:cubicBezTo>
                  <a:pt x="6370" y="37876"/>
                  <a:pt x="3794" y="35317"/>
                  <a:pt x="3794" y="32549"/>
                </a:cubicBezTo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0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6" nodeType="after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8" nodeType="after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4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0" nodeType="after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</dc:creator>
  <dc:description/>
  <dc:language>en-US</dc:language>
  <cp:lastModifiedBy>Adm</cp:lastModifiedBy>
  <dcterms:modified xsi:type="dcterms:W3CDTF">2019-02-08T18:29:50Z</dcterms:modified>
  <cp:revision>85</cp:revision>
  <dc:subject/>
  <dc:title>PowerPoint Presentation</dc:title>
</cp:coreProperties>
</file>