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7.gif" ContentType="image/gif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49.gif" ContentType="image/gif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8.wmf" ContentType="image/x-wmf"/>
  <Override PartName="/ppt/media/image37.jpeg" ContentType="image/jpeg"/>
  <Override PartName="/ppt/media/image34.jpeg" ContentType="image/jpeg"/>
  <Override PartName="/ppt/media/image36.png" ContentType="image/png"/>
  <Override PartName="/ppt/media/image33.jpeg" ContentType="image/jpeg"/>
  <Override PartName="/ppt/media/image39.jpeg" ContentType="image/jpeg"/>
  <Override PartName="/ppt/media/image45.jpeg" ContentType="image/jpeg"/>
  <Override PartName="/ppt/media/image44.jpeg" ContentType="image/jpeg"/>
  <Override PartName="/ppt/media/image40.jpeg" ContentType="image/jpeg"/>
  <Override PartName="/ppt/media/image38.jpeg" ContentType="image/jpeg"/>
  <Override PartName="/ppt/media/image46.png" ContentType="image/png"/>
  <Override PartName="/ppt/media/image6.wmf" ContentType="image/x-wmf"/>
  <Override PartName="/ppt/media/image29.wmf" ContentType="image/x-wmf"/>
  <Override PartName="/ppt/media/image43.jpeg" ContentType="image/jpeg"/>
  <Override PartName="/ppt/media/image35.png" ContentType="image/png"/>
  <Override PartName="/ppt/media/image32.jpeg" ContentType="image/jpeg"/>
  <Override PartName="/ppt/media/image47.png" ContentType="image/png"/>
  <Override PartName="/ppt/media/image7.wmf" ContentType="image/x-wmf"/>
  <Override PartName="/ppt/media/image48.gif" ContentType="image/gif"/>
  <Override PartName="/ppt/media/image30.gif" ContentType="image/gif"/>
  <Override PartName="/ppt/media/image9.wmf" ContentType="image/x-wmf"/>
  <Override PartName="/ppt/media/image19.jpeg" ContentType="image/jpeg"/>
  <Override PartName="/ppt/media/image42.jpeg" ContentType="image/jpeg"/>
  <Override PartName="/ppt/media/image13.wmf" ContentType="image/x-wmf"/>
  <Override PartName="/ppt/media/image25.gif" ContentType="image/gif"/>
  <Override PartName="/ppt/media/image12.wmf" ContentType="image/x-wmf"/>
  <Override PartName="/ppt/media/image1.gif" ContentType="image/gif"/>
  <Override PartName="/ppt/media/image11.jpeg" ContentType="image/jpeg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79E-D96A-449E-B90B-EFDB1C81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BE3-54B9-421D-91E6-BB0A8971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9CA-CE05-4C94-93B9-49701551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B81-4B59-4994-B2D9-0B229B74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493-7A61-4E42-9C48-B354454F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9AC-F065-48FC-9AA5-E7F9ACF3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E8D-78D8-41F9-AEB5-8BFF79D2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A21-E25A-4693-B9A7-2E3F416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21F-97AF-45CE-BDC5-610648EB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98E-8D72-4D34-A38F-A7CEA1F6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AF2-1951-4269-AF0C-5E55598F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8E3-DF26-484D-848B-27602365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4a9e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C5BC-1056-4FF2-A3ED-217F8B9297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image" Target="../media/image27.gif"/><Relationship Id="rId11" Type="http://schemas.openxmlformats.org/officeDocument/2006/relationships/image" Target="../media/image28.wmf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8.gif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8.gif"/><Relationship Id="rId8" Type="http://schemas.openxmlformats.org/officeDocument/2006/relationships/image" Target="../media/image48.gi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ian.ru/photolents/20080129/97925525_5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jpe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900000" y="404640"/>
            <a:ext cx="7632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ультимедийная презента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Мир професси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организации профориентационной рабо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щихся начальных классов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11280" y="5229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Кормаченко Татьяна Сергеевна учитель начальных классов МАОУ СОШ № 60 г. Тюме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8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jacs_"/>
          <p:cNvPicPr/>
          <p:nvPr/>
        </p:nvPicPr>
        <p:blipFill>
          <a:blip r:embed="rId1"/>
          <a:stretch/>
        </p:blipFill>
        <p:spPr>
          <a:xfrm>
            <a:off x="2484360" y="1700280"/>
            <a:ext cx="1656000" cy="167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n_77"/>
          <p:cNvPicPr/>
          <p:nvPr/>
        </p:nvPicPr>
        <p:blipFill>
          <a:blip r:embed="rId2"/>
          <a:stretch/>
        </p:blipFill>
        <p:spPr>
          <a:xfrm>
            <a:off x="6948360" y="4221000"/>
            <a:ext cx="2087640" cy="2308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ANON PowerShot A2000 IS"/>
          <p:cNvPicPr/>
          <p:nvPr/>
        </p:nvPicPr>
        <p:blipFill>
          <a:blip r:embed="rId3"/>
          <a:stretch/>
        </p:blipFill>
        <p:spPr>
          <a:xfrm>
            <a:off x="179280" y="189000"/>
            <a:ext cx="2025720" cy="1909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микрофон р21"/>
          <p:cNvPicPr/>
          <p:nvPr/>
        </p:nvPicPr>
        <p:blipFill>
          <a:blip r:embed="rId4"/>
          <a:stretch/>
        </p:blipFill>
        <p:spPr>
          <a:xfrm>
            <a:off x="179280" y="2276640"/>
            <a:ext cx="1764000" cy="206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ake_83l"/>
          <p:cNvPicPr/>
          <p:nvPr/>
        </p:nvPicPr>
        <p:blipFill>
          <a:blip r:embed="rId5"/>
          <a:stretch/>
        </p:blipFill>
        <p:spPr>
          <a:xfrm>
            <a:off x="2050920" y="3429000"/>
            <a:ext cx="2627280" cy="1811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Image4_0"/>
          <p:cNvPicPr/>
          <p:nvPr/>
        </p:nvPicPr>
        <p:blipFill>
          <a:blip r:embed="rId6"/>
          <a:stretch/>
        </p:blipFill>
        <p:spPr>
          <a:xfrm>
            <a:off x="2195640" y="5373720"/>
            <a:ext cx="2368440" cy="126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Image2_0"/>
          <p:cNvPicPr/>
          <p:nvPr/>
        </p:nvPicPr>
        <p:blipFill>
          <a:blip r:embed="rId7"/>
          <a:stretch/>
        </p:blipFill>
        <p:spPr>
          <a:xfrm>
            <a:off x="4427640" y="189000"/>
            <a:ext cx="1936800" cy="1914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005"/>
          <p:cNvPicPr/>
          <p:nvPr/>
        </p:nvPicPr>
        <p:blipFill>
          <a:blip r:embed="rId8"/>
          <a:stretch/>
        </p:blipFill>
        <p:spPr>
          <a:xfrm>
            <a:off x="250920" y="4869000"/>
            <a:ext cx="1763640" cy="155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Cow_07"/>
          <p:cNvPicPr/>
          <p:nvPr/>
        </p:nvPicPr>
        <p:blipFill>
          <a:blip r:embed="rId9"/>
          <a:stretch/>
        </p:blipFill>
        <p:spPr>
          <a:xfrm>
            <a:off x="4643280" y="4724280"/>
            <a:ext cx="1571760" cy="190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car27"/>
          <p:cNvPicPr/>
          <p:nvPr/>
        </p:nvPicPr>
        <p:blipFill>
          <a:blip r:embed="rId10"/>
          <a:stretch/>
        </p:blipFill>
        <p:spPr>
          <a:xfrm>
            <a:off x="2627280" y="260280"/>
            <a:ext cx="1333440" cy="104796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4"/>
          <p:cNvGrpSpPr/>
          <p:nvPr/>
        </p:nvGrpSpPr>
        <p:grpSpPr>
          <a:xfrm>
            <a:off x="4859280" y="2205000"/>
            <a:ext cx="1800360" cy="3500280"/>
            <a:chOff x="4859280" y="2205000"/>
            <a:chExt cx="1800360" cy="3500280"/>
          </a:xfrm>
        </p:grpSpPr>
        <p:sp>
          <p:nvSpPr>
            <p:cNvPr id="104" name="AutoShape 15"/>
            <p:cNvSpPr/>
            <p:nvPr/>
          </p:nvSpPr>
          <p:spPr>
            <a:xfrm>
              <a:off x="6104520" y="3678840"/>
              <a:ext cx="65160" cy="2026440"/>
            </a:xfrm>
            <a:custGeom>
              <a:avLst/>
              <a:gdLst>
                <a:gd name="textAreaLeft" fmla="*/ 2880 w 65160"/>
                <a:gd name="textAreaRight" fmla="*/ 62280 w 65160"/>
                <a:gd name="textAreaTop" fmla="*/ 2880 h 2026440"/>
                <a:gd name="textAreaBottom" fmla="*/ 2023560 h 2026440"/>
              </a:gdLst>
              <a:ahLst/>
              <a:rect l="textAreaLeft" t="textAreaTop" r="textAreaRight" b="textAreaBottom"/>
              <a:pathLst>
                <a:path w="21600" h="668176">
                  <a:moveTo>
                    <a:pt x="3600" y="0"/>
                  </a:moveTo>
                  <a:arcTo wR="3600" hR="3600" stAng="16200000" swAng="-5400000"/>
                  <a:lnTo>
                    <a:pt x="0" y="664576"/>
                  </a:lnTo>
                  <a:arcTo wR="3600" hR="3600" stAng="10800000" swAng="-5400000"/>
                  <a:lnTo>
                    <a:pt x="18000" y="6681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5" name="Picture 16" descr="MCj04264360000[1]"/>
            <p:cNvPicPr/>
            <p:nvPr/>
          </p:nvPicPr>
          <p:blipFill>
            <a:blip r:embed="rId11"/>
            <a:stretch/>
          </p:blipFill>
          <p:spPr>
            <a:xfrm>
              <a:off x="4859280" y="2205000"/>
              <a:ext cx="1800360" cy="19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AutoShape 17"/>
            <p:cNvSpPr/>
            <p:nvPr/>
          </p:nvSpPr>
          <p:spPr>
            <a:xfrm>
              <a:off x="6562440" y="3678840"/>
              <a:ext cx="65160" cy="2026440"/>
            </a:xfrm>
            <a:custGeom>
              <a:avLst/>
              <a:gdLst>
                <a:gd name="textAreaLeft" fmla="*/ 2880 w 65160"/>
                <a:gd name="textAreaRight" fmla="*/ 62280 w 65160"/>
                <a:gd name="textAreaTop" fmla="*/ 2880 h 2026440"/>
                <a:gd name="textAreaBottom" fmla="*/ 2023560 h 2026440"/>
              </a:gdLst>
              <a:ahLst/>
              <a:rect l="textAreaLeft" t="textAreaTop" r="textAreaRight" b="textAreaBottom"/>
              <a:pathLst>
                <a:path w="21600" h="668176">
                  <a:moveTo>
                    <a:pt x="3600" y="0"/>
                  </a:moveTo>
                  <a:arcTo wR="3600" hR="3600" stAng="16200000" swAng="-5400000"/>
                  <a:lnTo>
                    <a:pt x="0" y="664576"/>
                  </a:lnTo>
                  <a:arcTo wR="3600" hR="3600" stAng="10800000" swAng="-5400000"/>
                  <a:lnTo>
                    <a:pt x="18000" y="6681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" name="Group 62"/>
          <p:cNvGrpSpPr/>
          <p:nvPr/>
        </p:nvGrpSpPr>
        <p:grpSpPr>
          <a:xfrm>
            <a:off x="6659640" y="-59760"/>
            <a:ext cx="2351880" cy="3083760"/>
            <a:chOff x="6659640" y="-59760"/>
            <a:chExt cx="2351880" cy="3083760"/>
          </a:xfrm>
        </p:grpSpPr>
        <p:pic>
          <p:nvPicPr>
            <p:cNvPr id="108" name="Picture 63" descr="MCj01937060000[1]"/>
            <p:cNvPicPr/>
            <p:nvPr/>
          </p:nvPicPr>
          <p:blipFill>
            <a:blip r:embed="rId12"/>
            <a:stretch/>
          </p:blipFill>
          <p:spPr>
            <a:xfrm>
              <a:off x="6659640" y="1627920"/>
              <a:ext cx="2303280" cy="139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Group 64"/>
            <p:cNvGrpSpPr/>
            <p:nvPr/>
          </p:nvGrpSpPr>
          <p:grpSpPr>
            <a:xfrm>
              <a:off x="6701040" y="-59760"/>
              <a:ext cx="2310480" cy="2306160"/>
              <a:chOff x="6701040" y="-59760"/>
              <a:chExt cx="2310480" cy="2306160"/>
            </a:xfrm>
          </p:grpSpPr>
          <p:sp>
            <p:nvSpPr>
              <p:cNvPr id="110" name="AutoShape 65"/>
              <p:cNvSpPr/>
              <p:nvPr/>
            </p:nvSpPr>
            <p:spPr>
              <a:xfrm rot="20446200">
                <a:off x="6948000" y="189000"/>
                <a:ext cx="1816200" cy="180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 rot="20446200">
                <a:off x="7494480" y="24696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47" h="134">
                    <a:moveTo>
                      <a:pt x="113" y="21"/>
                    </a:moveTo>
                    <a:lnTo>
                      <a:pt x="111" y="19"/>
                    </a:lnTo>
                    <a:lnTo>
                      <a:pt x="104" y="13"/>
                    </a:lnTo>
                    <a:lnTo>
                      <a:pt x="94" y="7"/>
                    </a:lnTo>
                    <a:lnTo>
                      <a:pt x="88" y="3"/>
                    </a:lnTo>
                    <a:lnTo>
                      <a:pt x="80" y="1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5" y="1"/>
                    </a:lnTo>
                    <a:lnTo>
                      <a:pt x="47" y="2"/>
                    </a:lnTo>
                    <a:lnTo>
                      <a:pt x="40" y="4"/>
                    </a:lnTo>
                    <a:lnTo>
                      <a:pt x="33" y="7"/>
                    </a:lnTo>
                    <a:lnTo>
                      <a:pt x="27" y="9"/>
                    </a:lnTo>
                    <a:lnTo>
                      <a:pt x="20" y="12"/>
                    </a:lnTo>
                    <a:lnTo>
                      <a:pt x="13" y="18"/>
                    </a:lnTo>
                    <a:lnTo>
                      <a:pt x="6" y="23"/>
                    </a:lnTo>
                    <a:lnTo>
                      <a:pt x="2" y="27"/>
                    </a:lnTo>
                    <a:lnTo>
                      <a:pt x="1" y="35"/>
                    </a:lnTo>
                    <a:lnTo>
                      <a:pt x="0" y="50"/>
                    </a:lnTo>
                    <a:lnTo>
                      <a:pt x="1" y="68"/>
                    </a:lnTo>
                    <a:lnTo>
                      <a:pt x="3" y="83"/>
                    </a:lnTo>
                    <a:lnTo>
                      <a:pt x="7" y="92"/>
                    </a:lnTo>
                    <a:lnTo>
                      <a:pt x="13" y="102"/>
                    </a:lnTo>
                    <a:lnTo>
                      <a:pt x="21" y="114"/>
                    </a:lnTo>
                    <a:lnTo>
                      <a:pt x="30" y="122"/>
                    </a:lnTo>
                    <a:lnTo>
                      <a:pt x="40" y="126"/>
                    </a:lnTo>
                    <a:lnTo>
                      <a:pt x="50" y="131"/>
                    </a:lnTo>
                    <a:lnTo>
                      <a:pt x="56" y="133"/>
                    </a:lnTo>
                    <a:lnTo>
                      <a:pt x="61" y="134"/>
                    </a:lnTo>
                    <a:lnTo>
                      <a:pt x="70" y="132"/>
                    </a:lnTo>
                    <a:lnTo>
                      <a:pt x="82" y="129"/>
                    </a:lnTo>
                    <a:lnTo>
                      <a:pt x="94" y="123"/>
                    </a:lnTo>
                    <a:lnTo>
                      <a:pt x="107" y="117"/>
                    </a:lnTo>
                    <a:lnTo>
                      <a:pt x="118" y="110"/>
                    </a:lnTo>
                    <a:lnTo>
                      <a:pt x="127" y="106"/>
                    </a:lnTo>
                    <a:lnTo>
                      <a:pt x="132" y="101"/>
                    </a:lnTo>
                    <a:lnTo>
                      <a:pt x="135" y="100"/>
                    </a:lnTo>
                    <a:lnTo>
                      <a:pt x="147" y="69"/>
                    </a:lnTo>
                    <a:lnTo>
                      <a:pt x="113" y="2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 rot="20446200">
                <a:off x="7392600" y="338760"/>
                <a:ext cx="102960" cy="1044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29" h="132">
                    <a:moveTo>
                      <a:pt x="0" y="58"/>
                    </a:moveTo>
                    <a:lnTo>
                      <a:pt x="6" y="61"/>
                    </a:lnTo>
                    <a:lnTo>
                      <a:pt x="17" y="70"/>
                    </a:lnTo>
                    <a:lnTo>
                      <a:pt x="28" y="82"/>
                    </a:lnTo>
                    <a:lnTo>
                      <a:pt x="34" y="90"/>
                    </a:lnTo>
                    <a:lnTo>
                      <a:pt x="34" y="99"/>
                    </a:lnTo>
                    <a:lnTo>
                      <a:pt x="34" y="114"/>
                    </a:lnTo>
                    <a:lnTo>
                      <a:pt x="32" y="127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8" y="132"/>
                    </a:lnTo>
                    <a:lnTo>
                      <a:pt x="44" y="132"/>
                    </a:lnTo>
                    <a:lnTo>
                      <a:pt x="51" y="131"/>
                    </a:lnTo>
                    <a:lnTo>
                      <a:pt x="59" y="130"/>
                    </a:lnTo>
                    <a:lnTo>
                      <a:pt x="68" y="129"/>
                    </a:lnTo>
                    <a:lnTo>
                      <a:pt x="76" y="127"/>
                    </a:lnTo>
                    <a:lnTo>
                      <a:pt x="83" y="124"/>
                    </a:lnTo>
                    <a:lnTo>
                      <a:pt x="90" y="121"/>
                    </a:lnTo>
                    <a:lnTo>
                      <a:pt x="98" y="117"/>
                    </a:lnTo>
                    <a:lnTo>
                      <a:pt x="106" y="113"/>
                    </a:lnTo>
                    <a:lnTo>
                      <a:pt x="113" y="107"/>
                    </a:lnTo>
                    <a:lnTo>
                      <a:pt x="120" y="101"/>
                    </a:lnTo>
                    <a:lnTo>
                      <a:pt x="125" y="94"/>
                    </a:lnTo>
                    <a:lnTo>
                      <a:pt x="128" y="87"/>
                    </a:lnTo>
                    <a:lnTo>
                      <a:pt x="129" y="81"/>
                    </a:lnTo>
                    <a:lnTo>
                      <a:pt x="126" y="64"/>
                    </a:lnTo>
                    <a:lnTo>
                      <a:pt x="119" y="46"/>
                    </a:lnTo>
                    <a:lnTo>
                      <a:pt x="110" y="28"/>
                    </a:lnTo>
                    <a:lnTo>
                      <a:pt x="99" y="14"/>
                    </a:lnTo>
                    <a:lnTo>
                      <a:pt x="96" y="10"/>
                    </a:lnTo>
                    <a:lnTo>
                      <a:pt x="91" y="7"/>
                    </a:lnTo>
                    <a:lnTo>
                      <a:pt x="87" y="5"/>
                    </a:lnTo>
                    <a:lnTo>
                      <a:pt x="82" y="2"/>
                    </a:lnTo>
                    <a:lnTo>
                      <a:pt x="76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9" y="1"/>
                    </a:lnTo>
                    <a:lnTo>
                      <a:pt x="40" y="5"/>
                    </a:lnTo>
                    <a:lnTo>
                      <a:pt x="32" y="9"/>
                    </a:lnTo>
                    <a:lnTo>
                      <a:pt x="24" y="14"/>
                    </a:lnTo>
                    <a:lnTo>
                      <a:pt x="16" y="20"/>
                    </a:lnTo>
                    <a:lnTo>
                      <a:pt x="11" y="24"/>
                    </a:lnTo>
                    <a:lnTo>
                      <a:pt x="6" y="29"/>
                    </a:lnTo>
                    <a:lnTo>
                      <a:pt x="4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 rot="20446200">
                <a:off x="8588880" y="814320"/>
                <a:ext cx="162000" cy="230040"/>
              </a:xfrm>
              <a:custGeom>
                <a:avLst/>
                <a:gdLst>
                  <a:gd name="textAreaLeft" fmla="*/ 0 w 162000"/>
                  <a:gd name="textAreaRight" fmla="*/ 162000 w 16200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203" h="290">
                    <a:moveTo>
                      <a:pt x="8" y="84"/>
                    </a:moveTo>
                    <a:lnTo>
                      <a:pt x="0" y="208"/>
                    </a:lnTo>
                    <a:lnTo>
                      <a:pt x="81" y="248"/>
                    </a:lnTo>
                    <a:lnTo>
                      <a:pt x="82" y="251"/>
                    </a:lnTo>
                    <a:lnTo>
                      <a:pt x="86" y="256"/>
                    </a:lnTo>
                    <a:lnTo>
                      <a:pt x="90" y="263"/>
                    </a:lnTo>
                    <a:lnTo>
                      <a:pt x="96" y="269"/>
                    </a:lnTo>
                    <a:lnTo>
                      <a:pt x="111" y="277"/>
                    </a:lnTo>
                    <a:lnTo>
                      <a:pt x="124" y="283"/>
                    </a:lnTo>
                    <a:lnTo>
                      <a:pt x="134" y="286"/>
                    </a:lnTo>
                    <a:lnTo>
                      <a:pt x="142" y="289"/>
                    </a:lnTo>
                    <a:lnTo>
                      <a:pt x="149" y="290"/>
                    </a:lnTo>
                    <a:lnTo>
                      <a:pt x="152" y="290"/>
                    </a:lnTo>
                    <a:lnTo>
                      <a:pt x="155" y="290"/>
                    </a:lnTo>
                    <a:lnTo>
                      <a:pt x="156" y="290"/>
                    </a:lnTo>
                    <a:lnTo>
                      <a:pt x="157" y="289"/>
                    </a:lnTo>
                    <a:lnTo>
                      <a:pt x="162" y="284"/>
                    </a:lnTo>
                    <a:lnTo>
                      <a:pt x="169" y="276"/>
                    </a:lnTo>
                    <a:lnTo>
                      <a:pt x="175" y="266"/>
                    </a:lnTo>
                    <a:lnTo>
                      <a:pt x="184" y="251"/>
                    </a:lnTo>
                    <a:lnTo>
                      <a:pt x="190" y="233"/>
                    </a:lnTo>
                    <a:lnTo>
                      <a:pt x="197" y="213"/>
                    </a:lnTo>
                    <a:lnTo>
                      <a:pt x="201" y="187"/>
                    </a:lnTo>
                    <a:lnTo>
                      <a:pt x="203" y="128"/>
                    </a:lnTo>
                    <a:lnTo>
                      <a:pt x="200" y="79"/>
                    </a:lnTo>
                    <a:lnTo>
                      <a:pt x="194" y="46"/>
                    </a:lnTo>
                    <a:lnTo>
                      <a:pt x="190" y="30"/>
                    </a:lnTo>
                    <a:lnTo>
                      <a:pt x="185" y="18"/>
                    </a:lnTo>
                    <a:lnTo>
                      <a:pt x="177" y="9"/>
                    </a:lnTo>
                    <a:lnTo>
                      <a:pt x="170" y="4"/>
                    </a:lnTo>
                    <a:lnTo>
                      <a:pt x="163" y="1"/>
                    </a:lnTo>
                    <a:lnTo>
                      <a:pt x="156" y="0"/>
                    </a:lnTo>
                    <a:lnTo>
                      <a:pt x="150" y="0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3" y="0"/>
                    </a:lnTo>
                    <a:lnTo>
                      <a:pt x="137" y="1"/>
                    </a:lnTo>
                    <a:lnTo>
                      <a:pt x="131" y="2"/>
                    </a:lnTo>
                    <a:lnTo>
                      <a:pt x="120" y="4"/>
                    </a:lnTo>
                    <a:lnTo>
                      <a:pt x="111" y="8"/>
                    </a:lnTo>
                    <a:lnTo>
                      <a:pt x="101" y="12"/>
                    </a:lnTo>
                    <a:lnTo>
                      <a:pt x="92" y="18"/>
                    </a:lnTo>
                    <a:lnTo>
                      <a:pt x="87" y="24"/>
                    </a:lnTo>
                    <a:lnTo>
                      <a:pt x="79" y="40"/>
                    </a:lnTo>
                    <a:lnTo>
                      <a:pt x="72" y="55"/>
                    </a:lnTo>
                    <a:lnTo>
                      <a:pt x="67" y="66"/>
                    </a:lnTo>
                    <a:lnTo>
                      <a:pt x="66" y="71"/>
                    </a:lnTo>
                    <a:lnTo>
                      <a:pt x="8" y="8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 rot="20446200">
                <a:off x="8092080" y="546840"/>
                <a:ext cx="460440" cy="544320"/>
              </a:xfrm>
              <a:custGeom>
                <a:avLst/>
                <a:gdLst>
                  <a:gd name="textAreaLeft" fmla="*/ 0 w 460440"/>
                  <a:gd name="textAreaRight" fmla="*/ 460440 w 460440"/>
                  <a:gd name="textAreaTop" fmla="*/ 0 h 544320"/>
                  <a:gd name="textAreaBottom" fmla="*/ 544680 h 544320"/>
                </a:gdLst>
                <a:ahLst/>
                <a:rect l="textAreaLeft" t="textAreaTop" r="textAreaRight" b="textAreaBottom"/>
                <a:pathLst>
                  <a:path w="581" h="687">
                    <a:moveTo>
                      <a:pt x="502" y="614"/>
                    </a:moveTo>
                    <a:lnTo>
                      <a:pt x="487" y="614"/>
                    </a:lnTo>
                    <a:lnTo>
                      <a:pt x="469" y="615"/>
                    </a:lnTo>
                    <a:lnTo>
                      <a:pt x="448" y="615"/>
                    </a:lnTo>
                    <a:lnTo>
                      <a:pt x="425" y="614"/>
                    </a:lnTo>
                    <a:lnTo>
                      <a:pt x="401" y="613"/>
                    </a:lnTo>
                    <a:lnTo>
                      <a:pt x="377" y="611"/>
                    </a:lnTo>
                    <a:lnTo>
                      <a:pt x="354" y="605"/>
                    </a:lnTo>
                    <a:lnTo>
                      <a:pt x="332" y="598"/>
                    </a:lnTo>
                    <a:lnTo>
                      <a:pt x="305" y="583"/>
                    </a:lnTo>
                    <a:lnTo>
                      <a:pt x="284" y="566"/>
                    </a:lnTo>
                    <a:lnTo>
                      <a:pt x="269" y="547"/>
                    </a:lnTo>
                    <a:lnTo>
                      <a:pt x="259" y="529"/>
                    </a:lnTo>
                    <a:lnTo>
                      <a:pt x="251" y="512"/>
                    </a:lnTo>
                    <a:lnTo>
                      <a:pt x="246" y="498"/>
                    </a:lnTo>
                    <a:lnTo>
                      <a:pt x="244" y="489"/>
                    </a:lnTo>
                    <a:lnTo>
                      <a:pt x="244" y="485"/>
                    </a:lnTo>
                    <a:lnTo>
                      <a:pt x="249" y="458"/>
                    </a:lnTo>
                    <a:lnTo>
                      <a:pt x="259" y="394"/>
                    </a:lnTo>
                    <a:lnTo>
                      <a:pt x="271" y="323"/>
                    </a:lnTo>
                    <a:lnTo>
                      <a:pt x="278" y="272"/>
                    </a:lnTo>
                    <a:lnTo>
                      <a:pt x="276" y="249"/>
                    </a:lnTo>
                    <a:lnTo>
                      <a:pt x="271" y="226"/>
                    </a:lnTo>
                    <a:lnTo>
                      <a:pt x="261" y="205"/>
                    </a:lnTo>
                    <a:lnTo>
                      <a:pt x="250" y="186"/>
                    </a:lnTo>
                    <a:lnTo>
                      <a:pt x="238" y="171"/>
                    </a:lnTo>
                    <a:lnTo>
                      <a:pt x="228" y="158"/>
                    </a:lnTo>
                    <a:lnTo>
                      <a:pt x="220" y="150"/>
                    </a:lnTo>
                    <a:lnTo>
                      <a:pt x="218" y="148"/>
                    </a:lnTo>
                    <a:lnTo>
                      <a:pt x="220" y="143"/>
                    </a:lnTo>
                    <a:lnTo>
                      <a:pt x="226" y="133"/>
                    </a:lnTo>
                    <a:lnTo>
                      <a:pt x="230" y="120"/>
                    </a:lnTo>
                    <a:lnTo>
                      <a:pt x="233" y="110"/>
                    </a:lnTo>
                    <a:lnTo>
                      <a:pt x="230" y="88"/>
                    </a:lnTo>
                    <a:lnTo>
                      <a:pt x="223" y="67"/>
                    </a:lnTo>
                    <a:lnTo>
                      <a:pt x="213" y="49"/>
                    </a:lnTo>
                    <a:lnTo>
                      <a:pt x="199" y="33"/>
                    </a:lnTo>
                    <a:lnTo>
                      <a:pt x="182" y="19"/>
                    </a:lnTo>
                    <a:lnTo>
                      <a:pt x="161" y="10"/>
                    </a:lnTo>
                    <a:lnTo>
                      <a:pt x="139" y="3"/>
                    </a:lnTo>
                    <a:lnTo>
                      <a:pt x="116" y="0"/>
                    </a:lnTo>
                    <a:lnTo>
                      <a:pt x="93" y="3"/>
                    </a:lnTo>
                    <a:lnTo>
                      <a:pt x="71" y="10"/>
                    </a:lnTo>
                    <a:lnTo>
                      <a:pt x="51" y="19"/>
                    </a:lnTo>
                    <a:lnTo>
                      <a:pt x="34" y="33"/>
                    </a:lnTo>
                    <a:lnTo>
                      <a:pt x="19" y="49"/>
                    </a:lnTo>
                    <a:lnTo>
                      <a:pt x="9" y="67"/>
                    </a:lnTo>
                    <a:lnTo>
                      <a:pt x="2" y="88"/>
                    </a:lnTo>
                    <a:lnTo>
                      <a:pt x="0" y="110"/>
                    </a:lnTo>
                    <a:lnTo>
                      <a:pt x="2" y="132"/>
                    </a:lnTo>
                    <a:lnTo>
                      <a:pt x="9" y="152"/>
                    </a:lnTo>
                    <a:lnTo>
                      <a:pt x="19" y="171"/>
                    </a:lnTo>
                    <a:lnTo>
                      <a:pt x="34" y="187"/>
                    </a:lnTo>
                    <a:lnTo>
                      <a:pt x="51" y="201"/>
                    </a:lnTo>
                    <a:lnTo>
                      <a:pt x="71" y="211"/>
                    </a:lnTo>
                    <a:lnTo>
                      <a:pt x="93" y="217"/>
                    </a:lnTo>
                    <a:lnTo>
                      <a:pt x="116" y="219"/>
                    </a:lnTo>
                    <a:lnTo>
                      <a:pt x="123" y="219"/>
                    </a:lnTo>
                    <a:lnTo>
                      <a:pt x="131" y="219"/>
                    </a:lnTo>
                    <a:lnTo>
                      <a:pt x="137" y="218"/>
                    </a:lnTo>
                    <a:lnTo>
                      <a:pt x="144" y="217"/>
                    </a:lnTo>
                    <a:lnTo>
                      <a:pt x="150" y="216"/>
                    </a:lnTo>
                    <a:lnTo>
                      <a:pt x="155" y="213"/>
                    </a:lnTo>
                    <a:lnTo>
                      <a:pt x="161" y="211"/>
                    </a:lnTo>
                    <a:lnTo>
                      <a:pt x="168" y="208"/>
                    </a:lnTo>
                    <a:lnTo>
                      <a:pt x="173" y="217"/>
                    </a:lnTo>
                    <a:lnTo>
                      <a:pt x="177" y="226"/>
                    </a:lnTo>
                    <a:lnTo>
                      <a:pt x="183" y="235"/>
                    </a:lnTo>
                    <a:lnTo>
                      <a:pt x="190" y="246"/>
                    </a:lnTo>
                    <a:lnTo>
                      <a:pt x="195" y="257"/>
                    </a:lnTo>
                    <a:lnTo>
                      <a:pt x="198" y="269"/>
                    </a:lnTo>
                    <a:lnTo>
                      <a:pt x="200" y="281"/>
                    </a:lnTo>
                    <a:lnTo>
                      <a:pt x="200" y="294"/>
                    </a:lnTo>
                    <a:lnTo>
                      <a:pt x="197" y="324"/>
                    </a:lnTo>
                    <a:lnTo>
                      <a:pt x="191" y="367"/>
                    </a:lnTo>
                    <a:lnTo>
                      <a:pt x="185" y="408"/>
                    </a:lnTo>
                    <a:lnTo>
                      <a:pt x="181" y="438"/>
                    </a:lnTo>
                    <a:lnTo>
                      <a:pt x="177" y="466"/>
                    </a:lnTo>
                    <a:lnTo>
                      <a:pt x="176" y="490"/>
                    </a:lnTo>
                    <a:lnTo>
                      <a:pt x="178" y="513"/>
                    </a:lnTo>
                    <a:lnTo>
                      <a:pt x="182" y="534"/>
                    </a:lnTo>
                    <a:lnTo>
                      <a:pt x="188" y="552"/>
                    </a:lnTo>
                    <a:lnTo>
                      <a:pt x="196" y="568"/>
                    </a:lnTo>
                    <a:lnTo>
                      <a:pt x="203" y="582"/>
                    </a:lnTo>
                    <a:lnTo>
                      <a:pt x="211" y="593"/>
                    </a:lnTo>
                    <a:lnTo>
                      <a:pt x="220" y="606"/>
                    </a:lnTo>
                    <a:lnTo>
                      <a:pt x="231" y="618"/>
                    </a:lnTo>
                    <a:lnTo>
                      <a:pt x="243" y="629"/>
                    </a:lnTo>
                    <a:lnTo>
                      <a:pt x="256" y="638"/>
                    </a:lnTo>
                    <a:lnTo>
                      <a:pt x="271" y="649"/>
                    </a:lnTo>
                    <a:lnTo>
                      <a:pt x="287" y="657"/>
                    </a:lnTo>
                    <a:lnTo>
                      <a:pt x="306" y="665"/>
                    </a:lnTo>
                    <a:lnTo>
                      <a:pt x="328" y="673"/>
                    </a:lnTo>
                    <a:lnTo>
                      <a:pt x="345" y="678"/>
                    </a:lnTo>
                    <a:lnTo>
                      <a:pt x="363" y="681"/>
                    </a:lnTo>
                    <a:lnTo>
                      <a:pt x="381" y="683"/>
                    </a:lnTo>
                    <a:lnTo>
                      <a:pt x="400" y="686"/>
                    </a:lnTo>
                    <a:lnTo>
                      <a:pt x="417" y="687"/>
                    </a:lnTo>
                    <a:lnTo>
                      <a:pt x="434" y="687"/>
                    </a:lnTo>
                    <a:lnTo>
                      <a:pt x="451" y="687"/>
                    </a:lnTo>
                    <a:lnTo>
                      <a:pt x="468" y="686"/>
                    </a:lnTo>
                    <a:lnTo>
                      <a:pt x="483" y="684"/>
                    </a:lnTo>
                    <a:lnTo>
                      <a:pt x="496" y="683"/>
                    </a:lnTo>
                    <a:lnTo>
                      <a:pt x="509" y="682"/>
                    </a:lnTo>
                    <a:lnTo>
                      <a:pt x="519" y="681"/>
                    </a:lnTo>
                    <a:lnTo>
                      <a:pt x="529" y="680"/>
                    </a:lnTo>
                    <a:lnTo>
                      <a:pt x="534" y="679"/>
                    </a:lnTo>
                    <a:lnTo>
                      <a:pt x="539" y="678"/>
                    </a:lnTo>
                    <a:lnTo>
                      <a:pt x="540" y="678"/>
                    </a:lnTo>
                    <a:lnTo>
                      <a:pt x="574" y="673"/>
                    </a:lnTo>
                    <a:lnTo>
                      <a:pt x="581" y="569"/>
                    </a:lnTo>
                    <a:lnTo>
                      <a:pt x="578" y="572"/>
                    </a:lnTo>
                    <a:lnTo>
                      <a:pt x="572" y="576"/>
                    </a:lnTo>
                    <a:lnTo>
                      <a:pt x="564" y="583"/>
                    </a:lnTo>
                    <a:lnTo>
                      <a:pt x="554" y="591"/>
                    </a:lnTo>
                    <a:lnTo>
                      <a:pt x="541" y="600"/>
                    </a:lnTo>
                    <a:lnTo>
                      <a:pt x="529" y="607"/>
                    </a:lnTo>
                    <a:lnTo>
                      <a:pt x="515" y="612"/>
                    </a:lnTo>
                    <a:lnTo>
                      <a:pt x="502" y="61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 rot="20446200">
                <a:off x="7614720" y="388800"/>
                <a:ext cx="584280" cy="425160"/>
              </a:xfrm>
              <a:custGeom>
                <a:avLst/>
                <a:gdLst>
                  <a:gd name="textAreaLeft" fmla="*/ 0 w 584280"/>
                  <a:gd name="textAreaRight" fmla="*/ 584280 w 58428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736" h="537">
                    <a:moveTo>
                      <a:pt x="392" y="537"/>
                    </a:moveTo>
                    <a:lnTo>
                      <a:pt x="364" y="536"/>
                    </a:lnTo>
                    <a:lnTo>
                      <a:pt x="337" y="532"/>
                    </a:lnTo>
                    <a:lnTo>
                      <a:pt x="310" y="529"/>
                    </a:lnTo>
                    <a:lnTo>
                      <a:pt x="285" y="526"/>
                    </a:lnTo>
                    <a:lnTo>
                      <a:pt x="264" y="521"/>
                    </a:lnTo>
                    <a:lnTo>
                      <a:pt x="248" y="519"/>
                    </a:lnTo>
                    <a:lnTo>
                      <a:pt x="236" y="516"/>
                    </a:lnTo>
                    <a:lnTo>
                      <a:pt x="233" y="515"/>
                    </a:lnTo>
                    <a:lnTo>
                      <a:pt x="210" y="507"/>
                    </a:lnTo>
                    <a:lnTo>
                      <a:pt x="187" y="493"/>
                    </a:lnTo>
                    <a:lnTo>
                      <a:pt x="165" y="477"/>
                    </a:lnTo>
                    <a:lnTo>
                      <a:pt x="144" y="460"/>
                    </a:lnTo>
                    <a:lnTo>
                      <a:pt x="127" y="443"/>
                    </a:lnTo>
                    <a:lnTo>
                      <a:pt x="113" y="429"/>
                    </a:lnTo>
                    <a:lnTo>
                      <a:pt x="104" y="418"/>
                    </a:lnTo>
                    <a:lnTo>
                      <a:pt x="100" y="415"/>
                    </a:lnTo>
                    <a:lnTo>
                      <a:pt x="98" y="412"/>
                    </a:lnTo>
                    <a:lnTo>
                      <a:pt x="93" y="402"/>
                    </a:lnTo>
                    <a:lnTo>
                      <a:pt x="87" y="387"/>
                    </a:lnTo>
                    <a:lnTo>
                      <a:pt x="77" y="370"/>
                    </a:lnTo>
                    <a:lnTo>
                      <a:pt x="68" y="349"/>
                    </a:lnTo>
                    <a:lnTo>
                      <a:pt x="58" y="329"/>
                    </a:lnTo>
                    <a:lnTo>
                      <a:pt x="49" y="307"/>
                    </a:lnTo>
                    <a:lnTo>
                      <a:pt x="40" y="287"/>
                    </a:lnTo>
                    <a:lnTo>
                      <a:pt x="37" y="279"/>
                    </a:lnTo>
                    <a:lnTo>
                      <a:pt x="31" y="268"/>
                    </a:lnTo>
                    <a:lnTo>
                      <a:pt x="26" y="254"/>
                    </a:lnTo>
                    <a:lnTo>
                      <a:pt x="19" y="238"/>
                    </a:lnTo>
                    <a:lnTo>
                      <a:pt x="12" y="224"/>
                    </a:lnTo>
                    <a:lnTo>
                      <a:pt x="6" y="211"/>
                    </a:lnTo>
                    <a:lnTo>
                      <a:pt x="1" y="203"/>
                    </a:lnTo>
                    <a:lnTo>
                      <a:pt x="0" y="200"/>
                    </a:lnTo>
                    <a:lnTo>
                      <a:pt x="75" y="152"/>
                    </a:lnTo>
                    <a:lnTo>
                      <a:pt x="76" y="154"/>
                    </a:lnTo>
                    <a:lnTo>
                      <a:pt x="81" y="158"/>
                    </a:lnTo>
                    <a:lnTo>
                      <a:pt x="87" y="165"/>
                    </a:lnTo>
                    <a:lnTo>
                      <a:pt x="93" y="172"/>
                    </a:lnTo>
                    <a:lnTo>
                      <a:pt x="102" y="181"/>
                    </a:lnTo>
                    <a:lnTo>
                      <a:pt x="107" y="188"/>
                    </a:lnTo>
                    <a:lnTo>
                      <a:pt x="113" y="195"/>
                    </a:lnTo>
                    <a:lnTo>
                      <a:pt x="115" y="200"/>
                    </a:lnTo>
                    <a:lnTo>
                      <a:pt x="121" y="215"/>
                    </a:lnTo>
                    <a:lnTo>
                      <a:pt x="128" y="234"/>
                    </a:lnTo>
                    <a:lnTo>
                      <a:pt x="136" y="256"/>
                    </a:lnTo>
                    <a:lnTo>
                      <a:pt x="144" y="280"/>
                    </a:lnTo>
                    <a:lnTo>
                      <a:pt x="153" y="304"/>
                    </a:lnTo>
                    <a:lnTo>
                      <a:pt x="164" y="326"/>
                    </a:lnTo>
                    <a:lnTo>
                      <a:pt x="173" y="347"/>
                    </a:lnTo>
                    <a:lnTo>
                      <a:pt x="182" y="362"/>
                    </a:lnTo>
                    <a:lnTo>
                      <a:pt x="194" y="375"/>
                    </a:lnTo>
                    <a:lnTo>
                      <a:pt x="208" y="387"/>
                    </a:lnTo>
                    <a:lnTo>
                      <a:pt x="225" y="400"/>
                    </a:lnTo>
                    <a:lnTo>
                      <a:pt x="244" y="410"/>
                    </a:lnTo>
                    <a:lnTo>
                      <a:pt x="269" y="418"/>
                    </a:lnTo>
                    <a:lnTo>
                      <a:pt x="295" y="427"/>
                    </a:lnTo>
                    <a:lnTo>
                      <a:pt x="324" y="431"/>
                    </a:lnTo>
                    <a:lnTo>
                      <a:pt x="357" y="435"/>
                    </a:lnTo>
                    <a:lnTo>
                      <a:pt x="372" y="435"/>
                    </a:lnTo>
                    <a:lnTo>
                      <a:pt x="394" y="433"/>
                    </a:lnTo>
                    <a:lnTo>
                      <a:pt x="421" y="432"/>
                    </a:lnTo>
                    <a:lnTo>
                      <a:pt x="448" y="430"/>
                    </a:lnTo>
                    <a:lnTo>
                      <a:pt x="474" y="428"/>
                    </a:lnTo>
                    <a:lnTo>
                      <a:pt x="497" y="427"/>
                    </a:lnTo>
                    <a:lnTo>
                      <a:pt x="512" y="424"/>
                    </a:lnTo>
                    <a:lnTo>
                      <a:pt x="517" y="424"/>
                    </a:lnTo>
                    <a:lnTo>
                      <a:pt x="625" y="370"/>
                    </a:lnTo>
                    <a:lnTo>
                      <a:pt x="626" y="357"/>
                    </a:lnTo>
                    <a:lnTo>
                      <a:pt x="629" y="329"/>
                    </a:lnTo>
                    <a:lnTo>
                      <a:pt x="630" y="295"/>
                    </a:lnTo>
                    <a:lnTo>
                      <a:pt x="629" y="270"/>
                    </a:lnTo>
                    <a:lnTo>
                      <a:pt x="627" y="261"/>
                    </a:lnTo>
                    <a:lnTo>
                      <a:pt x="625" y="251"/>
                    </a:lnTo>
                    <a:lnTo>
                      <a:pt x="620" y="241"/>
                    </a:lnTo>
                    <a:lnTo>
                      <a:pt x="615" y="231"/>
                    </a:lnTo>
                    <a:lnTo>
                      <a:pt x="608" y="219"/>
                    </a:lnTo>
                    <a:lnTo>
                      <a:pt x="600" y="208"/>
                    </a:lnTo>
                    <a:lnTo>
                      <a:pt x="591" y="196"/>
                    </a:lnTo>
                    <a:lnTo>
                      <a:pt x="580" y="185"/>
                    </a:lnTo>
                    <a:lnTo>
                      <a:pt x="570" y="177"/>
                    </a:lnTo>
                    <a:lnTo>
                      <a:pt x="558" y="167"/>
                    </a:lnTo>
                    <a:lnTo>
                      <a:pt x="544" y="156"/>
                    </a:lnTo>
                    <a:lnTo>
                      <a:pt x="527" y="144"/>
                    </a:lnTo>
                    <a:lnTo>
                      <a:pt x="508" y="134"/>
                    </a:lnTo>
                    <a:lnTo>
                      <a:pt x="490" y="124"/>
                    </a:lnTo>
                    <a:lnTo>
                      <a:pt x="470" y="114"/>
                    </a:lnTo>
                    <a:lnTo>
                      <a:pt x="451" y="108"/>
                    </a:lnTo>
                    <a:lnTo>
                      <a:pt x="447" y="110"/>
                    </a:lnTo>
                    <a:lnTo>
                      <a:pt x="441" y="119"/>
                    </a:lnTo>
                    <a:lnTo>
                      <a:pt x="432" y="134"/>
                    </a:lnTo>
                    <a:lnTo>
                      <a:pt x="421" y="151"/>
                    </a:lnTo>
                    <a:lnTo>
                      <a:pt x="406" y="172"/>
                    </a:lnTo>
                    <a:lnTo>
                      <a:pt x="388" y="194"/>
                    </a:lnTo>
                    <a:lnTo>
                      <a:pt x="367" y="216"/>
                    </a:lnTo>
                    <a:lnTo>
                      <a:pt x="341" y="237"/>
                    </a:lnTo>
                    <a:lnTo>
                      <a:pt x="315" y="251"/>
                    </a:lnTo>
                    <a:lnTo>
                      <a:pt x="287" y="264"/>
                    </a:lnTo>
                    <a:lnTo>
                      <a:pt x="258" y="275"/>
                    </a:lnTo>
                    <a:lnTo>
                      <a:pt x="231" y="284"/>
                    </a:lnTo>
                    <a:lnTo>
                      <a:pt x="205" y="289"/>
                    </a:lnTo>
                    <a:lnTo>
                      <a:pt x="186" y="294"/>
                    </a:lnTo>
                    <a:lnTo>
                      <a:pt x="172" y="296"/>
                    </a:lnTo>
                    <a:lnTo>
                      <a:pt x="167" y="298"/>
                    </a:lnTo>
                    <a:lnTo>
                      <a:pt x="150" y="245"/>
                    </a:lnTo>
                    <a:lnTo>
                      <a:pt x="218" y="228"/>
                    </a:lnTo>
                    <a:lnTo>
                      <a:pt x="300" y="186"/>
                    </a:lnTo>
                    <a:lnTo>
                      <a:pt x="352" y="129"/>
                    </a:lnTo>
                    <a:lnTo>
                      <a:pt x="377" y="78"/>
                    </a:lnTo>
                    <a:lnTo>
                      <a:pt x="379" y="74"/>
                    </a:lnTo>
                    <a:lnTo>
                      <a:pt x="384" y="65"/>
                    </a:lnTo>
                    <a:lnTo>
                      <a:pt x="392" y="51"/>
                    </a:lnTo>
                    <a:lnTo>
                      <a:pt x="401" y="36"/>
                    </a:lnTo>
                    <a:lnTo>
                      <a:pt x="410" y="22"/>
                    </a:lnTo>
                    <a:lnTo>
                      <a:pt x="420" y="10"/>
                    </a:lnTo>
                    <a:lnTo>
                      <a:pt x="426" y="2"/>
                    </a:lnTo>
                    <a:lnTo>
                      <a:pt x="432" y="0"/>
                    </a:lnTo>
                    <a:lnTo>
                      <a:pt x="440" y="4"/>
                    </a:lnTo>
                    <a:lnTo>
                      <a:pt x="456" y="10"/>
                    </a:lnTo>
                    <a:lnTo>
                      <a:pt x="478" y="18"/>
                    </a:lnTo>
                    <a:lnTo>
                      <a:pt x="504" y="26"/>
                    </a:lnTo>
                    <a:lnTo>
                      <a:pt x="530" y="35"/>
                    </a:lnTo>
                    <a:lnTo>
                      <a:pt x="557" y="45"/>
                    </a:lnTo>
                    <a:lnTo>
                      <a:pt x="581" y="55"/>
                    </a:lnTo>
                    <a:lnTo>
                      <a:pt x="602" y="65"/>
                    </a:lnTo>
                    <a:lnTo>
                      <a:pt x="615" y="74"/>
                    </a:lnTo>
                    <a:lnTo>
                      <a:pt x="631" y="86"/>
                    </a:lnTo>
                    <a:lnTo>
                      <a:pt x="648" y="99"/>
                    </a:lnTo>
                    <a:lnTo>
                      <a:pt x="665" y="116"/>
                    </a:lnTo>
                    <a:lnTo>
                      <a:pt x="681" y="132"/>
                    </a:lnTo>
                    <a:lnTo>
                      <a:pt x="696" y="150"/>
                    </a:lnTo>
                    <a:lnTo>
                      <a:pt x="709" y="167"/>
                    </a:lnTo>
                    <a:lnTo>
                      <a:pt x="719" y="185"/>
                    </a:lnTo>
                    <a:lnTo>
                      <a:pt x="732" y="222"/>
                    </a:lnTo>
                    <a:lnTo>
                      <a:pt x="736" y="262"/>
                    </a:lnTo>
                    <a:lnTo>
                      <a:pt x="734" y="303"/>
                    </a:lnTo>
                    <a:lnTo>
                      <a:pt x="725" y="340"/>
                    </a:lnTo>
                    <a:lnTo>
                      <a:pt x="713" y="362"/>
                    </a:lnTo>
                    <a:lnTo>
                      <a:pt x="695" y="389"/>
                    </a:lnTo>
                    <a:lnTo>
                      <a:pt x="671" y="418"/>
                    </a:lnTo>
                    <a:lnTo>
                      <a:pt x="644" y="448"/>
                    </a:lnTo>
                    <a:lnTo>
                      <a:pt x="618" y="477"/>
                    </a:lnTo>
                    <a:lnTo>
                      <a:pt x="592" y="500"/>
                    </a:lnTo>
                    <a:lnTo>
                      <a:pt x="570" y="519"/>
                    </a:lnTo>
                    <a:lnTo>
                      <a:pt x="554" y="527"/>
                    </a:lnTo>
                    <a:lnTo>
                      <a:pt x="392" y="53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 rot="20446200">
                <a:off x="8080560" y="648000"/>
                <a:ext cx="95400" cy="774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77400"/>
                  <a:gd name="textAreaBottom" fmla="*/ 77400 h 77400"/>
                </a:gdLst>
                <a:ahLst/>
                <a:rect l="textAreaLeft" t="textAreaTop" r="textAreaRight" b="textAreaBottom"/>
                <a:pathLst>
                  <a:path w="120" h="99">
                    <a:moveTo>
                      <a:pt x="60" y="99"/>
                    </a:moveTo>
                    <a:lnTo>
                      <a:pt x="73" y="98"/>
                    </a:lnTo>
                    <a:lnTo>
                      <a:pt x="83" y="95"/>
                    </a:lnTo>
                    <a:lnTo>
                      <a:pt x="93" y="91"/>
                    </a:lnTo>
                    <a:lnTo>
                      <a:pt x="103" y="84"/>
                    </a:lnTo>
                    <a:lnTo>
                      <a:pt x="109" y="77"/>
                    </a:lnTo>
                    <a:lnTo>
                      <a:pt x="115" y="69"/>
                    </a:lnTo>
                    <a:lnTo>
                      <a:pt x="119" y="60"/>
                    </a:lnTo>
                    <a:lnTo>
                      <a:pt x="120" y="49"/>
                    </a:lnTo>
                    <a:lnTo>
                      <a:pt x="119" y="39"/>
                    </a:lnTo>
                    <a:lnTo>
                      <a:pt x="115" y="30"/>
                    </a:lnTo>
                    <a:lnTo>
                      <a:pt x="109" y="22"/>
                    </a:lnTo>
                    <a:lnTo>
                      <a:pt x="103" y="14"/>
                    </a:lnTo>
                    <a:lnTo>
                      <a:pt x="93" y="8"/>
                    </a:lnTo>
                    <a:lnTo>
                      <a:pt x="83" y="3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7" y="1"/>
                    </a:lnTo>
                    <a:lnTo>
                      <a:pt x="37" y="3"/>
                    </a:lnTo>
                    <a:lnTo>
                      <a:pt x="27" y="8"/>
                    </a:lnTo>
                    <a:lnTo>
                      <a:pt x="17" y="14"/>
                    </a:lnTo>
                    <a:lnTo>
                      <a:pt x="10" y="22"/>
                    </a:lnTo>
                    <a:lnTo>
                      <a:pt x="5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60"/>
                    </a:lnTo>
                    <a:lnTo>
                      <a:pt x="5" y="69"/>
                    </a:lnTo>
                    <a:lnTo>
                      <a:pt x="10" y="77"/>
                    </a:lnTo>
                    <a:lnTo>
                      <a:pt x="17" y="84"/>
                    </a:lnTo>
                    <a:lnTo>
                      <a:pt x="27" y="91"/>
                    </a:lnTo>
                    <a:lnTo>
                      <a:pt x="37" y="95"/>
                    </a:lnTo>
                    <a:lnTo>
                      <a:pt x="47" y="98"/>
                    </a:lnTo>
                    <a:lnTo>
                      <a:pt x="60" y="9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 rot="20446200">
                <a:off x="7585560" y="190800"/>
                <a:ext cx="285840" cy="3092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360" h="392">
                    <a:moveTo>
                      <a:pt x="40" y="74"/>
                    </a:moveTo>
                    <a:lnTo>
                      <a:pt x="42" y="74"/>
                    </a:lnTo>
                    <a:lnTo>
                      <a:pt x="45" y="75"/>
                    </a:lnTo>
                    <a:lnTo>
                      <a:pt x="51" y="75"/>
                    </a:lnTo>
                    <a:lnTo>
                      <a:pt x="58" y="76"/>
                    </a:lnTo>
                    <a:lnTo>
                      <a:pt x="65" y="77"/>
                    </a:lnTo>
                    <a:lnTo>
                      <a:pt x="73" y="78"/>
                    </a:lnTo>
                    <a:lnTo>
                      <a:pt x="81" y="80"/>
                    </a:lnTo>
                    <a:lnTo>
                      <a:pt x="88" y="81"/>
                    </a:lnTo>
                    <a:lnTo>
                      <a:pt x="95" y="83"/>
                    </a:lnTo>
                    <a:lnTo>
                      <a:pt x="103" y="88"/>
                    </a:lnTo>
                    <a:lnTo>
                      <a:pt x="111" y="92"/>
                    </a:lnTo>
                    <a:lnTo>
                      <a:pt x="119" y="98"/>
                    </a:lnTo>
                    <a:lnTo>
                      <a:pt x="127" y="105"/>
                    </a:lnTo>
                    <a:lnTo>
                      <a:pt x="134" y="111"/>
                    </a:lnTo>
                    <a:lnTo>
                      <a:pt x="138" y="116"/>
                    </a:lnTo>
                    <a:lnTo>
                      <a:pt x="142" y="121"/>
                    </a:lnTo>
                    <a:lnTo>
                      <a:pt x="145" y="127"/>
                    </a:lnTo>
                    <a:lnTo>
                      <a:pt x="150" y="137"/>
                    </a:lnTo>
                    <a:lnTo>
                      <a:pt x="157" y="151"/>
                    </a:lnTo>
                    <a:lnTo>
                      <a:pt x="164" y="166"/>
                    </a:lnTo>
                    <a:lnTo>
                      <a:pt x="171" y="182"/>
                    </a:lnTo>
                    <a:lnTo>
                      <a:pt x="178" y="198"/>
                    </a:lnTo>
                    <a:lnTo>
                      <a:pt x="182" y="213"/>
                    </a:lnTo>
                    <a:lnTo>
                      <a:pt x="186" y="226"/>
                    </a:lnTo>
                    <a:lnTo>
                      <a:pt x="188" y="239"/>
                    </a:lnTo>
                    <a:lnTo>
                      <a:pt x="193" y="252"/>
                    </a:lnTo>
                    <a:lnTo>
                      <a:pt x="197" y="266"/>
                    </a:lnTo>
                    <a:lnTo>
                      <a:pt x="203" y="281"/>
                    </a:lnTo>
                    <a:lnTo>
                      <a:pt x="209" y="296"/>
                    </a:lnTo>
                    <a:lnTo>
                      <a:pt x="214" y="309"/>
                    </a:lnTo>
                    <a:lnTo>
                      <a:pt x="220" y="320"/>
                    </a:lnTo>
                    <a:lnTo>
                      <a:pt x="225" y="328"/>
                    </a:lnTo>
                    <a:lnTo>
                      <a:pt x="231" y="336"/>
                    </a:lnTo>
                    <a:lnTo>
                      <a:pt x="241" y="346"/>
                    </a:lnTo>
                    <a:lnTo>
                      <a:pt x="254" y="356"/>
                    </a:lnTo>
                    <a:lnTo>
                      <a:pt x="266" y="366"/>
                    </a:lnTo>
                    <a:lnTo>
                      <a:pt x="279" y="377"/>
                    </a:lnTo>
                    <a:lnTo>
                      <a:pt x="290" y="385"/>
                    </a:lnTo>
                    <a:lnTo>
                      <a:pt x="298" y="389"/>
                    </a:lnTo>
                    <a:lnTo>
                      <a:pt x="301" y="392"/>
                    </a:lnTo>
                    <a:lnTo>
                      <a:pt x="316" y="346"/>
                    </a:lnTo>
                    <a:lnTo>
                      <a:pt x="360" y="317"/>
                    </a:lnTo>
                    <a:lnTo>
                      <a:pt x="326" y="283"/>
                    </a:lnTo>
                    <a:lnTo>
                      <a:pt x="324" y="277"/>
                    </a:lnTo>
                    <a:lnTo>
                      <a:pt x="316" y="258"/>
                    </a:lnTo>
                    <a:lnTo>
                      <a:pt x="305" y="230"/>
                    </a:lnTo>
                    <a:lnTo>
                      <a:pt x="294" y="199"/>
                    </a:lnTo>
                    <a:lnTo>
                      <a:pt x="280" y="166"/>
                    </a:lnTo>
                    <a:lnTo>
                      <a:pt x="267" y="136"/>
                    </a:lnTo>
                    <a:lnTo>
                      <a:pt x="257" y="111"/>
                    </a:lnTo>
                    <a:lnTo>
                      <a:pt x="250" y="96"/>
                    </a:lnTo>
                    <a:lnTo>
                      <a:pt x="244" y="87"/>
                    </a:lnTo>
                    <a:lnTo>
                      <a:pt x="237" y="77"/>
                    </a:lnTo>
                    <a:lnTo>
                      <a:pt x="228" y="68"/>
                    </a:lnTo>
                    <a:lnTo>
                      <a:pt x="219" y="59"/>
                    </a:lnTo>
                    <a:lnTo>
                      <a:pt x="211" y="51"/>
                    </a:lnTo>
                    <a:lnTo>
                      <a:pt x="202" y="44"/>
                    </a:lnTo>
                    <a:lnTo>
                      <a:pt x="195" y="38"/>
                    </a:lnTo>
                    <a:lnTo>
                      <a:pt x="190" y="35"/>
                    </a:lnTo>
                    <a:lnTo>
                      <a:pt x="181" y="28"/>
                    </a:lnTo>
                    <a:lnTo>
                      <a:pt x="173" y="22"/>
                    </a:lnTo>
                    <a:lnTo>
                      <a:pt x="164" y="17"/>
                    </a:lnTo>
                    <a:lnTo>
                      <a:pt x="154" y="13"/>
                    </a:lnTo>
                    <a:lnTo>
                      <a:pt x="146" y="9"/>
                    </a:lnTo>
                    <a:lnTo>
                      <a:pt x="138" y="6"/>
                    </a:lnTo>
                    <a:lnTo>
                      <a:pt x="131" y="4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5" y="1"/>
                    </a:lnTo>
                    <a:lnTo>
                      <a:pt x="110" y="0"/>
                    </a:lnTo>
                    <a:lnTo>
                      <a:pt x="105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2" y="0"/>
                    </a:lnTo>
                    <a:lnTo>
                      <a:pt x="89" y="0"/>
                    </a:lnTo>
                    <a:lnTo>
                      <a:pt x="81" y="0"/>
                    </a:lnTo>
                    <a:lnTo>
                      <a:pt x="74" y="1"/>
                    </a:lnTo>
                    <a:lnTo>
                      <a:pt x="68" y="2"/>
                    </a:lnTo>
                    <a:lnTo>
                      <a:pt x="62" y="2"/>
                    </a:lnTo>
                    <a:lnTo>
                      <a:pt x="57" y="4"/>
                    </a:lnTo>
                    <a:lnTo>
                      <a:pt x="52" y="5"/>
                    </a:lnTo>
                    <a:lnTo>
                      <a:pt x="47" y="6"/>
                    </a:lnTo>
                    <a:lnTo>
                      <a:pt x="43" y="6"/>
                    </a:lnTo>
                    <a:lnTo>
                      <a:pt x="36" y="7"/>
                    </a:lnTo>
                    <a:lnTo>
                      <a:pt x="29" y="9"/>
                    </a:lnTo>
                    <a:lnTo>
                      <a:pt x="22" y="12"/>
                    </a:lnTo>
                    <a:lnTo>
                      <a:pt x="15" y="14"/>
                    </a:lnTo>
                    <a:lnTo>
                      <a:pt x="9" y="16"/>
                    </a:lnTo>
                    <a:lnTo>
                      <a:pt x="5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40" y="7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 rot="20446200">
                <a:off x="7355520" y="370080"/>
                <a:ext cx="272880" cy="31248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346" h="393">
                    <a:moveTo>
                      <a:pt x="126" y="0"/>
                    </a:moveTo>
                    <a:lnTo>
                      <a:pt x="122" y="2"/>
                    </a:lnTo>
                    <a:lnTo>
                      <a:pt x="111" y="9"/>
                    </a:lnTo>
                    <a:lnTo>
                      <a:pt x="96" y="19"/>
                    </a:lnTo>
                    <a:lnTo>
                      <a:pt x="77" y="32"/>
                    </a:lnTo>
                    <a:lnTo>
                      <a:pt x="59" y="47"/>
                    </a:lnTo>
                    <a:lnTo>
                      <a:pt x="40" y="63"/>
                    </a:lnTo>
                    <a:lnTo>
                      <a:pt x="25" y="78"/>
                    </a:lnTo>
                    <a:lnTo>
                      <a:pt x="15" y="93"/>
                    </a:lnTo>
                    <a:lnTo>
                      <a:pt x="5" y="121"/>
                    </a:lnTo>
                    <a:lnTo>
                      <a:pt x="0" y="156"/>
                    </a:lnTo>
                    <a:lnTo>
                      <a:pt x="2" y="194"/>
                    </a:lnTo>
                    <a:lnTo>
                      <a:pt x="14" y="232"/>
                    </a:lnTo>
                    <a:lnTo>
                      <a:pt x="23" y="247"/>
                    </a:lnTo>
                    <a:lnTo>
                      <a:pt x="36" y="261"/>
                    </a:lnTo>
                    <a:lnTo>
                      <a:pt x="52" y="276"/>
                    </a:lnTo>
                    <a:lnTo>
                      <a:pt x="71" y="290"/>
                    </a:lnTo>
                    <a:lnTo>
                      <a:pt x="92" y="304"/>
                    </a:lnTo>
                    <a:lnTo>
                      <a:pt x="114" y="317"/>
                    </a:lnTo>
                    <a:lnTo>
                      <a:pt x="137" y="330"/>
                    </a:lnTo>
                    <a:lnTo>
                      <a:pt x="160" y="342"/>
                    </a:lnTo>
                    <a:lnTo>
                      <a:pt x="183" y="353"/>
                    </a:lnTo>
                    <a:lnTo>
                      <a:pt x="204" y="362"/>
                    </a:lnTo>
                    <a:lnTo>
                      <a:pt x="225" y="372"/>
                    </a:lnTo>
                    <a:lnTo>
                      <a:pt x="242" y="380"/>
                    </a:lnTo>
                    <a:lnTo>
                      <a:pt x="257" y="385"/>
                    </a:lnTo>
                    <a:lnTo>
                      <a:pt x="268" y="390"/>
                    </a:lnTo>
                    <a:lnTo>
                      <a:pt x="275" y="392"/>
                    </a:lnTo>
                    <a:lnTo>
                      <a:pt x="278" y="393"/>
                    </a:lnTo>
                    <a:lnTo>
                      <a:pt x="346" y="342"/>
                    </a:lnTo>
                    <a:lnTo>
                      <a:pt x="343" y="340"/>
                    </a:lnTo>
                    <a:lnTo>
                      <a:pt x="338" y="337"/>
                    </a:lnTo>
                    <a:lnTo>
                      <a:pt x="327" y="331"/>
                    </a:lnTo>
                    <a:lnTo>
                      <a:pt x="315" y="323"/>
                    </a:lnTo>
                    <a:lnTo>
                      <a:pt x="300" y="315"/>
                    </a:lnTo>
                    <a:lnTo>
                      <a:pt x="282" y="305"/>
                    </a:lnTo>
                    <a:lnTo>
                      <a:pt x="264" y="293"/>
                    </a:lnTo>
                    <a:lnTo>
                      <a:pt x="244" y="282"/>
                    </a:lnTo>
                    <a:lnTo>
                      <a:pt x="224" y="269"/>
                    </a:lnTo>
                    <a:lnTo>
                      <a:pt x="204" y="256"/>
                    </a:lnTo>
                    <a:lnTo>
                      <a:pt x="184" y="245"/>
                    </a:lnTo>
                    <a:lnTo>
                      <a:pt x="167" y="232"/>
                    </a:lnTo>
                    <a:lnTo>
                      <a:pt x="151" y="222"/>
                    </a:lnTo>
                    <a:lnTo>
                      <a:pt x="136" y="211"/>
                    </a:lnTo>
                    <a:lnTo>
                      <a:pt x="124" y="202"/>
                    </a:lnTo>
                    <a:lnTo>
                      <a:pt x="116" y="195"/>
                    </a:lnTo>
                    <a:lnTo>
                      <a:pt x="106" y="183"/>
                    </a:lnTo>
                    <a:lnTo>
                      <a:pt x="99" y="170"/>
                    </a:lnTo>
                    <a:lnTo>
                      <a:pt x="96" y="159"/>
                    </a:lnTo>
                    <a:lnTo>
                      <a:pt x="96" y="148"/>
                    </a:lnTo>
                    <a:lnTo>
                      <a:pt x="97" y="140"/>
                    </a:lnTo>
                    <a:lnTo>
                      <a:pt x="99" y="133"/>
                    </a:lnTo>
                    <a:lnTo>
                      <a:pt x="100" y="129"/>
                    </a:lnTo>
                    <a:lnTo>
                      <a:pt x="101" y="127"/>
                    </a:lnTo>
                    <a:lnTo>
                      <a:pt x="157" y="54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 rot="20446200">
                <a:off x="7188120" y="958320"/>
                <a:ext cx="1260360" cy="1073880"/>
              </a:xfrm>
              <a:custGeom>
                <a:avLst/>
                <a:gdLst>
                  <a:gd name="textAreaLeft" fmla="*/ 0 w 1260360"/>
                  <a:gd name="textAreaRight" fmla="*/ 1260720 w 1260360"/>
                  <a:gd name="textAreaTop" fmla="*/ 0 h 1073880"/>
                  <a:gd name="textAreaBottom" fmla="*/ 1074240 h 1073880"/>
                </a:gdLst>
                <a:ahLst/>
                <a:rect l="textAreaLeft" t="textAreaTop" r="textAreaRight" b="textAreaBottom"/>
                <a:pathLst>
                  <a:path w="1589" h="1353">
                    <a:moveTo>
                      <a:pt x="438" y="0"/>
                    </a:moveTo>
                    <a:lnTo>
                      <a:pt x="160" y="145"/>
                    </a:lnTo>
                    <a:lnTo>
                      <a:pt x="158" y="147"/>
                    </a:lnTo>
                    <a:lnTo>
                      <a:pt x="153" y="153"/>
                    </a:lnTo>
                    <a:lnTo>
                      <a:pt x="146" y="161"/>
                    </a:lnTo>
                    <a:lnTo>
                      <a:pt x="137" y="172"/>
                    </a:lnTo>
                    <a:lnTo>
                      <a:pt x="128" y="183"/>
                    </a:lnTo>
                    <a:lnTo>
                      <a:pt x="120" y="195"/>
                    </a:lnTo>
                    <a:lnTo>
                      <a:pt x="113" y="205"/>
                    </a:lnTo>
                    <a:lnTo>
                      <a:pt x="108" y="213"/>
                    </a:lnTo>
                    <a:lnTo>
                      <a:pt x="96" y="252"/>
                    </a:lnTo>
                    <a:lnTo>
                      <a:pt x="81" y="318"/>
                    </a:lnTo>
                    <a:lnTo>
                      <a:pt x="62" y="400"/>
                    </a:lnTo>
                    <a:lnTo>
                      <a:pt x="44" y="488"/>
                    </a:lnTo>
                    <a:lnTo>
                      <a:pt x="28" y="575"/>
                    </a:lnTo>
                    <a:lnTo>
                      <a:pt x="13" y="648"/>
                    </a:lnTo>
                    <a:lnTo>
                      <a:pt x="4" y="699"/>
                    </a:lnTo>
                    <a:lnTo>
                      <a:pt x="0" y="719"/>
                    </a:lnTo>
                    <a:lnTo>
                      <a:pt x="2" y="721"/>
                    </a:lnTo>
                    <a:lnTo>
                      <a:pt x="10" y="729"/>
                    </a:lnTo>
                    <a:lnTo>
                      <a:pt x="22" y="740"/>
                    </a:lnTo>
                    <a:lnTo>
                      <a:pt x="38" y="758"/>
                    </a:lnTo>
                    <a:lnTo>
                      <a:pt x="59" y="777"/>
                    </a:lnTo>
                    <a:lnTo>
                      <a:pt x="84" y="801"/>
                    </a:lnTo>
                    <a:lnTo>
                      <a:pt x="112" y="828"/>
                    </a:lnTo>
                    <a:lnTo>
                      <a:pt x="144" y="858"/>
                    </a:lnTo>
                    <a:lnTo>
                      <a:pt x="179" y="889"/>
                    </a:lnTo>
                    <a:lnTo>
                      <a:pt x="218" y="922"/>
                    </a:lnTo>
                    <a:lnTo>
                      <a:pt x="258" y="958"/>
                    </a:lnTo>
                    <a:lnTo>
                      <a:pt x="302" y="994"/>
                    </a:lnTo>
                    <a:lnTo>
                      <a:pt x="348" y="1031"/>
                    </a:lnTo>
                    <a:lnTo>
                      <a:pt x="396" y="1069"/>
                    </a:lnTo>
                    <a:lnTo>
                      <a:pt x="446" y="1105"/>
                    </a:lnTo>
                    <a:lnTo>
                      <a:pt x="498" y="1142"/>
                    </a:lnTo>
                    <a:lnTo>
                      <a:pt x="520" y="1157"/>
                    </a:lnTo>
                    <a:lnTo>
                      <a:pt x="542" y="1172"/>
                    </a:lnTo>
                    <a:lnTo>
                      <a:pt x="563" y="1187"/>
                    </a:lnTo>
                    <a:lnTo>
                      <a:pt x="586" y="1201"/>
                    </a:lnTo>
                    <a:lnTo>
                      <a:pt x="608" y="1216"/>
                    </a:lnTo>
                    <a:lnTo>
                      <a:pt x="631" y="1230"/>
                    </a:lnTo>
                    <a:lnTo>
                      <a:pt x="654" y="1244"/>
                    </a:lnTo>
                    <a:lnTo>
                      <a:pt x="678" y="1256"/>
                    </a:lnTo>
                    <a:lnTo>
                      <a:pt x="701" y="1269"/>
                    </a:lnTo>
                    <a:lnTo>
                      <a:pt x="725" y="1282"/>
                    </a:lnTo>
                    <a:lnTo>
                      <a:pt x="748" y="1294"/>
                    </a:lnTo>
                    <a:lnTo>
                      <a:pt x="771" y="1306"/>
                    </a:lnTo>
                    <a:lnTo>
                      <a:pt x="795" y="1317"/>
                    </a:lnTo>
                    <a:lnTo>
                      <a:pt x="818" y="1328"/>
                    </a:lnTo>
                    <a:lnTo>
                      <a:pt x="842" y="1338"/>
                    </a:lnTo>
                    <a:lnTo>
                      <a:pt x="865" y="1347"/>
                    </a:lnTo>
                    <a:lnTo>
                      <a:pt x="870" y="1348"/>
                    </a:lnTo>
                    <a:lnTo>
                      <a:pt x="875" y="1350"/>
                    </a:lnTo>
                    <a:lnTo>
                      <a:pt x="879" y="1351"/>
                    </a:lnTo>
                    <a:lnTo>
                      <a:pt x="886" y="1352"/>
                    </a:lnTo>
                    <a:lnTo>
                      <a:pt x="892" y="1352"/>
                    </a:lnTo>
                    <a:lnTo>
                      <a:pt x="899" y="1353"/>
                    </a:lnTo>
                    <a:lnTo>
                      <a:pt x="906" y="1353"/>
                    </a:lnTo>
                    <a:lnTo>
                      <a:pt x="914" y="1353"/>
                    </a:lnTo>
                    <a:lnTo>
                      <a:pt x="925" y="1353"/>
                    </a:lnTo>
                    <a:lnTo>
                      <a:pt x="937" y="1352"/>
                    </a:lnTo>
                    <a:lnTo>
                      <a:pt x="949" y="1352"/>
                    </a:lnTo>
                    <a:lnTo>
                      <a:pt x="962" y="1351"/>
                    </a:lnTo>
                    <a:lnTo>
                      <a:pt x="976" y="1350"/>
                    </a:lnTo>
                    <a:lnTo>
                      <a:pt x="990" y="1347"/>
                    </a:lnTo>
                    <a:lnTo>
                      <a:pt x="1005" y="1345"/>
                    </a:lnTo>
                    <a:lnTo>
                      <a:pt x="1020" y="1344"/>
                    </a:lnTo>
                    <a:lnTo>
                      <a:pt x="1035" y="1341"/>
                    </a:lnTo>
                    <a:lnTo>
                      <a:pt x="1051" y="1338"/>
                    </a:lnTo>
                    <a:lnTo>
                      <a:pt x="1066" y="1336"/>
                    </a:lnTo>
                    <a:lnTo>
                      <a:pt x="1082" y="1333"/>
                    </a:lnTo>
                    <a:lnTo>
                      <a:pt x="1098" y="1330"/>
                    </a:lnTo>
                    <a:lnTo>
                      <a:pt x="1114" y="1328"/>
                    </a:lnTo>
                    <a:lnTo>
                      <a:pt x="1130" y="1324"/>
                    </a:lnTo>
                    <a:lnTo>
                      <a:pt x="1146" y="1321"/>
                    </a:lnTo>
                    <a:lnTo>
                      <a:pt x="1165" y="1317"/>
                    </a:lnTo>
                    <a:lnTo>
                      <a:pt x="1183" y="1313"/>
                    </a:lnTo>
                    <a:lnTo>
                      <a:pt x="1201" y="1309"/>
                    </a:lnTo>
                    <a:lnTo>
                      <a:pt x="1218" y="1305"/>
                    </a:lnTo>
                    <a:lnTo>
                      <a:pt x="1235" y="1300"/>
                    </a:lnTo>
                    <a:lnTo>
                      <a:pt x="1251" y="1297"/>
                    </a:lnTo>
                    <a:lnTo>
                      <a:pt x="1267" y="1292"/>
                    </a:lnTo>
                    <a:lnTo>
                      <a:pt x="1282" y="1289"/>
                    </a:lnTo>
                    <a:lnTo>
                      <a:pt x="1297" y="1284"/>
                    </a:lnTo>
                    <a:lnTo>
                      <a:pt x="1311" y="1280"/>
                    </a:lnTo>
                    <a:lnTo>
                      <a:pt x="1324" y="1277"/>
                    </a:lnTo>
                    <a:lnTo>
                      <a:pt x="1335" y="1274"/>
                    </a:lnTo>
                    <a:lnTo>
                      <a:pt x="1346" y="1270"/>
                    </a:lnTo>
                    <a:lnTo>
                      <a:pt x="1355" y="1267"/>
                    </a:lnTo>
                    <a:lnTo>
                      <a:pt x="1364" y="1263"/>
                    </a:lnTo>
                    <a:lnTo>
                      <a:pt x="1371" y="1261"/>
                    </a:lnTo>
                    <a:lnTo>
                      <a:pt x="1386" y="1252"/>
                    </a:lnTo>
                    <a:lnTo>
                      <a:pt x="1401" y="1238"/>
                    </a:lnTo>
                    <a:lnTo>
                      <a:pt x="1418" y="1217"/>
                    </a:lnTo>
                    <a:lnTo>
                      <a:pt x="1434" y="1194"/>
                    </a:lnTo>
                    <a:lnTo>
                      <a:pt x="1452" y="1166"/>
                    </a:lnTo>
                    <a:lnTo>
                      <a:pt x="1469" y="1137"/>
                    </a:lnTo>
                    <a:lnTo>
                      <a:pt x="1486" y="1104"/>
                    </a:lnTo>
                    <a:lnTo>
                      <a:pt x="1504" y="1071"/>
                    </a:lnTo>
                    <a:lnTo>
                      <a:pt x="1519" y="1039"/>
                    </a:lnTo>
                    <a:lnTo>
                      <a:pt x="1533" y="1005"/>
                    </a:lnTo>
                    <a:lnTo>
                      <a:pt x="1547" y="974"/>
                    </a:lnTo>
                    <a:lnTo>
                      <a:pt x="1560" y="945"/>
                    </a:lnTo>
                    <a:lnTo>
                      <a:pt x="1570" y="920"/>
                    </a:lnTo>
                    <a:lnTo>
                      <a:pt x="1578" y="898"/>
                    </a:lnTo>
                    <a:lnTo>
                      <a:pt x="1584" y="880"/>
                    </a:lnTo>
                    <a:lnTo>
                      <a:pt x="1588" y="868"/>
                    </a:lnTo>
                    <a:lnTo>
                      <a:pt x="1589" y="844"/>
                    </a:lnTo>
                    <a:lnTo>
                      <a:pt x="1585" y="812"/>
                    </a:lnTo>
                    <a:lnTo>
                      <a:pt x="1578" y="774"/>
                    </a:lnTo>
                    <a:lnTo>
                      <a:pt x="1569" y="733"/>
                    </a:lnTo>
                    <a:lnTo>
                      <a:pt x="1560" y="697"/>
                    </a:lnTo>
                    <a:lnTo>
                      <a:pt x="1552" y="666"/>
                    </a:lnTo>
                    <a:lnTo>
                      <a:pt x="1545" y="644"/>
                    </a:lnTo>
                    <a:lnTo>
                      <a:pt x="1543" y="636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 rot="20446200">
                <a:off x="7461000" y="846360"/>
                <a:ext cx="911160" cy="84060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840600"/>
                  <a:gd name="textAreaBottom" fmla="*/ 840960 h 840600"/>
                </a:gdLst>
                <a:ahLst/>
                <a:rect l="textAreaLeft" t="textAreaTop" r="textAreaRight" b="textAreaBottom"/>
                <a:pathLst>
                  <a:path w="1149" h="1059">
                    <a:moveTo>
                      <a:pt x="62" y="0"/>
                    </a:moveTo>
                    <a:lnTo>
                      <a:pt x="51" y="7"/>
                    </a:lnTo>
                    <a:lnTo>
                      <a:pt x="41" y="20"/>
                    </a:lnTo>
                    <a:lnTo>
                      <a:pt x="29" y="38"/>
                    </a:lnTo>
                    <a:lnTo>
                      <a:pt x="20" y="56"/>
                    </a:lnTo>
                    <a:lnTo>
                      <a:pt x="12" y="75"/>
                    </a:lnTo>
                    <a:lnTo>
                      <a:pt x="6" y="90"/>
                    </a:lnTo>
                    <a:lnTo>
                      <a:pt x="1" y="100"/>
                    </a:lnTo>
                    <a:lnTo>
                      <a:pt x="0" y="105"/>
                    </a:lnTo>
                    <a:lnTo>
                      <a:pt x="155" y="197"/>
                    </a:lnTo>
                    <a:lnTo>
                      <a:pt x="736" y="596"/>
                    </a:lnTo>
                    <a:lnTo>
                      <a:pt x="740" y="615"/>
                    </a:lnTo>
                    <a:lnTo>
                      <a:pt x="748" y="663"/>
                    </a:lnTo>
                    <a:lnTo>
                      <a:pt x="761" y="733"/>
                    </a:lnTo>
                    <a:lnTo>
                      <a:pt x="777" y="813"/>
                    </a:lnTo>
                    <a:lnTo>
                      <a:pt x="793" y="894"/>
                    </a:lnTo>
                    <a:lnTo>
                      <a:pt x="809" y="968"/>
                    </a:lnTo>
                    <a:lnTo>
                      <a:pt x="824" y="1022"/>
                    </a:lnTo>
                    <a:lnTo>
                      <a:pt x="837" y="1050"/>
                    </a:lnTo>
                    <a:lnTo>
                      <a:pt x="846" y="1057"/>
                    </a:lnTo>
                    <a:lnTo>
                      <a:pt x="857" y="1059"/>
                    </a:lnTo>
                    <a:lnTo>
                      <a:pt x="869" y="1059"/>
                    </a:lnTo>
                    <a:lnTo>
                      <a:pt x="882" y="1057"/>
                    </a:lnTo>
                    <a:lnTo>
                      <a:pt x="892" y="1055"/>
                    </a:lnTo>
                    <a:lnTo>
                      <a:pt x="901" y="1051"/>
                    </a:lnTo>
                    <a:lnTo>
                      <a:pt x="907" y="1049"/>
                    </a:lnTo>
                    <a:lnTo>
                      <a:pt x="909" y="1048"/>
                    </a:lnTo>
                    <a:lnTo>
                      <a:pt x="939" y="973"/>
                    </a:lnTo>
                    <a:lnTo>
                      <a:pt x="942" y="970"/>
                    </a:lnTo>
                    <a:lnTo>
                      <a:pt x="948" y="962"/>
                    </a:lnTo>
                    <a:lnTo>
                      <a:pt x="960" y="950"/>
                    </a:lnTo>
                    <a:lnTo>
                      <a:pt x="974" y="932"/>
                    </a:lnTo>
                    <a:lnTo>
                      <a:pt x="990" y="913"/>
                    </a:lnTo>
                    <a:lnTo>
                      <a:pt x="1008" y="890"/>
                    </a:lnTo>
                    <a:lnTo>
                      <a:pt x="1028" y="865"/>
                    </a:lnTo>
                    <a:lnTo>
                      <a:pt x="1049" y="838"/>
                    </a:lnTo>
                    <a:lnTo>
                      <a:pt x="1068" y="810"/>
                    </a:lnTo>
                    <a:lnTo>
                      <a:pt x="1088" y="783"/>
                    </a:lnTo>
                    <a:lnTo>
                      <a:pt x="1105" y="754"/>
                    </a:lnTo>
                    <a:lnTo>
                      <a:pt x="1121" y="728"/>
                    </a:lnTo>
                    <a:lnTo>
                      <a:pt x="1134" y="701"/>
                    </a:lnTo>
                    <a:lnTo>
                      <a:pt x="1143" y="677"/>
                    </a:lnTo>
                    <a:lnTo>
                      <a:pt x="1149" y="655"/>
                    </a:lnTo>
                    <a:lnTo>
                      <a:pt x="1149" y="637"/>
                    </a:lnTo>
                    <a:lnTo>
                      <a:pt x="1142" y="614"/>
                    </a:lnTo>
                    <a:lnTo>
                      <a:pt x="1129" y="589"/>
                    </a:lnTo>
                    <a:lnTo>
                      <a:pt x="1111" y="563"/>
                    </a:lnTo>
                    <a:lnTo>
                      <a:pt x="1088" y="535"/>
                    </a:lnTo>
                    <a:lnTo>
                      <a:pt x="1061" y="508"/>
                    </a:lnTo>
                    <a:lnTo>
                      <a:pt x="1033" y="480"/>
                    </a:lnTo>
                    <a:lnTo>
                      <a:pt x="1001" y="452"/>
                    </a:lnTo>
                    <a:lnTo>
                      <a:pt x="970" y="425"/>
                    </a:lnTo>
                    <a:lnTo>
                      <a:pt x="938" y="399"/>
                    </a:lnTo>
                    <a:lnTo>
                      <a:pt x="908" y="376"/>
                    </a:lnTo>
                    <a:lnTo>
                      <a:pt x="879" y="356"/>
                    </a:lnTo>
                    <a:lnTo>
                      <a:pt x="854" y="337"/>
                    </a:lnTo>
                    <a:lnTo>
                      <a:pt x="833" y="321"/>
                    </a:lnTo>
                    <a:lnTo>
                      <a:pt x="816" y="310"/>
                    </a:lnTo>
                    <a:lnTo>
                      <a:pt x="806" y="303"/>
                    </a:lnTo>
                    <a:lnTo>
                      <a:pt x="802" y="300"/>
                    </a:lnTo>
                    <a:lnTo>
                      <a:pt x="371" y="76"/>
                    </a:lnTo>
                    <a:lnTo>
                      <a:pt x="230" y="107"/>
                    </a:lnTo>
                    <a:lnTo>
                      <a:pt x="224" y="102"/>
                    </a:lnTo>
                    <a:lnTo>
                      <a:pt x="208" y="88"/>
                    </a:lnTo>
                    <a:lnTo>
                      <a:pt x="185" y="70"/>
                    </a:lnTo>
                    <a:lnTo>
                      <a:pt x="157" y="49"/>
                    </a:lnTo>
                    <a:lnTo>
                      <a:pt x="128" y="29"/>
                    </a:lnTo>
                    <a:lnTo>
                      <a:pt x="102" y="12"/>
                    </a:lnTo>
                    <a:lnTo>
                      <a:pt x="79" y="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 rot="20446200">
                <a:off x="7689240" y="921960"/>
                <a:ext cx="588960" cy="60264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742" h="760">
                    <a:moveTo>
                      <a:pt x="37" y="0"/>
                    </a:moveTo>
                    <a:lnTo>
                      <a:pt x="536" y="304"/>
                    </a:lnTo>
                    <a:lnTo>
                      <a:pt x="742" y="479"/>
                    </a:lnTo>
                    <a:lnTo>
                      <a:pt x="737" y="517"/>
                    </a:lnTo>
                    <a:lnTo>
                      <a:pt x="566" y="760"/>
                    </a:lnTo>
                    <a:lnTo>
                      <a:pt x="554" y="454"/>
                    </a:lnTo>
                    <a:lnTo>
                      <a:pt x="479" y="360"/>
                    </a:lnTo>
                    <a:lnTo>
                      <a:pt x="0" y="5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 rot="20446200">
                <a:off x="7804440" y="1148400"/>
                <a:ext cx="168120" cy="150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50480"/>
                  <a:gd name="textAreaBottom" fmla="*/ 150480 h 150480"/>
                </a:gdLst>
                <a:ahLst/>
                <a:rect l="textAreaLeft" t="textAreaTop" r="textAreaRight" b="textAreaBottom"/>
                <a:pathLst>
                  <a:path w="212" h="189">
                    <a:moveTo>
                      <a:pt x="124" y="189"/>
                    </a:moveTo>
                    <a:lnTo>
                      <a:pt x="146" y="184"/>
                    </a:lnTo>
                    <a:lnTo>
                      <a:pt x="165" y="179"/>
                    </a:lnTo>
                    <a:lnTo>
                      <a:pt x="180" y="173"/>
                    </a:lnTo>
                    <a:lnTo>
                      <a:pt x="191" y="163"/>
                    </a:lnTo>
                    <a:lnTo>
                      <a:pt x="200" y="153"/>
                    </a:lnTo>
                    <a:lnTo>
                      <a:pt x="207" y="139"/>
                    </a:lnTo>
                    <a:lnTo>
                      <a:pt x="211" y="122"/>
                    </a:lnTo>
                    <a:lnTo>
                      <a:pt x="212" y="102"/>
                    </a:lnTo>
                    <a:lnTo>
                      <a:pt x="211" y="82"/>
                    </a:lnTo>
                    <a:lnTo>
                      <a:pt x="205" y="62"/>
                    </a:lnTo>
                    <a:lnTo>
                      <a:pt x="198" y="44"/>
                    </a:lnTo>
                    <a:lnTo>
                      <a:pt x="187" y="29"/>
                    </a:lnTo>
                    <a:lnTo>
                      <a:pt x="173" y="17"/>
                    </a:lnTo>
                    <a:lnTo>
                      <a:pt x="157" y="8"/>
                    </a:lnTo>
                    <a:lnTo>
                      <a:pt x="138" y="2"/>
                    </a:lnTo>
                    <a:lnTo>
                      <a:pt x="117" y="0"/>
                    </a:lnTo>
                    <a:lnTo>
                      <a:pt x="96" y="1"/>
                    </a:lnTo>
                    <a:lnTo>
                      <a:pt x="75" y="6"/>
                    </a:lnTo>
                    <a:lnTo>
                      <a:pt x="55" y="14"/>
                    </a:lnTo>
                    <a:lnTo>
                      <a:pt x="38" y="25"/>
                    </a:lnTo>
                    <a:lnTo>
                      <a:pt x="23" y="39"/>
                    </a:lnTo>
                    <a:lnTo>
                      <a:pt x="11" y="56"/>
                    </a:lnTo>
                    <a:lnTo>
                      <a:pt x="3" y="78"/>
                    </a:lnTo>
                    <a:lnTo>
                      <a:pt x="0" y="102"/>
                    </a:lnTo>
                    <a:lnTo>
                      <a:pt x="124" y="18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 rot="20446200">
                <a:off x="7511400" y="1065600"/>
                <a:ext cx="169920" cy="1584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215" h="200">
                    <a:moveTo>
                      <a:pt x="139" y="200"/>
                    </a:moveTo>
                    <a:lnTo>
                      <a:pt x="159" y="199"/>
                    </a:lnTo>
                    <a:lnTo>
                      <a:pt x="176" y="194"/>
                    </a:lnTo>
                    <a:lnTo>
                      <a:pt x="189" y="187"/>
                    </a:lnTo>
                    <a:lnTo>
                      <a:pt x="199" y="177"/>
                    </a:lnTo>
                    <a:lnTo>
                      <a:pt x="207" y="164"/>
                    </a:lnTo>
                    <a:lnTo>
                      <a:pt x="212" y="149"/>
                    </a:lnTo>
                    <a:lnTo>
                      <a:pt x="214" y="131"/>
                    </a:lnTo>
                    <a:lnTo>
                      <a:pt x="215" y="109"/>
                    </a:lnTo>
                    <a:lnTo>
                      <a:pt x="213" y="87"/>
                    </a:lnTo>
                    <a:lnTo>
                      <a:pt x="207" y="67"/>
                    </a:lnTo>
                    <a:lnTo>
                      <a:pt x="197" y="48"/>
                    </a:lnTo>
                    <a:lnTo>
                      <a:pt x="184" y="32"/>
                    </a:lnTo>
                    <a:lnTo>
                      <a:pt x="169" y="18"/>
                    </a:lnTo>
                    <a:lnTo>
                      <a:pt x="151" y="9"/>
                    </a:lnTo>
                    <a:lnTo>
                      <a:pt x="131" y="2"/>
                    </a:lnTo>
                    <a:lnTo>
                      <a:pt x="110" y="0"/>
                    </a:lnTo>
                    <a:lnTo>
                      <a:pt x="88" y="1"/>
                    </a:lnTo>
                    <a:lnTo>
                      <a:pt x="68" y="6"/>
                    </a:lnTo>
                    <a:lnTo>
                      <a:pt x="50" y="14"/>
                    </a:lnTo>
                    <a:lnTo>
                      <a:pt x="32" y="24"/>
                    </a:lnTo>
                    <a:lnTo>
                      <a:pt x="20" y="38"/>
                    </a:lnTo>
                    <a:lnTo>
                      <a:pt x="9" y="54"/>
                    </a:lnTo>
                    <a:lnTo>
                      <a:pt x="2" y="73"/>
                    </a:lnTo>
                    <a:lnTo>
                      <a:pt x="0" y="94"/>
                    </a:lnTo>
                    <a:lnTo>
                      <a:pt x="4" y="116"/>
                    </a:lnTo>
                    <a:lnTo>
                      <a:pt x="14" y="137"/>
                    </a:lnTo>
                    <a:lnTo>
                      <a:pt x="29" y="154"/>
                    </a:lnTo>
                    <a:lnTo>
                      <a:pt x="47" y="170"/>
                    </a:lnTo>
                    <a:lnTo>
                      <a:pt x="69" y="183"/>
                    </a:lnTo>
                    <a:lnTo>
                      <a:pt x="93" y="192"/>
                    </a:lnTo>
                    <a:lnTo>
                      <a:pt x="116" y="198"/>
                    </a:lnTo>
                    <a:lnTo>
                      <a:pt x="139" y="20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 rot="20446200">
                <a:off x="7683120" y="1088640"/>
                <a:ext cx="179280" cy="102600"/>
              </a:xfrm>
              <a:custGeom>
                <a:avLst/>
                <a:gdLst>
                  <a:gd name="textAreaLeft" fmla="*/ 0 w 179280"/>
                  <a:gd name="textAreaRight" fmla="*/ 179280 w 1792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225" h="131">
                    <a:moveTo>
                      <a:pt x="0" y="78"/>
                    </a:moveTo>
                    <a:lnTo>
                      <a:pt x="60" y="15"/>
                    </a:lnTo>
                    <a:lnTo>
                      <a:pt x="225" y="0"/>
                    </a:lnTo>
                    <a:lnTo>
                      <a:pt x="217" y="75"/>
                    </a:lnTo>
                    <a:lnTo>
                      <a:pt x="97" y="131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 rot="20446200">
                <a:off x="7526880" y="846720"/>
                <a:ext cx="600120" cy="36144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756" h="456">
                    <a:moveTo>
                      <a:pt x="0" y="210"/>
                    </a:moveTo>
                    <a:lnTo>
                      <a:pt x="57" y="75"/>
                    </a:lnTo>
                    <a:lnTo>
                      <a:pt x="58" y="72"/>
                    </a:lnTo>
                    <a:lnTo>
                      <a:pt x="61" y="62"/>
                    </a:lnTo>
                    <a:lnTo>
                      <a:pt x="69" y="49"/>
                    </a:lnTo>
                    <a:lnTo>
                      <a:pt x="81" y="34"/>
                    </a:lnTo>
                    <a:lnTo>
                      <a:pt x="96" y="20"/>
                    </a:lnTo>
                    <a:lnTo>
                      <a:pt x="116" y="8"/>
                    </a:lnTo>
                    <a:lnTo>
                      <a:pt x="143" y="0"/>
                    </a:lnTo>
                    <a:lnTo>
                      <a:pt x="176" y="0"/>
                    </a:lnTo>
                    <a:lnTo>
                      <a:pt x="203" y="6"/>
                    </a:lnTo>
                    <a:lnTo>
                      <a:pt x="232" y="17"/>
                    </a:lnTo>
                    <a:lnTo>
                      <a:pt x="260" y="32"/>
                    </a:lnTo>
                    <a:lnTo>
                      <a:pt x="288" y="49"/>
                    </a:lnTo>
                    <a:lnTo>
                      <a:pt x="312" y="66"/>
                    </a:lnTo>
                    <a:lnTo>
                      <a:pt x="332" y="80"/>
                    </a:lnTo>
                    <a:lnTo>
                      <a:pt x="345" y="90"/>
                    </a:lnTo>
                    <a:lnTo>
                      <a:pt x="349" y="93"/>
                    </a:lnTo>
                    <a:lnTo>
                      <a:pt x="350" y="92"/>
                    </a:lnTo>
                    <a:lnTo>
                      <a:pt x="355" y="90"/>
                    </a:lnTo>
                    <a:lnTo>
                      <a:pt x="361" y="88"/>
                    </a:lnTo>
                    <a:lnTo>
                      <a:pt x="368" y="84"/>
                    </a:lnTo>
                    <a:lnTo>
                      <a:pt x="374" y="81"/>
                    </a:lnTo>
                    <a:lnTo>
                      <a:pt x="383" y="77"/>
                    </a:lnTo>
                    <a:lnTo>
                      <a:pt x="388" y="76"/>
                    </a:lnTo>
                    <a:lnTo>
                      <a:pt x="394" y="75"/>
                    </a:lnTo>
                    <a:lnTo>
                      <a:pt x="399" y="74"/>
                    </a:lnTo>
                    <a:lnTo>
                      <a:pt x="404" y="73"/>
                    </a:lnTo>
                    <a:lnTo>
                      <a:pt x="412" y="72"/>
                    </a:lnTo>
                    <a:lnTo>
                      <a:pt x="422" y="72"/>
                    </a:lnTo>
                    <a:lnTo>
                      <a:pt x="433" y="72"/>
                    </a:lnTo>
                    <a:lnTo>
                      <a:pt x="447" y="75"/>
                    </a:lnTo>
                    <a:lnTo>
                      <a:pt x="464" y="81"/>
                    </a:lnTo>
                    <a:lnTo>
                      <a:pt x="484" y="90"/>
                    </a:lnTo>
                    <a:lnTo>
                      <a:pt x="495" y="96"/>
                    </a:lnTo>
                    <a:lnTo>
                      <a:pt x="509" y="104"/>
                    </a:lnTo>
                    <a:lnTo>
                      <a:pt x="524" y="112"/>
                    </a:lnTo>
                    <a:lnTo>
                      <a:pt x="540" y="121"/>
                    </a:lnTo>
                    <a:lnTo>
                      <a:pt x="558" y="131"/>
                    </a:lnTo>
                    <a:lnTo>
                      <a:pt x="576" y="143"/>
                    </a:lnTo>
                    <a:lnTo>
                      <a:pt x="595" y="154"/>
                    </a:lnTo>
                    <a:lnTo>
                      <a:pt x="613" y="166"/>
                    </a:lnTo>
                    <a:lnTo>
                      <a:pt x="633" y="179"/>
                    </a:lnTo>
                    <a:lnTo>
                      <a:pt x="651" y="191"/>
                    </a:lnTo>
                    <a:lnTo>
                      <a:pt x="668" y="204"/>
                    </a:lnTo>
                    <a:lnTo>
                      <a:pt x="684" y="217"/>
                    </a:lnTo>
                    <a:lnTo>
                      <a:pt x="701" y="229"/>
                    </a:lnTo>
                    <a:lnTo>
                      <a:pt x="713" y="242"/>
                    </a:lnTo>
                    <a:lnTo>
                      <a:pt x="726" y="254"/>
                    </a:lnTo>
                    <a:lnTo>
                      <a:pt x="735" y="265"/>
                    </a:lnTo>
                    <a:lnTo>
                      <a:pt x="748" y="290"/>
                    </a:lnTo>
                    <a:lnTo>
                      <a:pt x="755" y="318"/>
                    </a:lnTo>
                    <a:lnTo>
                      <a:pt x="756" y="347"/>
                    </a:lnTo>
                    <a:lnTo>
                      <a:pt x="754" y="376"/>
                    </a:lnTo>
                    <a:lnTo>
                      <a:pt x="749" y="401"/>
                    </a:lnTo>
                    <a:lnTo>
                      <a:pt x="744" y="422"/>
                    </a:lnTo>
                    <a:lnTo>
                      <a:pt x="740" y="437"/>
                    </a:lnTo>
                    <a:lnTo>
                      <a:pt x="739" y="441"/>
                    </a:lnTo>
                    <a:lnTo>
                      <a:pt x="667" y="385"/>
                    </a:lnTo>
                    <a:lnTo>
                      <a:pt x="648" y="309"/>
                    </a:lnTo>
                    <a:lnTo>
                      <a:pt x="559" y="240"/>
                    </a:lnTo>
                    <a:lnTo>
                      <a:pt x="451" y="197"/>
                    </a:lnTo>
                    <a:lnTo>
                      <a:pt x="483" y="270"/>
                    </a:lnTo>
                    <a:lnTo>
                      <a:pt x="476" y="344"/>
                    </a:lnTo>
                    <a:lnTo>
                      <a:pt x="401" y="456"/>
                    </a:lnTo>
                    <a:lnTo>
                      <a:pt x="353" y="426"/>
                    </a:lnTo>
                    <a:lnTo>
                      <a:pt x="355" y="420"/>
                    </a:lnTo>
                    <a:lnTo>
                      <a:pt x="361" y="404"/>
                    </a:lnTo>
                    <a:lnTo>
                      <a:pt x="369" y="380"/>
                    </a:lnTo>
                    <a:lnTo>
                      <a:pt x="378" y="351"/>
                    </a:lnTo>
                    <a:lnTo>
                      <a:pt x="385" y="320"/>
                    </a:lnTo>
                    <a:lnTo>
                      <a:pt x="389" y="290"/>
                    </a:lnTo>
                    <a:lnTo>
                      <a:pt x="388" y="264"/>
                    </a:lnTo>
                    <a:lnTo>
                      <a:pt x="383" y="243"/>
                    </a:lnTo>
                    <a:lnTo>
                      <a:pt x="370" y="229"/>
                    </a:lnTo>
                    <a:lnTo>
                      <a:pt x="349" y="213"/>
                    </a:lnTo>
                    <a:lnTo>
                      <a:pt x="321" y="196"/>
                    </a:lnTo>
                    <a:lnTo>
                      <a:pt x="293" y="179"/>
                    </a:lnTo>
                    <a:lnTo>
                      <a:pt x="264" y="163"/>
                    </a:lnTo>
                    <a:lnTo>
                      <a:pt x="239" y="150"/>
                    </a:lnTo>
                    <a:lnTo>
                      <a:pt x="222" y="141"/>
                    </a:lnTo>
                    <a:lnTo>
                      <a:pt x="215" y="137"/>
                    </a:lnTo>
                    <a:lnTo>
                      <a:pt x="213" y="136"/>
                    </a:lnTo>
                    <a:lnTo>
                      <a:pt x="207" y="134"/>
                    </a:lnTo>
                    <a:lnTo>
                      <a:pt x="199" y="131"/>
                    </a:lnTo>
                    <a:lnTo>
                      <a:pt x="190" y="129"/>
                    </a:lnTo>
                    <a:lnTo>
                      <a:pt x="179" y="128"/>
                    </a:lnTo>
                    <a:lnTo>
                      <a:pt x="167" y="128"/>
                    </a:lnTo>
                    <a:lnTo>
                      <a:pt x="156" y="131"/>
                    </a:lnTo>
                    <a:lnTo>
                      <a:pt x="146" y="138"/>
                    </a:lnTo>
                    <a:lnTo>
                      <a:pt x="137" y="150"/>
                    </a:lnTo>
                    <a:lnTo>
                      <a:pt x="128" y="167"/>
                    </a:lnTo>
                    <a:lnTo>
                      <a:pt x="118" y="187"/>
                    </a:lnTo>
                    <a:lnTo>
                      <a:pt x="108" y="209"/>
                    </a:lnTo>
                    <a:lnTo>
                      <a:pt x="99" y="228"/>
                    </a:lnTo>
                    <a:lnTo>
                      <a:pt x="92" y="245"/>
                    </a:lnTo>
                    <a:lnTo>
                      <a:pt x="88" y="257"/>
                    </a:lnTo>
                    <a:lnTo>
                      <a:pt x="86" y="262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 rot="20446200">
                <a:off x="7682760" y="1154520"/>
                <a:ext cx="115920" cy="1044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46" h="131">
                    <a:moveTo>
                      <a:pt x="37" y="0"/>
                    </a:moveTo>
                    <a:lnTo>
                      <a:pt x="0" y="64"/>
                    </a:lnTo>
                    <a:lnTo>
                      <a:pt x="93" y="131"/>
                    </a:lnTo>
                    <a:lnTo>
                      <a:pt x="146" y="7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 rot="20446200">
                <a:off x="7625520" y="1240920"/>
                <a:ext cx="161640" cy="1630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204" h="206">
                    <a:moveTo>
                      <a:pt x="61" y="0"/>
                    </a:moveTo>
                    <a:lnTo>
                      <a:pt x="59" y="3"/>
                    </a:lnTo>
                    <a:lnTo>
                      <a:pt x="53" y="11"/>
                    </a:lnTo>
                    <a:lnTo>
                      <a:pt x="45" y="22"/>
                    </a:lnTo>
                    <a:lnTo>
                      <a:pt x="35" y="35"/>
                    </a:lnTo>
                    <a:lnTo>
                      <a:pt x="26" y="50"/>
                    </a:lnTo>
                    <a:lnTo>
                      <a:pt x="17" y="64"/>
                    </a:lnTo>
                    <a:lnTo>
                      <a:pt x="10" y="76"/>
                    </a:lnTo>
                    <a:lnTo>
                      <a:pt x="5" y="87"/>
                    </a:lnTo>
                    <a:lnTo>
                      <a:pt x="0" y="110"/>
                    </a:lnTo>
                    <a:lnTo>
                      <a:pt x="0" y="133"/>
                    </a:lnTo>
                    <a:lnTo>
                      <a:pt x="7" y="153"/>
                    </a:lnTo>
                    <a:lnTo>
                      <a:pt x="25" y="173"/>
                    </a:lnTo>
                    <a:lnTo>
                      <a:pt x="40" y="183"/>
                    </a:lnTo>
                    <a:lnTo>
                      <a:pt x="56" y="190"/>
                    </a:lnTo>
                    <a:lnTo>
                      <a:pt x="71" y="197"/>
                    </a:lnTo>
                    <a:lnTo>
                      <a:pt x="86" y="201"/>
                    </a:lnTo>
                    <a:lnTo>
                      <a:pt x="98" y="204"/>
                    </a:lnTo>
                    <a:lnTo>
                      <a:pt x="110" y="205"/>
                    </a:lnTo>
                    <a:lnTo>
                      <a:pt x="119" y="206"/>
                    </a:lnTo>
                    <a:lnTo>
                      <a:pt x="125" y="206"/>
                    </a:lnTo>
                    <a:lnTo>
                      <a:pt x="143" y="202"/>
                    </a:lnTo>
                    <a:lnTo>
                      <a:pt x="159" y="189"/>
                    </a:lnTo>
                    <a:lnTo>
                      <a:pt x="173" y="171"/>
                    </a:lnTo>
                    <a:lnTo>
                      <a:pt x="185" y="150"/>
                    </a:lnTo>
                    <a:lnTo>
                      <a:pt x="193" y="129"/>
                    </a:lnTo>
                    <a:lnTo>
                      <a:pt x="200" y="111"/>
                    </a:lnTo>
                    <a:lnTo>
                      <a:pt x="203" y="98"/>
                    </a:lnTo>
                    <a:lnTo>
                      <a:pt x="204" y="94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 rot="20446200">
                <a:off x="7563960" y="1127160"/>
                <a:ext cx="76320" cy="838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95" h="106">
                    <a:moveTo>
                      <a:pt x="48" y="106"/>
                    </a:moveTo>
                    <a:lnTo>
                      <a:pt x="57" y="105"/>
                    </a:lnTo>
                    <a:lnTo>
                      <a:pt x="66" y="101"/>
                    </a:lnTo>
                    <a:lnTo>
                      <a:pt x="75" y="97"/>
                    </a:lnTo>
                    <a:lnTo>
                      <a:pt x="81" y="90"/>
                    </a:lnTo>
                    <a:lnTo>
                      <a:pt x="87" y="83"/>
                    </a:lnTo>
                    <a:lnTo>
                      <a:pt x="92" y="74"/>
                    </a:lnTo>
                    <a:lnTo>
                      <a:pt x="94" y="63"/>
                    </a:lnTo>
                    <a:lnTo>
                      <a:pt x="95" y="53"/>
                    </a:lnTo>
                    <a:lnTo>
                      <a:pt x="94" y="43"/>
                    </a:lnTo>
                    <a:lnTo>
                      <a:pt x="92" y="32"/>
                    </a:lnTo>
                    <a:lnTo>
                      <a:pt x="87" y="23"/>
                    </a:lnTo>
                    <a:lnTo>
                      <a:pt x="81" y="15"/>
                    </a:lnTo>
                    <a:lnTo>
                      <a:pt x="75" y="9"/>
                    </a:lnTo>
                    <a:lnTo>
                      <a:pt x="66" y="5"/>
                    </a:lnTo>
                    <a:lnTo>
                      <a:pt x="57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30" y="5"/>
                    </a:lnTo>
                    <a:lnTo>
                      <a:pt x="22" y="9"/>
                    </a:lnTo>
                    <a:lnTo>
                      <a:pt x="13" y="15"/>
                    </a:lnTo>
                    <a:lnTo>
                      <a:pt x="8" y="23"/>
                    </a:lnTo>
                    <a:lnTo>
                      <a:pt x="3" y="32"/>
                    </a:lnTo>
                    <a:lnTo>
                      <a:pt x="1" y="43"/>
                    </a:lnTo>
                    <a:lnTo>
                      <a:pt x="0" y="53"/>
                    </a:lnTo>
                    <a:lnTo>
                      <a:pt x="1" y="63"/>
                    </a:lnTo>
                    <a:lnTo>
                      <a:pt x="3" y="74"/>
                    </a:lnTo>
                    <a:lnTo>
                      <a:pt x="8" y="83"/>
                    </a:lnTo>
                    <a:lnTo>
                      <a:pt x="13" y="90"/>
                    </a:lnTo>
                    <a:lnTo>
                      <a:pt x="22" y="97"/>
                    </a:lnTo>
                    <a:lnTo>
                      <a:pt x="30" y="101"/>
                    </a:lnTo>
                    <a:lnTo>
                      <a:pt x="39" y="105"/>
                    </a:lnTo>
                    <a:lnTo>
                      <a:pt x="48" y="106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 rot="20446200">
                <a:off x="7845840" y="1191960"/>
                <a:ext cx="75960" cy="835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96" h="106">
                    <a:moveTo>
                      <a:pt x="48" y="106"/>
                    </a:moveTo>
                    <a:lnTo>
                      <a:pt x="57" y="104"/>
                    </a:lnTo>
                    <a:lnTo>
                      <a:pt x="66" y="101"/>
                    </a:lnTo>
                    <a:lnTo>
                      <a:pt x="74" y="96"/>
                    </a:lnTo>
                    <a:lnTo>
                      <a:pt x="82" y="89"/>
                    </a:lnTo>
                    <a:lnTo>
                      <a:pt x="88" y="83"/>
                    </a:lnTo>
                    <a:lnTo>
                      <a:pt x="92" y="73"/>
                    </a:lnTo>
                    <a:lnTo>
                      <a:pt x="95" y="63"/>
                    </a:lnTo>
                    <a:lnTo>
                      <a:pt x="96" y="53"/>
                    </a:lnTo>
                    <a:lnTo>
                      <a:pt x="95" y="42"/>
                    </a:lnTo>
                    <a:lnTo>
                      <a:pt x="92" y="32"/>
                    </a:lnTo>
                    <a:lnTo>
                      <a:pt x="88" y="23"/>
                    </a:lnTo>
                    <a:lnTo>
                      <a:pt x="82" y="16"/>
                    </a:lnTo>
                    <a:lnTo>
                      <a:pt x="74" y="9"/>
                    </a:lnTo>
                    <a:lnTo>
                      <a:pt x="66" y="4"/>
                    </a:lnTo>
                    <a:lnTo>
                      <a:pt x="57" y="1"/>
                    </a:lnTo>
                    <a:lnTo>
                      <a:pt x="48" y="0"/>
                    </a:lnTo>
                    <a:lnTo>
                      <a:pt x="38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6"/>
                    </a:lnTo>
                    <a:lnTo>
                      <a:pt x="8" y="23"/>
                    </a:lnTo>
                    <a:lnTo>
                      <a:pt x="4" y="32"/>
                    </a:lnTo>
                    <a:lnTo>
                      <a:pt x="1" y="42"/>
                    </a:lnTo>
                    <a:lnTo>
                      <a:pt x="0" y="53"/>
                    </a:lnTo>
                    <a:lnTo>
                      <a:pt x="1" y="63"/>
                    </a:lnTo>
                    <a:lnTo>
                      <a:pt x="4" y="73"/>
                    </a:lnTo>
                    <a:lnTo>
                      <a:pt x="8" y="83"/>
                    </a:lnTo>
                    <a:lnTo>
                      <a:pt x="14" y="89"/>
                    </a:lnTo>
                    <a:lnTo>
                      <a:pt x="21" y="96"/>
                    </a:lnTo>
                    <a:lnTo>
                      <a:pt x="29" y="101"/>
                    </a:lnTo>
                    <a:lnTo>
                      <a:pt x="38" y="104"/>
                    </a:lnTo>
                    <a:lnTo>
                      <a:pt x="48" y="106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 rot="20446200">
                <a:off x="7912080" y="1012320"/>
                <a:ext cx="152280" cy="78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192" h="101">
                    <a:moveTo>
                      <a:pt x="30" y="0"/>
                    </a:moveTo>
                    <a:lnTo>
                      <a:pt x="135" y="0"/>
                    </a:lnTo>
                    <a:lnTo>
                      <a:pt x="192" y="52"/>
                    </a:lnTo>
                    <a:lnTo>
                      <a:pt x="192" y="101"/>
                    </a:lnTo>
                    <a:lnTo>
                      <a:pt x="143" y="78"/>
                    </a:lnTo>
                    <a:lnTo>
                      <a:pt x="125" y="52"/>
                    </a:lnTo>
                    <a:lnTo>
                      <a:pt x="0" y="67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 rot="20446200">
                <a:off x="8011440" y="1027800"/>
                <a:ext cx="301680" cy="439200"/>
              </a:xfrm>
              <a:custGeom>
                <a:avLst/>
                <a:gdLst>
                  <a:gd name="textAreaLeft" fmla="*/ 0 w 301680"/>
                  <a:gd name="textAreaRight" fmla="*/ 301680 w 3016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379" h="553">
                    <a:moveTo>
                      <a:pt x="26" y="0"/>
                    </a:moveTo>
                    <a:lnTo>
                      <a:pt x="51" y="15"/>
                    </a:lnTo>
                    <a:lnTo>
                      <a:pt x="78" y="31"/>
                    </a:lnTo>
                    <a:lnTo>
                      <a:pt x="106" y="49"/>
                    </a:lnTo>
                    <a:lnTo>
                      <a:pt x="134" y="69"/>
                    </a:lnTo>
                    <a:lnTo>
                      <a:pt x="163" y="89"/>
                    </a:lnTo>
                    <a:lnTo>
                      <a:pt x="192" y="111"/>
                    </a:lnTo>
                    <a:lnTo>
                      <a:pt x="221" y="133"/>
                    </a:lnTo>
                    <a:lnTo>
                      <a:pt x="248" y="156"/>
                    </a:lnTo>
                    <a:lnTo>
                      <a:pt x="274" y="178"/>
                    </a:lnTo>
                    <a:lnTo>
                      <a:pt x="298" y="200"/>
                    </a:lnTo>
                    <a:lnTo>
                      <a:pt x="320" y="222"/>
                    </a:lnTo>
                    <a:lnTo>
                      <a:pt x="339" y="241"/>
                    </a:lnTo>
                    <a:lnTo>
                      <a:pt x="356" y="261"/>
                    </a:lnTo>
                    <a:lnTo>
                      <a:pt x="367" y="278"/>
                    </a:lnTo>
                    <a:lnTo>
                      <a:pt x="375" y="293"/>
                    </a:lnTo>
                    <a:lnTo>
                      <a:pt x="379" y="306"/>
                    </a:lnTo>
                    <a:lnTo>
                      <a:pt x="365" y="331"/>
                    </a:lnTo>
                    <a:lnTo>
                      <a:pt x="345" y="365"/>
                    </a:lnTo>
                    <a:lnTo>
                      <a:pt x="320" y="401"/>
                    </a:lnTo>
                    <a:lnTo>
                      <a:pt x="292" y="441"/>
                    </a:lnTo>
                    <a:lnTo>
                      <a:pt x="265" y="479"/>
                    </a:lnTo>
                    <a:lnTo>
                      <a:pt x="239" y="512"/>
                    </a:lnTo>
                    <a:lnTo>
                      <a:pt x="217" y="537"/>
                    </a:lnTo>
                    <a:lnTo>
                      <a:pt x="202" y="553"/>
                    </a:lnTo>
                    <a:lnTo>
                      <a:pt x="204" y="521"/>
                    </a:lnTo>
                    <a:lnTo>
                      <a:pt x="225" y="497"/>
                    </a:lnTo>
                    <a:lnTo>
                      <a:pt x="245" y="472"/>
                    </a:lnTo>
                    <a:lnTo>
                      <a:pt x="263" y="446"/>
                    </a:lnTo>
                    <a:lnTo>
                      <a:pt x="281" y="421"/>
                    </a:lnTo>
                    <a:lnTo>
                      <a:pt x="297" y="395"/>
                    </a:lnTo>
                    <a:lnTo>
                      <a:pt x="313" y="369"/>
                    </a:lnTo>
                    <a:lnTo>
                      <a:pt x="328" y="343"/>
                    </a:lnTo>
                    <a:lnTo>
                      <a:pt x="343" y="316"/>
                    </a:lnTo>
                    <a:lnTo>
                      <a:pt x="344" y="306"/>
                    </a:lnTo>
                    <a:lnTo>
                      <a:pt x="343" y="292"/>
                    </a:lnTo>
                    <a:lnTo>
                      <a:pt x="337" y="275"/>
                    </a:lnTo>
                    <a:lnTo>
                      <a:pt x="323" y="257"/>
                    </a:lnTo>
                    <a:lnTo>
                      <a:pt x="313" y="247"/>
                    </a:lnTo>
                    <a:lnTo>
                      <a:pt x="301" y="236"/>
                    </a:lnTo>
                    <a:lnTo>
                      <a:pt x="288" y="223"/>
                    </a:lnTo>
                    <a:lnTo>
                      <a:pt x="271" y="209"/>
                    </a:lnTo>
                    <a:lnTo>
                      <a:pt x="254" y="194"/>
                    </a:lnTo>
                    <a:lnTo>
                      <a:pt x="236" y="179"/>
                    </a:lnTo>
                    <a:lnTo>
                      <a:pt x="216" y="163"/>
                    </a:lnTo>
                    <a:lnTo>
                      <a:pt x="194" y="146"/>
                    </a:lnTo>
                    <a:lnTo>
                      <a:pt x="172" y="129"/>
                    </a:lnTo>
                    <a:lnTo>
                      <a:pt x="149" y="111"/>
                    </a:lnTo>
                    <a:lnTo>
                      <a:pt x="125" y="93"/>
                    </a:lnTo>
                    <a:lnTo>
                      <a:pt x="101" y="76"/>
                    </a:lnTo>
                    <a:lnTo>
                      <a:pt x="76" y="57"/>
                    </a:lnTo>
                    <a:lnTo>
                      <a:pt x="50" y="40"/>
                    </a:lnTo>
                    <a:lnTo>
                      <a:pt x="25" y="23"/>
                    </a:lnTo>
                    <a:lnTo>
                      <a:pt x="0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 rot="20446200">
                <a:off x="8003520" y="1102680"/>
                <a:ext cx="180720" cy="4172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227" h="526">
                    <a:moveTo>
                      <a:pt x="4" y="0"/>
                    </a:moveTo>
                    <a:lnTo>
                      <a:pt x="19" y="9"/>
                    </a:lnTo>
                    <a:lnTo>
                      <a:pt x="33" y="17"/>
                    </a:lnTo>
                    <a:lnTo>
                      <a:pt x="46" y="26"/>
                    </a:lnTo>
                    <a:lnTo>
                      <a:pt x="60" y="34"/>
                    </a:lnTo>
                    <a:lnTo>
                      <a:pt x="73" y="43"/>
                    </a:lnTo>
                    <a:lnTo>
                      <a:pt x="87" y="53"/>
                    </a:lnTo>
                    <a:lnTo>
                      <a:pt x="99" y="61"/>
                    </a:lnTo>
                    <a:lnTo>
                      <a:pt x="113" y="70"/>
                    </a:lnTo>
                    <a:lnTo>
                      <a:pt x="134" y="86"/>
                    </a:lnTo>
                    <a:lnTo>
                      <a:pt x="154" y="102"/>
                    </a:lnTo>
                    <a:lnTo>
                      <a:pt x="172" y="118"/>
                    </a:lnTo>
                    <a:lnTo>
                      <a:pt x="188" y="136"/>
                    </a:lnTo>
                    <a:lnTo>
                      <a:pt x="202" y="155"/>
                    </a:lnTo>
                    <a:lnTo>
                      <a:pt x="212" y="175"/>
                    </a:lnTo>
                    <a:lnTo>
                      <a:pt x="220" y="198"/>
                    </a:lnTo>
                    <a:lnTo>
                      <a:pt x="225" y="222"/>
                    </a:lnTo>
                    <a:lnTo>
                      <a:pt x="227" y="297"/>
                    </a:lnTo>
                    <a:lnTo>
                      <a:pt x="226" y="373"/>
                    </a:lnTo>
                    <a:lnTo>
                      <a:pt x="223" y="448"/>
                    </a:lnTo>
                    <a:lnTo>
                      <a:pt x="216" y="524"/>
                    </a:lnTo>
                    <a:lnTo>
                      <a:pt x="211" y="526"/>
                    </a:lnTo>
                    <a:lnTo>
                      <a:pt x="207" y="525"/>
                    </a:lnTo>
                    <a:lnTo>
                      <a:pt x="203" y="521"/>
                    </a:lnTo>
                    <a:lnTo>
                      <a:pt x="200" y="518"/>
                    </a:lnTo>
                    <a:lnTo>
                      <a:pt x="200" y="478"/>
                    </a:lnTo>
                    <a:lnTo>
                      <a:pt x="200" y="385"/>
                    </a:lnTo>
                    <a:lnTo>
                      <a:pt x="198" y="288"/>
                    </a:lnTo>
                    <a:lnTo>
                      <a:pt x="196" y="227"/>
                    </a:lnTo>
                    <a:lnTo>
                      <a:pt x="195" y="215"/>
                    </a:lnTo>
                    <a:lnTo>
                      <a:pt x="192" y="205"/>
                    </a:lnTo>
                    <a:lnTo>
                      <a:pt x="188" y="194"/>
                    </a:lnTo>
                    <a:lnTo>
                      <a:pt x="185" y="184"/>
                    </a:lnTo>
                    <a:lnTo>
                      <a:pt x="179" y="174"/>
                    </a:lnTo>
                    <a:lnTo>
                      <a:pt x="172" y="162"/>
                    </a:lnTo>
                    <a:lnTo>
                      <a:pt x="165" y="152"/>
                    </a:lnTo>
                    <a:lnTo>
                      <a:pt x="156" y="141"/>
                    </a:lnTo>
                    <a:lnTo>
                      <a:pt x="139" y="125"/>
                    </a:lnTo>
                    <a:lnTo>
                      <a:pt x="120" y="109"/>
                    </a:lnTo>
                    <a:lnTo>
                      <a:pt x="102" y="94"/>
                    </a:lnTo>
                    <a:lnTo>
                      <a:pt x="82" y="80"/>
                    </a:lnTo>
                    <a:lnTo>
                      <a:pt x="63" y="67"/>
                    </a:lnTo>
                    <a:lnTo>
                      <a:pt x="43" y="53"/>
                    </a:lnTo>
                    <a:lnTo>
                      <a:pt x="22" y="39"/>
                    </a:lnTo>
                    <a:lnTo>
                      <a:pt x="0" y="2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 rot="20446200">
                <a:off x="7637040" y="1244160"/>
                <a:ext cx="136800" cy="14400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72" h="183">
                    <a:moveTo>
                      <a:pt x="172" y="91"/>
                    </a:moveTo>
                    <a:lnTo>
                      <a:pt x="170" y="96"/>
                    </a:lnTo>
                    <a:lnTo>
                      <a:pt x="168" y="107"/>
                    </a:lnTo>
                    <a:lnTo>
                      <a:pt x="163" y="122"/>
                    </a:lnTo>
                    <a:lnTo>
                      <a:pt x="157" y="137"/>
                    </a:lnTo>
                    <a:lnTo>
                      <a:pt x="148" y="152"/>
                    </a:lnTo>
                    <a:lnTo>
                      <a:pt x="136" y="167"/>
                    </a:lnTo>
                    <a:lnTo>
                      <a:pt x="121" y="177"/>
                    </a:lnTo>
                    <a:lnTo>
                      <a:pt x="102" y="183"/>
                    </a:lnTo>
                    <a:lnTo>
                      <a:pt x="86" y="180"/>
                    </a:lnTo>
                    <a:lnTo>
                      <a:pt x="69" y="177"/>
                    </a:lnTo>
                    <a:lnTo>
                      <a:pt x="53" y="171"/>
                    </a:lnTo>
                    <a:lnTo>
                      <a:pt x="38" y="166"/>
                    </a:lnTo>
                    <a:lnTo>
                      <a:pt x="24" y="157"/>
                    </a:lnTo>
                    <a:lnTo>
                      <a:pt x="13" y="148"/>
                    </a:lnTo>
                    <a:lnTo>
                      <a:pt x="4" y="137"/>
                    </a:lnTo>
                    <a:lnTo>
                      <a:pt x="0" y="123"/>
                    </a:lnTo>
                    <a:lnTo>
                      <a:pt x="0" y="103"/>
                    </a:lnTo>
                    <a:lnTo>
                      <a:pt x="6" y="83"/>
                    </a:lnTo>
                    <a:lnTo>
                      <a:pt x="16" y="62"/>
                    </a:lnTo>
                    <a:lnTo>
                      <a:pt x="26" y="42"/>
                    </a:lnTo>
                    <a:lnTo>
                      <a:pt x="38" y="25"/>
                    </a:lnTo>
                    <a:lnTo>
                      <a:pt x="48" y="12"/>
                    </a:lnTo>
                    <a:lnTo>
                      <a:pt x="56" y="3"/>
                    </a:lnTo>
                    <a:lnTo>
                      <a:pt x="59" y="0"/>
                    </a:lnTo>
                    <a:lnTo>
                      <a:pt x="74" y="14"/>
                    </a:lnTo>
                    <a:lnTo>
                      <a:pt x="63" y="22"/>
                    </a:lnTo>
                    <a:lnTo>
                      <a:pt x="53" y="33"/>
                    </a:lnTo>
                    <a:lnTo>
                      <a:pt x="44" y="47"/>
                    </a:lnTo>
                    <a:lnTo>
                      <a:pt x="37" y="62"/>
                    </a:lnTo>
                    <a:lnTo>
                      <a:pt x="30" y="77"/>
                    </a:lnTo>
                    <a:lnTo>
                      <a:pt x="25" y="90"/>
                    </a:lnTo>
                    <a:lnTo>
                      <a:pt x="23" y="100"/>
                    </a:lnTo>
                    <a:lnTo>
                      <a:pt x="23" y="107"/>
                    </a:lnTo>
                    <a:lnTo>
                      <a:pt x="28" y="117"/>
                    </a:lnTo>
                    <a:lnTo>
                      <a:pt x="33" y="125"/>
                    </a:lnTo>
                    <a:lnTo>
                      <a:pt x="41" y="133"/>
                    </a:lnTo>
                    <a:lnTo>
                      <a:pt x="49" y="140"/>
                    </a:lnTo>
                    <a:lnTo>
                      <a:pt x="59" y="146"/>
                    </a:lnTo>
                    <a:lnTo>
                      <a:pt x="69" y="149"/>
                    </a:lnTo>
                    <a:lnTo>
                      <a:pt x="79" y="152"/>
                    </a:lnTo>
                    <a:lnTo>
                      <a:pt x="91" y="152"/>
                    </a:lnTo>
                    <a:lnTo>
                      <a:pt x="104" y="148"/>
                    </a:lnTo>
                    <a:lnTo>
                      <a:pt x="115" y="142"/>
                    </a:lnTo>
                    <a:lnTo>
                      <a:pt x="123" y="133"/>
                    </a:lnTo>
                    <a:lnTo>
                      <a:pt x="130" y="123"/>
                    </a:lnTo>
                    <a:lnTo>
                      <a:pt x="137" y="113"/>
                    </a:lnTo>
                    <a:lnTo>
                      <a:pt x="142" y="101"/>
                    </a:lnTo>
                    <a:lnTo>
                      <a:pt x="147" y="90"/>
                    </a:lnTo>
                    <a:lnTo>
                      <a:pt x="154" y="79"/>
                    </a:lnTo>
                    <a:lnTo>
                      <a:pt x="172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 rot="20446200">
                <a:off x="7949520" y="1333800"/>
                <a:ext cx="214200" cy="48852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488520"/>
                  <a:gd name="textAreaBottom" fmla="*/ 488880 h 488520"/>
                </a:gdLst>
                <a:ahLst/>
                <a:rect l="textAreaLeft" t="textAreaTop" r="textAreaRight" b="textAreaBottom"/>
                <a:pathLst>
                  <a:path w="271" h="616">
                    <a:moveTo>
                      <a:pt x="271" y="14"/>
                    </a:moveTo>
                    <a:lnTo>
                      <a:pt x="260" y="30"/>
                    </a:lnTo>
                    <a:lnTo>
                      <a:pt x="248" y="45"/>
                    </a:lnTo>
                    <a:lnTo>
                      <a:pt x="234" y="59"/>
                    </a:lnTo>
                    <a:lnTo>
                      <a:pt x="220" y="73"/>
                    </a:lnTo>
                    <a:lnTo>
                      <a:pt x="205" y="85"/>
                    </a:lnTo>
                    <a:lnTo>
                      <a:pt x="190" y="98"/>
                    </a:lnTo>
                    <a:lnTo>
                      <a:pt x="175" y="112"/>
                    </a:lnTo>
                    <a:lnTo>
                      <a:pt x="161" y="126"/>
                    </a:lnTo>
                    <a:lnTo>
                      <a:pt x="151" y="155"/>
                    </a:lnTo>
                    <a:lnTo>
                      <a:pt x="141" y="183"/>
                    </a:lnTo>
                    <a:lnTo>
                      <a:pt x="130" y="212"/>
                    </a:lnTo>
                    <a:lnTo>
                      <a:pt x="121" y="241"/>
                    </a:lnTo>
                    <a:lnTo>
                      <a:pt x="111" y="271"/>
                    </a:lnTo>
                    <a:lnTo>
                      <a:pt x="101" y="301"/>
                    </a:lnTo>
                    <a:lnTo>
                      <a:pt x="92" y="331"/>
                    </a:lnTo>
                    <a:lnTo>
                      <a:pt x="83" y="361"/>
                    </a:lnTo>
                    <a:lnTo>
                      <a:pt x="76" y="384"/>
                    </a:lnTo>
                    <a:lnTo>
                      <a:pt x="69" y="408"/>
                    </a:lnTo>
                    <a:lnTo>
                      <a:pt x="62" y="433"/>
                    </a:lnTo>
                    <a:lnTo>
                      <a:pt x="57" y="460"/>
                    </a:lnTo>
                    <a:lnTo>
                      <a:pt x="52" y="486"/>
                    </a:lnTo>
                    <a:lnTo>
                      <a:pt x="48" y="513"/>
                    </a:lnTo>
                    <a:lnTo>
                      <a:pt x="48" y="539"/>
                    </a:lnTo>
                    <a:lnTo>
                      <a:pt x="50" y="564"/>
                    </a:lnTo>
                    <a:lnTo>
                      <a:pt x="57" y="578"/>
                    </a:lnTo>
                    <a:lnTo>
                      <a:pt x="66" y="592"/>
                    </a:lnTo>
                    <a:lnTo>
                      <a:pt x="73" y="604"/>
                    </a:lnTo>
                    <a:lnTo>
                      <a:pt x="73" y="616"/>
                    </a:lnTo>
                    <a:lnTo>
                      <a:pt x="61" y="612"/>
                    </a:lnTo>
                    <a:lnTo>
                      <a:pt x="50" y="606"/>
                    </a:lnTo>
                    <a:lnTo>
                      <a:pt x="38" y="598"/>
                    </a:lnTo>
                    <a:lnTo>
                      <a:pt x="29" y="589"/>
                    </a:lnTo>
                    <a:lnTo>
                      <a:pt x="20" y="578"/>
                    </a:lnTo>
                    <a:lnTo>
                      <a:pt x="13" y="567"/>
                    </a:lnTo>
                    <a:lnTo>
                      <a:pt x="7" y="554"/>
                    </a:lnTo>
                    <a:lnTo>
                      <a:pt x="4" y="540"/>
                    </a:lnTo>
                    <a:lnTo>
                      <a:pt x="0" y="494"/>
                    </a:lnTo>
                    <a:lnTo>
                      <a:pt x="72" y="249"/>
                    </a:lnTo>
                    <a:lnTo>
                      <a:pt x="78" y="227"/>
                    </a:lnTo>
                    <a:lnTo>
                      <a:pt x="85" y="204"/>
                    </a:lnTo>
                    <a:lnTo>
                      <a:pt x="92" y="182"/>
                    </a:lnTo>
                    <a:lnTo>
                      <a:pt x="100" y="160"/>
                    </a:lnTo>
                    <a:lnTo>
                      <a:pt x="110" y="140"/>
                    </a:lnTo>
                    <a:lnTo>
                      <a:pt x="120" y="120"/>
                    </a:lnTo>
                    <a:lnTo>
                      <a:pt x="133" y="102"/>
                    </a:lnTo>
                    <a:lnTo>
                      <a:pt x="146" y="85"/>
                    </a:lnTo>
                    <a:lnTo>
                      <a:pt x="161" y="75"/>
                    </a:lnTo>
                    <a:lnTo>
                      <a:pt x="176" y="64"/>
                    </a:lnTo>
                    <a:lnTo>
                      <a:pt x="191" y="52"/>
                    </a:lnTo>
                    <a:lnTo>
                      <a:pt x="206" y="39"/>
                    </a:lnTo>
                    <a:lnTo>
                      <a:pt x="221" y="29"/>
                    </a:lnTo>
                    <a:lnTo>
                      <a:pt x="237" y="17"/>
                    </a:lnTo>
                    <a:lnTo>
                      <a:pt x="254" y="8"/>
                    </a:lnTo>
                    <a:lnTo>
                      <a:pt x="271" y="0"/>
                    </a:lnTo>
                    <a:lnTo>
                      <a:pt x="27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 rot="20446200">
                <a:off x="7333920" y="1589040"/>
                <a:ext cx="655560" cy="4899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489960"/>
                  <a:gd name="textAreaBottom" fmla="*/ 490320 h 489960"/>
                </a:gdLst>
                <a:ahLst/>
                <a:rect l="textAreaLeft" t="textAreaTop" r="textAreaRight" b="textAreaBottom"/>
                <a:pathLst>
                  <a:path w="826" h="618">
                    <a:moveTo>
                      <a:pt x="817" y="618"/>
                    </a:moveTo>
                    <a:lnTo>
                      <a:pt x="808" y="616"/>
                    </a:lnTo>
                    <a:lnTo>
                      <a:pt x="794" y="610"/>
                    </a:lnTo>
                    <a:lnTo>
                      <a:pt x="778" y="603"/>
                    </a:lnTo>
                    <a:lnTo>
                      <a:pt x="759" y="593"/>
                    </a:lnTo>
                    <a:lnTo>
                      <a:pt x="738" y="581"/>
                    </a:lnTo>
                    <a:lnTo>
                      <a:pt x="713" y="567"/>
                    </a:lnTo>
                    <a:lnTo>
                      <a:pt x="688" y="551"/>
                    </a:lnTo>
                    <a:lnTo>
                      <a:pt x="659" y="534"/>
                    </a:lnTo>
                    <a:lnTo>
                      <a:pt x="630" y="516"/>
                    </a:lnTo>
                    <a:lnTo>
                      <a:pt x="599" y="496"/>
                    </a:lnTo>
                    <a:lnTo>
                      <a:pt x="566" y="474"/>
                    </a:lnTo>
                    <a:lnTo>
                      <a:pt x="532" y="452"/>
                    </a:lnTo>
                    <a:lnTo>
                      <a:pt x="499" y="429"/>
                    </a:lnTo>
                    <a:lnTo>
                      <a:pt x="463" y="405"/>
                    </a:lnTo>
                    <a:lnTo>
                      <a:pt x="429" y="380"/>
                    </a:lnTo>
                    <a:lnTo>
                      <a:pt x="393" y="356"/>
                    </a:lnTo>
                    <a:lnTo>
                      <a:pt x="359" y="330"/>
                    </a:lnTo>
                    <a:lnTo>
                      <a:pt x="324" y="304"/>
                    </a:lnTo>
                    <a:lnTo>
                      <a:pt x="289" y="278"/>
                    </a:lnTo>
                    <a:lnTo>
                      <a:pt x="256" y="253"/>
                    </a:lnTo>
                    <a:lnTo>
                      <a:pt x="224" y="228"/>
                    </a:lnTo>
                    <a:lnTo>
                      <a:pt x="193" y="204"/>
                    </a:lnTo>
                    <a:lnTo>
                      <a:pt x="163" y="179"/>
                    </a:lnTo>
                    <a:lnTo>
                      <a:pt x="135" y="155"/>
                    </a:lnTo>
                    <a:lnTo>
                      <a:pt x="109" y="133"/>
                    </a:lnTo>
                    <a:lnTo>
                      <a:pt x="85" y="111"/>
                    </a:lnTo>
                    <a:lnTo>
                      <a:pt x="64" y="91"/>
                    </a:lnTo>
                    <a:lnTo>
                      <a:pt x="45" y="71"/>
                    </a:lnTo>
                    <a:lnTo>
                      <a:pt x="29" y="54"/>
                    </a:lnTo>
                    <a:lnTo>
                      <a:pt x="16" y="38"/>
                    </a:lnTo>
                    <a:lnTo>
                      <a:pt x="6" y="23"/>
                    </a:lnTo>
                    <a:lnTo>
                      <a:pt x="0" y="10"/>
                    </a:lnTo>
                    <a:lnTo>
                      <a:pt x="6" y="5"/>
                    </a:lnTo>
                    <a:lnTo>
                      <a:pt x="12" y="3"/>
                    </a:lnTo>
                    <a:lnTo>
                      <a:pt x="18" y="2"/>
                    </a:lnTo>
                    <a:lnTo>
                      <a:pt x="23" y="0"/>
                    </a:lnTo>
                    <a:lnTo>
                      <a:pt x="30" y="8"/>
                    </a:lnTo>
                    <a:lnTo>
                      <a:pt x="39" y="18"/>
                    </a:lnTo>
                    <a:lnTo>
                      <a:pt x="52" y="31"/>
                    </a:lnTo>
                    <a:lnTo>
                      <a:pt x="67" y="43"/>
                    </a:lnTo>
                    <a:lnTo>
                      <a:pt x="84" y="58"/>
                    </a:lnTo>
                    <a:lnTo>
                      <a:pt x="103" y="75"/>
                    </a:lnTo>
                    <a:lnTo>
                      <a:pt x="125" y="92"/>
                    </a:lnTo>
                    <a:lnTo>
                      <a:pt x="148" y="110"/>
                    </a:lnTo>
                    <a:lnTo>
                      <a:pt x="172" y="129"/>
                    </a:lnTo>
                    <a:lnTo>
                      <a:pt x="198" y="148"/>
                    </a:lnTo>
                    <a:lnTo>
                      <a:pt x="226" y="169"/>
                    </a:lnTo>
                    <a:lnTo>
                      <a:pt x="255" y="191"/>
                    </a:lnTo>
                    <a:lnTo>
                      <a:pt x="285" y="213"/>
                    </a:lnTo>
                    <a:lnTo>
                      <a:pt x="316" y="235"/>
                    </a:lnTo>
                    <a:lnTo>
                      <a:pt x="347" y="256"/>
                    </a:lnTo>
                    <a:lnTo>
                      <a:pt x="379" y="280"/>
                    </a:lnTo>
                    <a:lnTo>
                      <a:pt x="412" y="303"/>
                    </a:lnTo>
                    <a:lnTo>
                      <a:pt x="444" y="324"/>
                    </a:lnTo>
                    <a:lnTo>
                      <a:pt x="476" y="347"/>
                    </a:lnTo>
                    <a:lnTo>
                      <a:pt x="508" y="369"/>
                    </a:lnTo>
                    <a:lnTo>
                      <a:pt x="541" y="391"/>
                    </a:lnTo>
                    <a:lnTo>
                      <a:pt x="573" y="412"/>
                    </a:lnTo>
                    <a:lnTo>
                      <a:pt x="603" y="433"/>
                    </a:lnTo>
                    <a:lnTo>
                      <a:pt x="634" y="452"/>
                    </a:lnTo>
                    <a:lnTo>
                      <a:pt x="663" y="472"/>
                    </a:lnTo>
                    <a:lnTo>
                      <a:pt x="690" y="490"/>
                    </a:lnTo>
                    <a:lnTo>
                      <a:pt x="718" y="508"/>
                    </a:lnTo>
                    <a:lnTo>
                      <a:pt x="743" y="524"/>
                    </a:lnTo>
                    <a:lnTo>
                      <a:pt x="766" y="537"/>
                    </a:lnTo>
                    <a:lnTo>
                      <a:pt x="788" y="551"/>
                    </a:lnTo>
                    <a:lnTo>
                      <a:pt x="809" y="563"/>
                    </a:lnTo>
                    <a:lnTo>
                      <a:pt x="826" y="573"/>
                    </a:lnTo>
                    <a:lnTo>
                      <a:pt x="817" y="6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 rot="20446200">
                <a:off x="7679880" y="1305720"/>
                <a:ext cx="44280" cy="3960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58" h="49">
                    <a:moveTo>
                      <a:pt x="46" y="49"/>
                    </a:moveTo>
                    <a:lnTo>
                      <a:pt x="58" y="32"/>
                    </a:lnTo>
                    <a:lnTo>
                      <a:pt x="13" y="0"/>
                    </a:lnTo>
                    <a:lnTo>
                      <a:pt x="0" y="16"/>
                    </a:lnTo>
                    <a:lnTo>
                      <a:pt x="46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 rot="20446200">
                <a:off x="7686000" y="1280160"/>
                <a:ext cx="46080" cy="392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7" h="51">
                    <a:moveTo>
                      <a:pt x="46" y="51"/>
                    </a:moveTo>
                    <a:lnTo>
                      <a:pt x="57" y="33"/>
                    </a:lnTo>
                    <a:lnTo>
                      <a:pt x="12" y="0"/>
                    </a:lnTo>
                    <a:lnTo>
                      <a:pt x="0" y="17"/>
                    </a:lnTo>
                    <a:lnTo>
                      <a:pt x="46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 rot="20446200">
                <a:off x="7194240" y="888840"/>
                <a:ext cx="1228680" cy="1118520"/>
              </a:xfrm>
              <a:custGeom>
                <a:avLst/>
                <a:gdLst>
                  <a:gd name="textAreaLeft" fmla="*/ 0 w 1228680"/>
                  <a:gd name="textAreaRight" fmla="*/ 1229040 w 1228680"/>
                  <a:gd name="textAreaTop" fmla="*/ 0 h 1118520"/>
                  <a:gd name="textAreaBottom" fmla="*/ 1118880 h 1118520"/>
                </a:gdLst>
                <a:ahLst/>
                <a:rect l="textAreaLeft" t="textAreaTop" r="textAreaRight" b="textAreaBottom"/>
                <a:pathLst>
                  <a:path w="1548" h="1412">
                    <a:moveTo>
                      <a:pt x="1084" y="305"/>
                    </a:moveTo>
                    <a:lnTo>
                      <a:pt x="1094" y="304"/>
                    </a:lnTo>
                    <a:lnTo>
                      <a:pt x="1107" y="302"/>
                    </a:lnTo>
                    <a:lnTo>
                      <a:pt x="1121" y="300"/>
                    </a:lnTo>
                    <a:lnTo>
                      <a:pt x="1137" y="298"/>
                    </a:lnTo>
                    <a:lnTo>
                      <a:pt x="1155" y="298"/>
                    </a:lnTo>
                    <a:lnTo>
                      <a:pt x="1175" y="301"/>
                    </a:lnTo>
                    <a:lnTo>
                      <a:pt x="1196" y="304"/>
                    </a:lnTo>
                    <a:lnTo>
                      <a:pt x="1218" y="310"/>
                    </a:lnTo>
                    <a:lnTo>
                      <a:pt x="1218" y="325"/>
                    </a:lnTo>
                    <a:lnTo>
                      <a:pt x="1221" y="327"/>
                    </a:lnTo>
                    <a:lnTo>
                      <a:pt x="1230" y="334"/>
                    </a:lnTo>
                    <a:lnTo>
                      <a:pt x="1246" y="346"/>
                    </a:lnTo>
                    <a:lnTo>
                      <a:pt x="1266" y="361"/>
                    </a:lnTo>
                    <a:lnTo>
                      <a:pt x="1289" y="379"/>
                    </a:lnTo>
                    <a:lnTo>
                      <a:pt x="1314" y="400"/>
                    </a:lnTo>
                    <a:lnTo>
                      <a:pt x="1343" y="422"/>
                    </a:lnTo>
                    <a:lnTo>
                      <a:pt x="1372" y="446"/>
                    </a:lnTo>
                    <a:lnTo>
                      <a:pt x="1401" y="472"/>
                    </a:lnTo>
                    <a:lnTo>
                      <a:pt x="1428" y="498"/>
                    </a:lnTo>
                    <a:lnTo>
                      <a:pt x="1455" y="524"/>
                    </a:lnTo>
                    <a:lnTo>
                      <a:pt x="1479" y="551"/>
                    </a:lnTo>
                    <a:lnTo>
                      <a:pt x="1500" y="576"/>
                    </a:lnTo>
                    <a:lnTo>
                      <a:pt x="1517" y="599"/>
                    </a:lnTo>
                    <a:lnTo>
                      <a:pt x="1528" y="621"/>
                    </a:lnTo>
                    <a:lnTo>
                      <a:pt x="1533" y="640"/>
                    </a:lnTo>
                    <a:lnTo>
                      <a:pt x="1533" y="652"/>
                    </a:lnTo>
                    <a:lnTo>
                      <a:pt x="1532" y="663"/>
                    </a:lnTo>
                    <a:lnTo>
                      <a:pt x="1529" y="676"/>
                    </a:lnTo>
                    <a:lnTo>
                      <a:pt x="1525" y="688"/>
                    </a:lnTo>
                    <a:lnTo>
                      <a:pt x="1519" y="699"/>
                    </a:lnTo>
                    <a:lnTo>
                      <a:pt x="1515" y="709"/>
                    </a:lnTo>
                    <a:lnTo>
                      <a:pt x="1508" y="721"/>
                    </a:lnTo>
                    <a:lnTo>
                      <a:pt x="1502" y="731"/>
                    </a:lnTo>
                    <a:lnTo>
                      <a:pt x="1510" y="756"/>
                    </a:lnTo>
                    <a:lnTo>
                      <a:pt x="1516" y="779"/>
                    </a:lnTo>
                    <a:lnTo>
                      <a:pt x="1522" y="803"/>
                    </a:lnTo>
                    <a:lnTo>
                      <a:pt x="1528" y="826"/>
                    </a:lnTo>
                    <a:lnTo>
                      <a:pt x="1532" y="849"/>
                    </a:lnTo>
                    <a:lnTo>
                      <a:pt x="1538" y="873"/>
                    </a:lnTo>
                    <a:lnTo>
                      <a:pt x="1543" y="896"/>
                    </a:lnTo>
                    <a:lnTo>
                      <a:pt x="1548" y="920"/>
                    </a:lnTo>
                    <a:lnTo>
                      <a:pt x="1546" y="932"/>
                    </a:lnTo>
                    <a:lnTo>
                      <a:pt x="1540" y="949"/>
                    </a:lnTo>
                    <a:lnTo>
                      <a:pt x="1532" y="972"/>
                    </a:lnTo>
                    <a:lnTo>
                      <a:pt x="1521" y="1000"/>
                    </a:lnTo>
                    <a:lnTo>
                      <a:pt x="1507" y="1031"/>
                    </a:lnTo>
                    <a:lnTo>
                      <a:pt x="1491" y="1064"/>
                    </a:lnTo>
                    <a:lnTo>
                      <a:pt x="1475" y="1100"/>
                    </a:lnTo>
                    <a:lnTo>
                      <a:pt x="1456" y="1136"/>
                    </a:lnTo>
                    <a:lnTo>
                      <a:pt x="1437" y="1171"/>
                    </a:lnTo>
                    <a:lnTo>
                      <a:pt x="1418" y="1206"/>
                    </a:lnTo>
                    <a:lnTo>
                      <a:pt x="1399" y="1238"/>
                    </a:lnTo>
                    <a:lnTo>
                      <a:pt x="1380" y="1267"/>
                    </a:lnTo>
                    <a:lnTo>
                      <a:pt x="1363" y="1292"/>
                    </a:lnTo>
                    <a:lnTo>
                      <a:pt x="1347" y="1313"/>
                    </a:lnTo>
                    <a:lnTo>
                      <a:pt x="1333" y="1327"/>
                    </a:lnTo>
                    <a:lnTo>
                      <a:pt x="1320" y="1334"/>
                    </a:lnTo>
                    <a:lnTo>
                      <a:pt x="1316" y="1335"/>
                    </a:lnTo>
                    <a:lnTo>
                      <a:pt x="1304" y="1337"/>
                    </a:lnTo>
                    <a:lnTo>
                      <a:pt x="1284" y="1341"/>
                    </a:lnTo>
                    <a:lnTo>
                      <a:pt x="1260" y="1345"/>
                    </a:lnTo>
                    <a:lnTo>
                      <a:pt x="1230" y="1352"/>
                    </a:lnTo>
                    <a:lnTo>
                      <a:pt x="1197" y="1358"/>
                    </a:lnTo>
                    <a:lnTo>
                      <a:pt x="1161" y="1365"/>
                    </a:lnTo>
                    <a:lnTo>
                      <a:pt x="1124" y="1373"/>
                    </a:lnTo>
                    <a:lnTo>
                      <a:pt x="1086" y="1380"/>
                    </a:lnTo>
                    <a:lnTo>
                      <a:pt x="1048" y="1387"/>
                    </a:lnTo>
                    <a:lnTo>
                      <a:pt x="1013" y="1393"/>
                    </a:lnTo>
                    <a:lnTo>
                      <a:pt x="978" y="1399"/>
                    </a:lnTo>
                    <a:lnTo>
                      <a:pt x="948" y="1404"/>
                    </a:lnTo>
                    <a:lnTo>
                      <a:pt x="923" y="1408"/>
                    </a:lnTo>
                    <a:lnTo>
                      <a:pt x="903" y="1411"/>
                    </a:lnTo>
                    <a:lnTo>
                      <a:pt x="890" y="1412"/>
                    </a:lnTo>
                    <a:lnTo>
                      <a:pt x="888" y="1364"/>
                    </a:lnTo>
                    <a:lnTo>
                      <a:pt x="1301" y="1292"/>
                    </a:lnTo>
                    <a:lnTo>
                      <a:pt x="1325" y="1281"/>
                    </a:lnTo>
                    <a:lnTo>
                      <a:pt x="1351" y="1251"/>
                    </a:lnTo>
                    <a:lnTo>
                      <a:pt x="1380" y="1212"/>
                    </a:lnTo>
                    <a:lnTo>
                      <a:pt x="1408" y="1165"/>
                    </a:lnTo>
                    <a:lnTo>
                      <a:pt x="1433" y="1121"/>
                    </a:lnTo>
                    <a:lnTo>
                      <a:pt x="1454" y="1080"/>
                    </a:lnTo>
                    <a:lnTo>
                      <a:pt x="1468" y="1053"/>
                    </a:lnTo>
                    <a:lnTo>
                      <a:pt x="1472" y="1042"/>
                    </a:lnTo>
                    <a:lnTo>
                      <a:pt x="1484" y="1011"/>
                    </a:lnTo>
                    <a:lnTo>
                      <a:pt x="1492" y="978"/>
                    </a:lnTo>
                    <a:lnTo>
                      <a:pt x="1495" y="946"/>
                    </a:lnTo>
                    <a:lnTo>
                      <a:pt x="1496" y="912"/>
                    </a:lnTo>
                    <a:lnTo>
                      <a:pt x="1494" y="879"/>
                    </a:lnTo>
                    <a:lnTo>
                      <a:pt x="1488" y="845"/>
                    </a:lnTo>
                    <a:lnTo>
                      <a:pt x="1479" y="813"/>
                    </a:lnTo>
                    <a:lnTo>
                      <a:pt x="1468" y="782"/>
                    </a:lnTo>
                    <a:lnTo>
                      <a:pt x="1461" y="789"/>
                    </a:lnTo>
                    <a:lnTo>
                      <a:pt x="1455" y="797"/>
                    </a:lnTo>
                    <a:lnTo>
                      <a:pt x="1448" y="806"/>
                    </a:lnTo>
                    <a:lnTo>
                      <a:pt x="1442" y="817"/>
                    </a:lnTo>
                    <a:lnTo>
                      <a:pt x="1454" y="861"/>
                    </a:lnTo>
                    <a:lnTo>
                      <a:pt x="1455" y="909"/>
                    </a:lnTo>
                    <a:lnTo>
                      <a:pt x="1449" y="958"/>
                    </a:lnTo>
                    <a:lnTo>
                      <a:pt x="1441" y="1007"/>
                    </a:lnTo>
                    <a:lnTo>
                      <a:pt x="1433" y="1025"/>
                    </a:lnTo>
                    <a:lnTo>
                      <a:pt x="1424" y="1043"/>
                    </a:lnTo>
                    <a:lnTo>
                      <a:pt x="1413" y="1061"/>
                    </a:lnTo>
                    <a:lnTo>
                      <a:pt x="1402" y="1078"/>
                    </a:lnTo>
                    <a:lnTo>
                      <a:pt x="1388" y="1092"/>
                    </a:lnTo>
                    <a:lnTo>
                      <a:pt x="1371" y="1103"/>
                    </a:lnTo>
                    <a:lnTo>
                      <a:pt x="1350" y="1111"/>
                    </a:lnTo>
                    <a:lnTo>
                      <a:pt x="1326" y="1116"/>
                    </a:lnTo>
                    <a:lnTo>
                      <a:pt x="1311" y="1117"/>
                    </a:lnTo>
                    <a:lnTo>
                      <a:pt x="1296" y="1118"/>
                    </a:lnTo>
                    <a:lnTo>
                      <a:pt x="1282" y="1119"/>
                    </a:lnTo>
                    <a:lnTo>
                      <a:pt x="1268" y="1122"/>
                    </a:lnTo>
                    <a:lnTo>
                      <a:pt x="1254" y="1123"/>
                    </a:lnTo>
                    <a:lnTo>
                      <a:pt x="1242" y="1125"/>
                    </a:lnTo>
                    <a:lnTo>
                      <a:pt x="1229" y="1126"/>
                    </a:lnTo>
                    <a:lnTo>
                      <a:pt x="1216" y="1127"/>
                    </a:lnTo>
                    <a:lnTo>
                      <a:pt x="1203" y="1129"/>
                    </a:lnTo>
                    <a:lnTo>
                      <a:pt x="1190" y="1130"/>
                    </a:lnTo>
                    <a:lnTo>
                      <a:pt x="1176" y="1131"/>
                    </a:lnTo>
                    <a:lnTo>
                      <a:pt x="1162" y="1131"/>
                    </a:lnTo>
                    <a:lnTo>
                      <a:pt x="1147" y="1131"/>
                    </a:lnTo>
                    <a:lnTo>
                      <a:pt x="1131" y="1131"/>
                    </a:lnTo>
                    <a:lnTo>
                      <a:pt x="1115" y="1130"/>
                    </a:lnTo>
                    <a:lnTo>
                      <a:pt x="1098" y="1129"/>
                    </a:lnTo>
                    <a:lnTo>
                      <a:pt x="1093" y="1127"/>
                    </a:lnTo>
                    <a:lnTo>
                      <a:pt x="1085" y="1126"/>
                    </a:lnTo>
                    <a:lnTo>
                      <a:pt x="1075" y="1125"/>
                    </a:lnTo>
                    <a:lnTo>
                      <a:pt x="1064" y="1122"/>
                    </a:lnTo>
                    <a:lnTo>
                      <a:pt x="1053" y="1118"/>
                    </a:lnTo>
                    <a:lnTo>
                      <a:pt x="1041" y="1113"/>
                    </a:lnTo>
                    <a:lnTo>
                      <a:pt x="1032" y="1106"/>
                    </a:lnTo>
                    <a:lnTo>
                      <a:pt x="1025" y="1098"/>
                    </a:lnTo>
                    <a:lnTo>
                      <a:pt x="1018" y="1078"/>
                    </a:lnTo>
                    <a:lnTo>
                      <a:pt x="1018" y="1055"/>
                    </a:lnTo>
                    <a:lnTo>
                      <a:pt x="1021" y="1031"/>
                    </a:lnTo>
                    <a:lnTo>
                      <a:pt x="1024" y="1005"/>
                    </a:lnTo>
                    <a:lnTo>
                      <a:pt x="1025" y="1012"/>
                    </a:lnTo>
                    <a:lnTo>
                      <a:pt x="1029" y="1032"/>
                    </a:lnTo>
                    <a:lnTo>
                      <a:pt x="1036" y="1054"/>
                    </a:lnTo>
                    <a:lnTo>
                      <a:pt x="1051" y="1071"/>
                    </a:lnTo>
                    <a:lnTo>
                      <a:pt x="1064" y="1078"/>
                    </a:lnTo>
                    <a:lnTo>
                      <a:pt x="1079" y="1083"/>
                    </a:lnTo>
                    <a:lnTo>
                      <a:pt x="1093" y="1087"/>
                    </a:lnTo>
                    <a:lnTo>
                      <a:pt x="1108" y="1091"/>
                    </a:lnTo>
                    <a:lnTo>
                      <a:pt x="1122" y="1093"/>
                    </a:lnTo>
                    <a:lnTo>
                      <a:pt x="1137" y="1094"/>
                    </a:lnTo>
                    <a:lnTo>
                      <a:pt x="1152" y="1094"/>
                    </a:lnTo>
                    <a:lnTo>
                      <a:pt x="1167" y="1094"/>
                    </a:lnTo>
                    <a:lnTo>
                      <a:pt x="1181" y="1094"/>
                    </a:lnTo>
                    <a:lnTo>
                      <a:pt x="1196" y="1093"/>
                    </a:lnTo>
                    <a:lnTo>
                      <a:pt x="1211" y="1092"/>
                    </a:lnTo>
                    <a:lnTo>
                      <a:pt x="1225" y="1091"/>
                    </a:lnTo>
                    <a:lnTo>
                      <a:pt x="1240" y="1088"/>
                    </a:lnTo>
                    <a:lnTo>
                      <a:pt x="1253" y="1087"/>
                    </a:lnTo>
                    <a:lnTo>
                      <a:pt x="1268" y="1085"/>
                    </a:lnTo>
                    <a:lnTo>
                      <a:pt x="1282" y="1084"/>
                    </a:lnTo>
                    <a:lnTo>
                      <a:pt x="1309" y="1078"/>
                    </a:lnTo>
                    <a:lnTo>
                      <a:pt x="1332" y="1072"/>
                    </a:lnTo>
                    <a:lnTo>
                      <a:pt x="1350" y="1065"/>
                    </a:lnTo>
                    <a:lnTo>
                      <a:pt x="1366" y="1058"/>
                    </a:lnTo>
                    <a:lnTo>
                      <a:pt x="1379" y="1049"/>
                    </a:lnTo>
                    <a:lnTo>
                      <a:pt x="1390" y="1038"/>
                    </a:lnTo>
                    <a:lnTo>
                      <a:pt x="1400" y="1025"/>
                    </a:lnTo>
                    <a:lnTo>
                      <a:pt x="1408" y="1009"/>
                    </a:lnTo>
                    <a:lnTo>
                      <a:pt x="1424" y="963"/>
                    </a:lnTo>
                    <a:lnTo>
                      <a:pt x="1433" y="919"/>
                    </a:lnTo>
                    <a:lnTo>
                      <a:pt x="1433" y="876"/>
                    </a:lnTo>
                    <a:lnTo>
                      <a:pt x="1427" y="835"/>
                    </a:lnTo>
                    <a:lnTo>
                      <a:pt x="1411" y="853"/>
                    </a:lnTo>
                    <a:lnTo>
                      <a:pt x="1396" y="873"/>
                    </a:lnTo>
                    <a:lnTo>
                      <a:pt x="1382" y="893"/>
                    </a:lnTo>
                    <a:lnTo>
                      <a:pt x="1370" y="913"/>
                    </a:lnTo>
                    <a:lnTo>
                      <a:pt x="1356" y="934"/>
                    </a:lnTo>
                    <a:lnTo>
                      <a:pt x="1342" y="954"/>
                    </a:lnTo>
                    <a:lnTo>
                      <a:pt x="1326" y="973"/>
                    </a:lnTo>
                    <a:lnTo>
                      <a:pt x="1309" y="990"/>
                    </a:lnTo>
                    <a:lnTo>
                      <a:pt x="1310" y="999"/>
                    </a:lnTo>
                    <a:lnTo>
                      <a:pt x="1309" y="1008"/>
                    </a:lnTo>
                    <a:lnTo>
                      <a:pt x="1305" y="1017"/>
                    </a:lnTo>
                    <a:lnTo>
                      <a:pt x="1301" y="1025"/>
                    </a:lnTo>
                    <a:lnTo>
                      <a:pt x="1296" y="1030"/>
                    </a:lnTo>
                    <a:lnTo>
                      <a:pt x="1291" y="1034"/>
                    </a:lnTo>
                    <a:lnTo>
                      <a:pt x="1287" y="1038"/>
                    </a:lnTo>
                    <a:lnTo>
                      <a:pt x="1282" y="1040"/>
                    </a:lnTo>
                    <a:lnTo>
                      <a:pt x="1276" y="1042"/>
                    </a:lnTo>
                    <a:lnTo>
                      <a:pt x="1269" y="1043"/>
                    </a:lnTo>
                    <a:lnTo>
                      <a:pt x="1261" y="1045"/>
                    </a:lnTo>
                    <a:lnTo>
                      <a:pt x="1253" y="1043"/>
                    </a:lnTo>
                    <a:lnTo>
                      <a:pt x="1238" y="1022"/>
                    </a:lnTo>
                    <a:lnTo>
                      <a:pt x="1225" y="970"/>
                    </a:lnTo>
                    <a:lnTo>
                      <a:pt x="1210" y="901"/>
                    </a:lnTo>
                    <a:lnTo>
                      <a:pt x="1197" y="821"/>
                    </a:lnTo>
                    <a:lnTo>
                      <a:pt x="1185" y="743"/>
                    </a:lnTo>
                    <a:lnTo>
                      <a:pt x="1176" y="675"/>
                    </a:lnTo>
                    <a:lnTo>
                      <a:pt x="1170" y="627"/>
                    </a:lnTo>
                    <a:lnTo>
                      <a:pt x="1168" y="608"/>
                    </a:lnTo>
                    <a:lnTo>
                      <a:pt x="1160" y="595"/>
                    </a:lnTo>
                    <a:lnTo>
                      <a:pt x="1150" y="583"/>
                    </a:lnTo>
                    <a:lnTo>
                      <a:pt x="1137" y="571"/>
                    </a:lnTo>
                    <a:lnTo>
                      <a:pt x="1123" y="561"/>
                    </a:lnTo>
                    <a:lnTo>
                      <a:pt x="1108" y="551"/>
                    </a:lnTo>
                    <a:lnTo>
                      <a:pt x="1092" y="540"/>
                    </a:lnTo>
                    <a:lnTo>
                      <a:pt x="1077" y="529"/>
                    </a:lnTo>
                    <a:lnTo>
                      <a:pt x="1063" y="517"/>
                    </a:lnTo>
                    <a:lnTo>
                      <a:pt x="1064" y="492"/>
                    </a:lnTo>
                    <a:lnTo>
                      <a:pt x="1083" y="502"/>
                    </a:lnTo>
                    <a:lnTo>
                      <a:pt x="1101" y="513"/>
                    </a:lnTo>
                    <a:lnTo>
                      <a:pt x="1121" y="525"/>
                    </a:lnTo>
                    <a:lnTo>
                      <a:pt x="1140" y="538"/>
                    </a:lnTo>
                    <a:lnTo>
                      <a:pt x="1159" y="553"/>
                    </a:lnTo>
                    <a:lnTo>
                      <a:pt x="1175" y="568"/>
                    </a:lnTo>
                    <a:lnTo>
                      <a:pt x="1189" y="585"/>
                    </a:lnTo>
                    <a:lnTo>
                      <a:pt x="1200" y="602"/>
                    </a:lnTo>
                    <a:lnTo>
                      <a:pt x="1204" y="623"/>
                    </a:lnTo>
                    <a:lnTo>
                      <a:pt x="1210" y="666"/>
                    </a:lnTo>
                    <a:lnTo>
                      <a:pt x="1216" y="726"/>
                    </a:lnTo>
                    <a:lnTo>
                      <a:pt x="1223" y="794"/>
                    </a:lnTo>
                    <a:lnTo>
                      <a:pt x="1231" y="863"/>
                    </a:lnTo>
                    <a:lnTo>
                      <a:pt x="1241" y="926"/>
                    </a:lnTo>
                    <a:lnTo>
                      <a:pt x="1250" y="977"/>
                    </a:lnTo>
                    <a:lnTo>
                      <a:pt x="1259" y="1007"/>
                    </a:lnTo>
                    <a:lnTo>
                      <a:pt x="1266" y="1009"/>
                    </a:lnTo>
                    <a:lnTo>
                      <a:pt x="1274" y="1008"/>
                    </a:lnTo>
                    <a:lnTo>
                      <a:pt x="1281" y="1005"/>
                    </a:lnTo>
                    <a:lnTo>
                      <a:pt x="1287" y="1002"/>
                    </a:lnTo>
                    <a:lnTo>
                      <a:pt x="1290" y="988"/>
                    </a:lnTo>
                    <a:lnTo>
                      <a:pt x="1289" y="974"/>
                    </a:lnTo>
                    <a:lnTo>
                      <a:pt x="1286" y="962"/>
                    </a:lnTo>
                    <a:lnTo>
                      <a:pt x="1281" y="949"/>
                    </a:lnTo>
                    <a:lnTo>
                      <a:pt x="1283" y="948"/>
                    </a:lnTo>
                    <a:lnTo>
                      <a:pt x="1288" y="949"/>
                    </a:lnTo>
                    <a:lnTo>
                      <a:pt x="1293" y="951"/>
                    </a:lnTo>
                    <a:lnTo>
                      <a:pt x="1297" y="955"/>
                    </a:lnTo>
                    <a:lnTo>
                      <a:pt x="1321" y="926"/>
                    </a:lnTo>
                    <a:lnTo>
                      <a:pt x="1344" y="896"/>
                    </a:lnTo>
                    <a:lnTo>
                      <a:pt x="1367" y="866"/>
                    </a:lnTo>
                    <a:lnTo>
                      <a:pt x="1389" y="835"/>
                    </a:lnTo>
                    <a:lnTo>
                      <a:pt x="1410" y="804"/>
                    </a:lnTo>
                    <a:lnTo>
                      <a:pt x="1432" y="772"/>
                    </a:lnTo>
                    <a:lnTo>
                      <a:pt x="1453" y="741"/>
                    </a:lnTo>
                    <a:lnTo>
                      <a:pt x="1473" y="709"/>
                    </a:lnTo>
                    <a:lnTo>
                      <a:pt x="1480" y="700"/>
                    </a:lnTo>
                    <a:lnTo>
                      <a:pt x="1486" y="691"/>
                    </a:lnTo>
                    <a:lnTo>
                      <a:pt x="1492" y="682"/>
                    </a:lnTo>
                    <a:lnTo>
                      <a:pt x="1498" y="673"/>
                    </a:lnTo>
                    <a:lnTo>
                      <a:pt x="1501" y="663"/>
                    </a:lnTo>
                    <a:lnTo>
                      <a:pt x="1503" y="654"/>
                    </a:lnTo>
                    <a:lnTo>
                      <a:pt x="1504" y="645"/>
                    </a:lnTo>
                    <a:lnTo>
                      <a:pt x="1502" y="635"/>
                    </a:lnTo>
                    <a:lnTo>
                      <a:pt x="1498" y="622"/>
                    </a:lnTo>
                    <a:lnTo>
                      <a:pt x="1488" y="608"/>
                    </a:lnTo>
                    <a:lnTo>
                      <a:pt x="1478" y="592"/>
                    </a:lnTo>
                    <a:lnTo>
                      <a:pt x="1464" y="575"/>
                    </a:lnTo>
                    <a:lnTo>
                      <a:pt x="1447" y="556"/>
                    </a:lnTo>
                    <a:lnTo>
                      <a:pt x="1428" y="538"/>
                    </a:lnTo>
                    <a:lnTo>
                      <a:pt x="1408" y="517"/>
                    </a:lnTo>
                    <a:lnTo>
                      <a:pt x="1385" y="496"/>
                    </a:lnTo>
                    <a:lnTo>
                      <a:pt x="1360" y="476"/>
                    </a:lnTo>
                    <a:lnTo>
                      <a:pt x="1335" y="454"/>
                    </a:lnTo>
                    <a:lnTo>
                      <a:pt x="1307" y="432"/>
                    </a:lnTo>
                    <a:lnTo>
                      <a:pt x="1280" y="410"/>
                    </a:lnTo>
                    <a:lnTo>
                      <a:pt x="1251" y="388"/>
                    </a:lnTo>
                    <a:lnTo>
                      <a:pt x="1222" y="367"/>
                    </a:lnTo>
                    <a:lnTo>
                      <a:pt x="1192" y="346"/>
                    </a:lnTo>
                    <a:lnTo>
                      <a:pt x="1162" y="325"/>
                    </a:lnTo>
                    <a:lnTo>
                      <a:pt x="1155" y="324"/>
                    </a:lnTo>
                    <a:lnTo>
                      <a:pt x="1144" y="325"/>
                    </a:lnTo>
                    <a:lnTo>
                      <a:pt x="1131" y="325"/>
                    </a:lnTo>
                    <a:lnTo>
                      <a:pt x="1116" y="327"/>
                    </a:lnTo>
                    <a:lnTo>
                      <a:pt x="1101" y="329"/>
                    </a:lnTo>
                    <a:lnTo>
                      <a:pt x="1089" y="333"/>
                    </a:lnTo>
                    <a:lnTo>
                      <a:pt x="1078" y="336"/>
                    </a:lnTo>
                    <a:lnTo>
                      <a:pt x="1071" y="341"/>
                    </a:lnTo>
                    <a:lnTo>
                      <a:pt x="1040" y="405"/>
                    </a:lnTo>
                    <a:lnTo>
                      <a:pt x="1047" y="432"/>
                    </a:lnTo>
                    <a:lnTo>
                      <a:pt x="1051" y="460"/>
                    </a:lnTo>
                    <a:lnTo>
                      <a:pt x="1049" y="487"/>
                    </a:lnTo>
                    <a:lnTo>
                      <a:pt x="1040" y="511"/>
                    </a:lnTo>
                    <a:lnTo>
                      <a:pt x="1033" y="503"/>
                    </a:lnTo>
                    <a:lnTo>
                      <a:pt x="1034" y="484"/>
                    </a:lnTo>
                    <a:lnTo>
                      <a:pt x="1036" y="461"/>
                    </a:lnTo>
                    <a:lnTo>
                      <a:pt x="1031" y="442"/>
                    </a:lnTo>
                    <a:lnTo>
                      <a:pt x="1026" y="435"/>
                    </a:lnTo>
                    <a:lnTo>
                      <a:pt x="1007" y="453"/>
                    </a:lnTo>
                    <a:lnTo>
                      <a:pt x="1015" y="472"/>
                    </a:lnTo>
                    <a:lnTo>
                      <a:pt x="1018" y="493"/>
                    </a:lnTo>
                    <a:lnTo>
                      <a:pt x="1014" y="514"/>
                    </a:lnTo>
                    <a:lnTo>
                      <a:pt x="1002" y="533"/>
                    </a:lnTo>
                    <a:lnTo>
                      <a:pt x="992" y="526"/>
                    </a:lnTo>
                    <a:lnTo>
                      <a:pt x="995" y="515"/>
                    </a:lnTo>
                    <a:lnTo>
                      <a:pt x="998" y="500"/>
                    </a:lnTo>
                    <a:lnTo>
                      <a:pt x="998" y="486"/>
                    </a:lnTo>
                    <a:lnTo>
                      <a:pt x="994" y="472"/>
                    </a:lnTo>
                    <a:lnTo>
                      <a:pt x="990" y="467"/>
                    </a:lnTo>
                    <a:lnTo>
                      <a:pt x="985" y="461"/>
                    </a:lnTo>
                    <a:lnTo>
                      <a:pt x="978" y="456"/>
                    </a:lnTo>
                    <a:lnTo>
                      <a:pt x="971" y="452"/>
                    </a:lnTo>
                    <a:lnTo>
                      <a:pt x="964" y="447"/>
                    </a:lnTo>
                    <a:lnTo>
                      <a:pt x="957" y="442"/>
                    </a:lnTo>
                    <a:lnTo>
                      <a:pt x="950" y="437"/>
                    </a:lnTo>
                    <a:lnTo>
                      <a:pt x="945" y="430"/>
                    </a:lnTo>
                    <a:lnTo>
                      <a:pt x="938" y="431"/>
                    </a:lnTo>
                    <a:lnTo>
                      <a:pt x="932" y="433"/>
                    </a:lnTo>
                    <a:lnTo>
                      <a:pt x="926" y="438"/>
                    </a:lnTo>
                    <a:lnTo>
                      <a:pt x="923" y="441"/>
                    </a:lnTo>
                    <a:lnTo>
                      <a:pt x="918" y="447"/>
                    </a:lnTo>
                    <a:lnTo>
                      <a:pt x="915" y="453"/>
                    </a:lnTo>
                    <a:lnTo>
                      <a:pt x="912" y="458"/>
                    </a:lnTo>
                    <a:lnTo>
                      <a:pt x="910" y="464"/>
                    </a:lnTo>
                    <a:lnTo>
                      <a:pt x="908" y="476"/>
                    </a:lnTo>
                    <a:lnTo>
                      <a:pt x="909" y="487"/>
                    </a:lnTo>
                    <a:lnTo>
                      <a:pt x="913" y="498"/>
                    </a:lnTo>
                    <a:lnTo>
                      <a:pt x="923" y="507"/>
                    </a:lnTo>
                    <a:lnTo>
                      <a:pt x="930" y="511"/>
                    </a:lnTo>
                    <a:lnTo>
                      <a:pt x="937" y="516"/>
                    </a:lnTo>
                    <a:lnTo>
                      <a:pt x="945" y="522"/>
                    </a:lnTo>
                    <a:lnTo>
                      <a:pt x="952" y="526"/>
                    </a:lnTo>
                    <a:lnTo>
                      <a:pt x="960" y="531"/>
                    </a:lnTo>
                    <a:lnTo>
                      <a:pt x="966" y="536"/>
                    </a:lnTo>
                    <a:lnTo>
                      <a:pt x="973" y="539"/>
                    </a:lnTo>
                    <a:lnTo>
                      <a:pt x="980" y="544"/>
                    </a:lnTo>
                    <a:lnTo>
                      <a:pt x="978" y="548"/>
                    </a:lnTo>
                    <a:lnTo>
                      <a:pt x="977" y="556"/>
                    </a:lnTo>
                    <a:lnTo>
                      <a:pt x="973" y="562"/>
                    </a:lnTo>
                    <a:lnTo>
                      <a:pt x="969" y="566"/>
                    </a:lnTo>
                    <a:lnTo>
                      <a:pt x="955" y="560"/>
                    </a:lnTo>
                    <a:lnTo>
                      <a:pt x="942" y="553"/>
                    </a:lnTo>
                    <a:lnTo>
                      <a:pt x="930" y="546"/>
                    </a:lnTo>
                    <a:lnTo>
                      <a:pt x="917" y="539"/>
                    </a:lnTo>
                    <a:lnTo>
                      <a:pt x="905" y="531"/>
                    </a:lnTo>
                    <a:lnTo>
                      <a:pt x="894" y="523"/>
                    </a:lnTo>
                    <a:lnTo>
                      <a:pt x="884" y="515"/>
                    </a:lnTo>
                    <a:lnTo>
                      <a:pt x="874" y="507"/>
                    </a:lnTo>
                    <a:lnTo>
                      <a:pt x="864" y="530"/>
                    </a:lnTo>
                    <a:lnTo>
                      <a:pt x="863" y="554"/>
                    </a:lnTo>
                    <a:lnTo>
                      <a:pt x="866" y="577"/>
                    </a:lnTo>
                    <a:lnTo>
                      <a:pt x="871" y="601"/>
                    </a:lnTo>
                    <a:lnTo>
                      <a:pt x="880" y="601"/>
                    </a:lnTo>
                    <a:lnTo>
                      <a:pt x="888" y="600"/>
                    </a:lnTo>
                    <a:lnTo>
                      <a:pt x="897" y="598"/>
                    </a:lnTo>
                    <a:lnTo>
                      <a:pt x="907" y="594"/>
                    </a:lnTo>
                    <a:lnTo>
                      <a:pt x="916" y="592"/>
                    </a:lnTo>
                    <a:lnTo>
                      <a:pt x="926" y="587"/>
                    </a:lnTo>
                    <a:lnTo>
                      <a:pt x="935" y="585"/>
                    </a:lnTo>
                    <a:lnTo>
                      <a:pt x="945" y="582"/>
                    </a:lnTo>
                    <a:lnTo>
                      <a:pt x="947" y="584"/>
                    </a:lnTo>
                    <a:lnTo>
                      <a:pt x="950" y="586"/>
                    </a:lnTo>
                    <a:lnTo>
                      <a:pt x="953" y="589"/>
                    </a:lnTo>
                    <a:lnTo>
                      <a:pt x="953" y="592"/>
                    </a:lnTo>
                    <a:lnTo>
                      <a:pt x="945" y="600"/>
                    </a:lnTo>
                    <a:lnTo>
                      <a:pt x="935" y="607"/>
                    </a:lnTo>
                    <a:lnTo>
                      <a:pt x="925" y="613"/>
                    </a:lnTo>
                    <a:lnTo>
                      <a:pt x="913" y="617"/>
                    </a:lnTo>
                    <a:lnTo>
                      <a:pt x="902" y="621"/>
                    </a:lnTo>
                    <a:lnTo>
                      <a:pt x="890" y="624"/>
                    </a:lnTo>
                    <a:lnTo>
                      <a:pt x="879" y="628"/>
                    </a:lnTo>
                    <a:lnTo>
                      <a:pt x="867" y="630"/>
                    </a:lnTo>
                    <a:lnTo>
                      <a:pt x="856" y="620"/>
                    </a:lnTo>
                    <a:lnTo>
                      <a:pt x="848" y="608"/>
                    </a:lnTo>
                    <a:lnTo>
                      <a:pt x="842" y="595"/>
                    </a:lnTo>
                    <a:lnTo>
                      <a:pt x="837" y="582"/>
                    </a:lnTo>
                    <a:lnTo>
                      <a:pt x="834" y="568"/>
                    </a:lnTo>
                    <a:lnTo>
                      <a:pt x="833" y="553"/>
                    </a:lnTo>
                    <a:lnTo>
                      <a:pt x="832" y="538"/>
                    </a:lnTo>
                    <a:lnTo>
                      <a:pt x="831" y="524"/>
                    </a:lnTo>
                    <a:lnTo>
                      <a:pt x="836" y="508"/>
                    </a:lnTo>
                    <a:lnTo>
                      <a:pt x="846" y="493"/>
                    </a:lnTo>
                    <a:lnTo>
                      <a:pt x="855" y="480"/>
                    </a:lnTo>
                    <a:lnTo>
                      <a:pt x="864" y="468"/>
                    </a:lnTo>
                    <a:lnTo>
                      <a:pt x="885" y="479"/>
                    </a:lnTo>
                    <a:lnTo>
                      <a:pt x="887" y="468"/>
                    </a:lnTo>
                    <a:lnTo>
                      <a:pt x="889" y="456"/>
                    </a:lnTo>
                    <a:lnTo>
                      <a:pt x="893" y="445"/>
                    </a:lnTo>
                    <a:lnTo>
                      <a:pt x="899" y="433"/>
                    </a:lnTo>
                    <a:lnTo>
                      <a:pt x="905" y="424"/>
                    </a:lnTo>
                    <a:lnTo>
                      <a:pt x="912" y="415"/>
                    </a:lnTo>
                    <a:lnTo>
                      <a:pt x="923" y="408"/>
                    </a:lnTo>
                    <a:lnTo>
                      <a:pt x="933" y="402"/>
                    </a:lnTo>
                    <a:lnTo>
                      <a:pt x="932" y="399"/>
                    </a:lnTo>
                    <a:lnTo>
                      <a:pt x="932" y="396"/>
                    </a:lnTo>
                    <a:lnTo>
                      <a:pt x="932" y="393"/>
                    </a:lnTo>
                    <a:lnTo>
                      <a:pt x="930" y="391"/>
                    </a:lnTo>
                    <a:lnTo>
                      <a:pt x="920" y="393"/>
                    </a:lnTo>
                    <a:lnTo>
                      <a:pt x="912" y="396"/>
                    </a:lnTo>
                    <a:lnTo>
                      <a:pt x="907" y="402"/>
                    </a:lnTo>
                    <a:lnTo>
                      <a:pt x="902" y="409"/>
                    </a:lnTo>
                    <a:lnTo>
                      <a:pt x="897" y="417"/>
                    </a:lnTo>
                    <a:lnTo>
                      <a:pt x="894" y="424"/>
                    </a:lnTo>
                    <a:lnTo>
                      <a:pt x="890" y="432"/>
                    </a:lnTo>
                    <a:lnTo>
                      <a:pt x="886" y="438"/>
                    </a:lnTo>
                    <a:lnTo>
                      <a:pt x="874" y="427"/>
                    </a:lnTo>
                    <a:lnTo>
                      <a:pt x="874" y="419"/>
                    </a:lnTo>
                    <a:lnTo>
                      <a:pt x="877" y="410"/>
                    </a:lnTo>
                    <a:lnTo>
                      <a:pt x="880" y="401"/>
                    </a:lnTo>
                    <a:lnTo>
                      <a:pt x="887" y="392"/>
                    </a:lnTo>
                    <a:lnTo>
                      <a:pt x="896" y="382"/>
                    </a:lnTo>
                    <a:lnTo>
                      <a:pt x="909" y="376"/>
                    </a:lnTo>
                    <a:lnTo>
                      <a:pt x="923" y="370"/>
                    </a:lnTo>
                    <a:lnTo>
                      <a:pt x="940" y="365"/>
                    </a:lnTo>
                    <a:lnTo>
                      <a:pt x="939" y="343"/>
                    </a:lnTo>
                    <a:lnTo>
                      <a:pt x="928" y="347"/>
                    </a:lnTo>
                    <a:lnTo>
                      <a:pt x="919" y="349"/>
                    </a:lnTo>
                    <a:lnTo>
                      <a:pt x="911" y="353"/>
                    </a:lnTo>
                    <a:lnTo>
                      <a:pt x="902" y="356"/>
                    </a:lnTo>
                    <a:lnTo>
                      <a:pt x="894" y="361"/>
                    </a:lnTo>
                    <a:lnTo>
                      <a:pt x="885" y="367"/>
                    </a:lnTo>
                    <a:lnTo>
                      <a:pt x="873" y="376"/>
                    </a:lnTo>
                    <a:lnTo>
                      <a:pt x="862" y="387"/>
                    </a:lnTo>
                    <a:lnTo>
                      <a:pt x="860" y="394"/>
                    </a:lnTo>
                    <a:lnTo>
                      <a:pt x="856" y="401"/>
                    </a:lnTo>
                    <a:lnTo>
                      <a:pt x="850" y="410"/>
                    </a:lnTo>
                    <a:lnTo>
                      <a:pt x="843" y="418"/>
                    </a:lnTo>
                    <a:lnTo>
                      <a:pt x="836" y="427"/>
                    </a:lnTo>
                    <a:lnTo>
                      <a:pt x="829" y="435"/>
                    </a:lnTo>
                    <a:lnTo>
                      <a:pt x="822" y="442"/>
                    </a:lnTo>
                    <a:lnTo>
                      <a:pt x="818" y="448"/>
                    </a:lnTo>
                    <a:lnTo>
                      <a:pt x="809" y="445"/>
                    </a:lnTo>
                    <a:lnTo>
                      <a:pt x="796" y="437"/>
                    </a:lnTo>
                    <a:lnTo>
                      <a:pt x="783" y="427"/>
                    </a:lnTo>
                    <a:lnTo>
                      <a:pt x="769" y="415"/>
                    </a:lnTo>
                    <a:lnTo>
                      <a:pt x="757" y="403"/>
                    </a:lnTo>
                    <a:lnTo>
                      <a:pt x="745" y="392"/>
                    </a:lnTo>
                    <a:lnTo>
                      <a:pt x="735" y="382"/>
                    </a:lnTo>
                    <a:lnTo>
                      <a:pt x="728" y="376"/>
                    </a:lnTo>
                    <a:lnTo>
                      <a:pt x="736" y="373"/>
                    </a:lnTo>
                    <a:lnTo>
                      <a:pt x="745" y="374"/>
                    </a:lnTo>
                    <a:lnTo>
                      <a:pt x="757" y="378"/>
                    </a:lnTo>
                    <a:lnTo>
                      <a:pt x="769" y="384"/>
                    </a:lnTo>
                    <a:lnTo>
                      <a:pt x="781" y="392"/>
                    </a:lnTo>
                    <a:lnTo>
                      <a:pt x="793" y="400"/>
                    </a:lnTo>
                    <a:lnTo>
                      <a:pt x="803" y="409"/>
                    </a:lnTo>
                    <a:lnTo>
                      <a:pt x="811" y="417"/>
                    </a:lnTo>
                    <a:lnTo>
                      <a:pt x="820" y="411"/>
                    </a:lnTo>
                    <a:lnTo>
                      <a:pt x="826" y="403"/>
                    </a:lnTo>
                    <a:lnTo>
                      <a:pt x="826" y="394"/>
                    </a:lnTo>
                    <a:lnTo>
                      <a:pt x="819" y="387"/>
                    </a:lnTo>
                    <a:lnTo>
                      <a:pt x="811" y="382"/>
                    </a:lnTo>
                    <a:lnTo>
                      <a:pt x="801" y="377"/>
                    </a:lnTo>
                    <a:lnTo>
                      <a:pt x="789" y="370"/>
                    </a:lnTo>
                    <a:lnTo>
                      <a:pt x="779" y="362"/>
                    </a:lnTo>
                    <a:lnTo>
                      <a:pt x="769" y="353"/>
                    </a:lnTo>
                    <a:lnTo>
                      <a:pt x="763" y="344"/>
                    </a:lnTo>
                    <a:lnTo>
                      <a:pt x="760" y="335"/>
                    </a:lnTo>
                    <a:lnTo>
                      <a:pt x="763" y="327"/>
                    </a:lnTo>
                    <a:lnTo>
                      <a:pt x="766" y="329"/>
                    </a:lnTo>
                    <a:lnTo>
                      <a:pt x="773" y="334"/>
                    </a:lnTo>
                    <a:lnTo>
                      <a:pt x="784" y="341"/>
                    </a:lnTo>
                    <a:lnTo>
                      <a:pt x="798" y="350"/>
                    </a:lnTo>
                    <a:lnTo>
                      <a:pt x="812" y="359"/>
                    </a:lnTo>
                    <a:lnTo>
                      <a:pt x="825" y="367"/>
                    </a:lnTo>
                    <a:lnTo>
                      <a:pt x="834" y="374"/>
                    </a:lnTo>
                    <a:lnTo>
                      <a:pt x="840" y="379"/>
                    </a:lnTo>
                    <a:lnTo>
                      <a:pt x="851" y="366"/>
                    </a:lnTo>
                    <a:lnTo>
                      <a:pt x="864" y="354"/>
                    </a:lnTo>
                    <a:lnTo>
                      <a:pt x="878" y="343"/>
                    </a:lnTo>
                    <a:lnTo>
                      <a:pt x="894" y="335"/>
                    </a:lnTo>
                    <a:lnTo>
                      <a:pt x="910" y="328"/>
                    </a:lnTo>
                    <a:lnTo>
                      <a:pt x="926" y="324"/>
                    </a:lnTo>
                    <a:lnTo>
                      <a:pt x="942" y="320"/>
                    </a:lnTo>
                    <a:lnTo>
                      <a:pt x="958" y="320"/>
                    </a:lnTo>
                    <a:lnTo>
                      <a:pt x="963" y="309"/>
                    </a:lnTo>
                    <a:lnTo>
                      <a:pt x="966" y="296"/>
                    </a:lnTo>
                    <a:lnTo>
                      <a:pt x="966" y="285"/>
                    </a:lnTo>
                    <a:lnTo>
                      <a:pt x="964" y="273"/>
                    </a:lnTo>
                    <a:lnTo>
                      <a:pt x="945" y="272"/>
                    </a:lnTo>
                    <a:lnTo>
                      <a:pt x="919" y="273"/>
                    </a:lnTo>
                    <a:lnTo>
                      <a:pt x="892" y="277"/>
                    </a:lnTo>
                    <a:lnTo>
                      <a:pt x="864" y="281"/>
                    </a:lnTo>
                    <a:lnTo>
                      <a:pt x="837" y="286"/>
                    </a:lnTo>
                    <a:lnTo>
                      <a:pt x="814" y="291"/>
                    </a:lnTo>
                    <a:lnTo>
                      <a:pt x="798" y="295"/>
                    </a:lnTo>
                    <a:lnTo>
                      <a:pt x="790" y="298"/>
                    </a:lnTo>
                    <a:lnTo>
                      <a:pt x="784" y="297"/>
                    </a:lnTo>
                    <a:lnTo>
                      <a:pt x="783" y="293"/>
                    </a:lnTo>
                    <a:lnTo>
                      <a:pt x="783" y="288"/>
                    </a:lnTo>
                    <a:lnTo>
                      <a:pt x="782" y="283"/>
                    </a:lnTo>
                    <a:lnTo>
                      <a:pt x="807" y="270"/>
                    </a:lnTo>
                    <a:lnTo>
                      <a:pt x="804" y="264"/>
                    </a:lnTo>
                    <a:lnTo>
                      <a:pt x="798" y="258"/>
                    </a:lnTo>
                    <a:lnTo>
                      <a:pt x="790" y="251"/>
                    </a:lnTo>
                    <a:lnTo>
                      <a:pt x="782" y="244"/>
                    </a:lnTo>
                    <a:lnTo>
                      <a:pt x="773" y="237"/>
                    </a:lnTo>
                    <a:lnTo>
                      <a:pt x="766" y="230"/>
                    </a:lnTo>
                    <a:lnTo>
                      <a:pt x="761" y="225"/>
                    </a:lnTo>
                    <a:lnTo>
                      <a:pt x="759" y="219"/>
                    </a:lnTo>
                    <a:lnTo>
                      <a:pt x="764" y="218"/>
                    </a:lnTo>
                    <a:lnTo>
                      <a:pt x="771" y="220"/>
                    </a:lnTo>
                    <a:lnTo>
                      <a:pt x="781" y="225"/>
                    </a:lnTo>
                    <a:lnTo>
                      <a:pt x="793" y="232"/>
                    </a:lnTo>
                    <a:lnTo>
                      <a:pt x="805" y="239"/>
                    </a:lnTo>
                    <a:lnTo>
                      <a:pt x="817" y="247"/>
                    </a:lnTo>
                    <a:lnTo>
                      <a:pt x="828" y="253"/>
                    </a:lnTo>
                    <a:lnTo>
                      <a:pt x="836" y="260"/>
                    </a:lnTo>
                    <a:lnTo>
                      <a:pt x="846" y="258"/>
                    </a:lnTo>
                    <a:lnTo>
                      <a:pt x="855" y="257"/>
                    </a:lnTo>
                    <a:lnTo>
                      <a:pt x="862" y="256"/>
                    </a:lnTo>
                    <a:lnTo>
                      <a:pt x="869" y="255"/>
                    </a:lnTo>
                    <a:lnTo>
                      <a:pt x="875" y="253"/>
                    </a:lnTo>
                    <a:lnTo>
                      <a:pt x="884" y="252"/>
                    </a:lnTo>
                    <a:lnTo>
                      <a:pt x="890" y="251"/>
                    </a:lnTo>
                    <a:lnTo>
                      <a:pt x="900" y="248"/>
                    </a:lnTo>
                    <a:lnTo>
                      <a:pt x="886" y="235"/>
                    </a:lnTo>
                    <a:lnTo>
                      <a:pt x="869" y="221"/>
                    </a:lnTo>
                    <a:lnTo>
                      <a:pt x="850" y="206"/>
                    </a:lnTo>
                    <a:lnTo>
                      <a:pt x="833" y="191"/>
                    </a:lnTo>
                    <a:lnTo>
                      <a:pt x="816" y="179"/>
                    </a:lnTo>
                    <a:lnTo>
                      <a:pt x="803" y="168"/>
                    </a:lnTo>
                    <a:lnTo>
                      <a:pt x="794" y="160"/>
                    </a:lnTo>
                    <a:lnTo>
                      <a:pt x="790" y="158"/>
                    </a:lnTo>
                    <a:lnTo>
                      <a:pt x="811" y="167"/>
                    </a:lnTo>
                    <a:lnTo>
                      <a:pt x="835" y="179"/>
                    </a:lnTo>
                    <a:lnTo>
                      <a:pt x="860" y="192"/>
                    </a:lnTo>
                    <a:lnTo>
                      <a:pt x="886" y="206"/>
                    </a:lnTo>
                    <a:lnTo>
                      <a:pt x="908" y="220"/>
                    </a:lnTo>
                    <a:lnTo>
                      <a:pt x="926" y="230"/>
                    </a:lnTo>
                    <a:lnTo>
                      <a:pt x="939" y="239"/>
                    </a:lnTo>
                    <a:lnTo>
                      <a:pt x="943" y="241"/>
                    </a:lnTo>
                    <a:lnTo>
                      <a:pt x="934" y="224"/>
                    </a:lnTo>
                    <a:lnTo>
                      <a:pt x="923" y="207"/>
                    </a:lnTo>
                    <a:lnTo>
                      <a:pt x="909" y="192"/>
                    </a:lnTo>
                    <a:lnTo>
                      <a:pt x="892" y="180"/>
                    </a:lnTo>
                    <a:lnTo>
                      <a:pt x="874" y="167"/>
                    </a:lnTo>
                    <a:lnTo>
                      <a:pt x="856" y="157"/>
                    </a:lnTo>
                    <a:lnTo>
                      <a:pt x="837" y="148"/>
                    </a:lnTo>
                    <a:lnTo>
                      <a:pt x="819" y="139"/>
                    </a:lnTo>
                    <a:lnTo>
                      <a:pt x="788" y="130"/>
                    </a:lnTo>
                    <a:lnTo>
                      <a:pt x="764" y="131"/>
                    </a:lnTo>
                    <a:lnTo>
                      <a:pt x="745" y="141"/>
                    </a:lnTo>
                    <a:lnTo>
                      <a:pt x="731" y="154"/>
                    </a:lnTo>
                    <a:lnTo>
                      <a:pt x="722" y="171"/>
                    </a:lnTo>
                    <a:lnTo>
                      <a:pt x="715" y="188"/>
                    </a:lnTo>
                    <a:lnTo>
                      <a:pt x="711" y="203"/>
                    </a:lnTo>
                    <a:lnTo>
                      <a:pt x="707" y="214"/>
                    </a:lnTo>
                    <a:lnTo>
                      <a:pt x="687" y="201"/>
                    </a:lnTo>
                    <a:lnTo>
                      <a:pt x="693" y="183"/>
                    </a:lnTo>
                    <a:lnTo>
                      <a:pt x="700" y="167"/>
                    </a:lnTo>
                    <a:lnTo>
                      <a:pt x="707" y="152"/>
                    </a:lnTo>
                    <a:lnTo>
                      <a:pt x="714" y="137"/>
                    </a:lnTo>
                    <a:lnTo>
                      <a:pt x="723" y="125"/>
                    </a:lnTo>
                    <a:lnTo>
                      <a:pt x="733" y="113"/>
                    </a:lnTo>
                    <a:lnTo>
                      <a:pt x="745" y="104"/>
                    </a:lnTo>
                    <a:lnTo>
                      <a:pt x="760" y="97"/>
                    </a:lnTo>
                    <a:lnTo>
                      <a:pt x="778" y="98"/>
                    </a:lnTo>
                    <a:lnTo>
                      <a:pt x="796" y="100"/>
                    </a:lnTo>
                    <a:lnTo>
                      <a:pt x="814" y="106"/>
                    </a:lnTo>
                    <a:lnTo>
                      <a:pt x="834" y="114"/>
                    </a:lnTo>
                    <a:lnTo>
                      <a:pt x="854" y="123"/>
                    </a:lnTo>
                    <a:lnTo>
                      <a:pt x="873" y="135"/>
                    </a:lnTo>
                    <a:lnTo>
                      <a:pt x="892" y="146"/>
                    </a:lnTo>
                    <a:lnTo>
                      <a:pt x="910" y="160"/>
                    </a:lnTo>
                    <a:lnTo>
                      <a:pt x="927" y="173"/>
                    </a:lnTo>
                    <a:lnTo>
                      <a:pt x="943" y="187"/>
                    </a:lnTo>
                    <a:lnTo>
                      <a:pt x="958" y="199"/>
                    </a:lnTo>
                    <a:lnTo>
                      <a:pt x="971" y="212"/>
                    </a:lnTo>
                    <a:lnTo>
                      <a:pt x="983" y="225"/>
                    </a:lnTo>
                    <a:lnTo>
                      <a:pt x="991" y="235"/>
                    </a:lnTo>
                    <a:lnTo>
                      <a:pt x="996" y="244"/>
                    </a:lnTo>
                    <a:lnTo>
                      <a:pt x="999" y="251"/>
                    </a:lnTo>
                    <a:lnTo>
                      <a:pt x="1001" y="272"/>
                    </a:lnTo>
                    <a:lnTo>
                      <a:pt x="1001" y="291"/>
                    </a:lnTo>
                    <a:lnTo>
                      <a:pt x="999" y="310"/>
                    </a:lnTo>
                    <a:lnTo>
                      <a:pt x="994" y="328"/>
                    </a:lnTo>
                    <a:lnTo>
                      <a:pt x="988" y="347"/>
                    </a:lnTo>
                    <a:lnTo>
                      <a:pt x="981" y="365"/>
                    </a:lnTo>
                    <a:lnTo>
                      <a:pt x="973" y="384"/>
                    </a:lnTo>
                    <a:lnTo>
                      <a:pt x="966" y="403"/>
                    </a:lnTo>
                    <a:lnTo>
                      <a:pt x="992" y="423"/>
                    </a:lnTo>
                    <a:lnTo>
                      <a:pt x="1002" y="408"/>
                    </a:lnTo>
                    <a:lnTo>
                      <a:pt x="1014" y="387"/>
                    </a:lnTo>
                    <a:lnTo>
                      <a:pt x="1024" y="362"/>
                    </a:lnTo>
                    <a:lnTo>
                      <a:pt x="1036" y="334"/>
                    </a:lnTo>
                    <a:lnTo>
                      <a:pt x="1045" y="308"/>
                    </a:lnTo>
                    <a:lnTo>
                      <a:pt x="1052" y="283"/>
                    </a:lnTo>
                    <a:lnTo>
                      <a:pt x="1056" y="264"/>
                    </a:lnTo>
                    <a:lnTo>
                      <a:pt x="1056" y="251"/>
                    </a:lnTo>
                    <a:lnTo>
                      <a:pt x="1043" y="232"/>
                    </a:lnTo>
                    <a:lnTo>
                      <a:pt x="1026" y="213"/>
                    </a:lnTo>
                    <a:lnTo>
                      <a:pt x="1010" y="195"/>
                    </a:lnTo>
                    <a:lnTo>
                      <a:pt x="993" y="177"/>
                    </a:lnTo>
                    <a:lnTo>
                      <a:pt x="976" y="161"/>
                    </a:lnTo>
                    <a:lnTo>
                      <a:pt x="957" y="145"/>
                    </a:lnTo>
                    <a:lnTo>
                      <a:pt x="939" y="131"/>
                    </a:lnTo>
                    <a:lnTo>
                      <a:pt x="919" y="118"/>
                    </a:lnTo>
                    <a:lnTo>
                      <a:pt x="900" y="105"/>
                    </a:lnTo>
                    <a:lnTo>
                      <a:pt x="880" y="92"/>
                    </a:lnTo>
                    <a:lnTo>
                      <a:pt x="860" y="82"/>
                    </a:lnTo>
                    <a:lnTo>
                      <a:pt x="842" y="72"/>
                    </a:lnTo>
                    <a:lnTo>
                      <a:pt x="822" y="62"/>
                    </a:lnTo>
                    <a:lnTo>
                      <a:pt x="804" y="54"/>
                    </a:lnTo>
                    <a:lnTo>
                      <a:pt x="786" y="46"/>
                    </a:lnTo>
                    <a:lnTo>
                      <a:pt x="768" y="40"/>
                    </a:lnTo>
                    <a:lnTo>
                      <a:pt x="758" y="37"/>
                    </a:lnTo>
                    <a:lnTo>
                      <a:pt x="750" y="36"/>
                    </a:lnTo>
                    <a:lnTo>
                      <a:pt x="743" y="35"/>
                    </a:lnTo>
                    <a:lnTo>
                      <a:pt x="738" y="35"/>
                    </a:lnTo>
                    <a:lnTo>
                      <a:pt x="736" y="35"/>
                    </a:lnTo>
                    <a:lnTo>
                      <a:pt x="734" y="35"/>
                    </a:lnTo>
                    <a:lnTo>
                      <a:pt x="733" y="36"/>
                    </a:lnTo>
                    <a:lnTo>
                      <a:pt x="733" y="36"/>
                    </a:lnTo>
                    <a:lnTo>
                      <a:pt x="712" y="54"/>
                    </a:lnTo>
                    <a:lnTo>
                      <a:pt x="696" y="74"/>
                    </a:lnTo>
                    <a:lnTo>
                      <a:pt x="682" y="93"/>
                    </a:lnTo>
                    <a:lnTo>
                      <a:pt x="673" y="114"/>
                    </a:lnTo>
                    <a:lnTo>
                      <a:pt x="663" y="136"/>
                    </a:lnTo>
                    <a:lnTo>
                      <a:pt x="658" y="159"/>
                    </a:lnTo>
                    <a:lnTo>
                      <a:pt x="652" y="182"/>
                    </a:lnTo>
                    <a:lnTo>
                      <a:pt x="646" y="206"/>
                    </a:lnTo>
                    <a:lnTo>
                      <a:pt x="650" y="215"/>
                    </a:lnTo>
                    <a:lnTo>
                      <a:pt x="655" y="222"/>
                    </a:lnTo>
                    <a:lnTo>
                      <a:pt x="662" y="227"/>
                    </a:lnTo>
                    <a:lnTo>
                      <a:pt x="669" y="232"/>
                    </a:lnTo>
                    <a:lnTo>
                      <a:pt x="676" y="237"/>
                    </a:lnTo>
                    <a:lnTo>
                      <a:pt x="682" y="243"/>
                    </a:lnTo>
                    <a:lnTo>
                      <a:pt x="685" y="251"/>
                    </a:lnTo>
                    <a:lnTo>
                      <a:pt x="685" y="262"/>
                    </a:lnTo>
                    <a:lnTo>
                      <a:pt x="676" y="264"/>
                    </a:lnTo>
                    <a:lnTo>
                      <a:pt x="668" y="262"/>
                    </a:lnTo>
                    <a:lnTo>
                      <a:pt x="659" y="258"/>
                    </a:lnTo>
                    <a:lnTo>
                      <a:pt x="651" y="252"/>
                    </a:lnTo>
                    <a:lnTo>
                      <a:pt x="643" y="248"/>
                    </a:lnTo>
                    <a:lnTo>
                      <a:pt x="635" y="247"/>
                    </a:lnTo>
                    <a:lnTo>
                      <a:pt x="628" y="250"/>
                    </a:lnTo>
                    <a:lnTo>
                      <a:pt x="621" y="260"/>
                    </a:lnTo>
                    <a:lnTo>
                      <a:pt x="615" y="270"/>
                    </a:lnTo>
                    <a:lnTo>
                      <a:pt x="613" y="279"/>
                    </a:lnTo>
                    <a:lnTo>
                      <a:pt x="609" y="287"/>
                    </a:lnTo>
                    <a:lnTo>
                      <a:pt x="601" y="295"/>
                    </a:lnTo>
                    <a:lnTo>
                      <a:pt x="600" y="283"/>
                    </a:lnTo>
                    <a:lnTo>
                      <a:pt x="599" y="271"/>
                    </a:lnTo>
                    <a:lnTo>
                      <a:pt x="600" y="259"/>
                    </a:lnTo>
                    <a:lnTo>
                      <a:pt x="604" y="248"/>
                    </a:lnTo>
                    <a:lnTo>
                      <a:pt x="619" y="229"/>
                    </a:lnTo>
                    <a:lnTo>
                      <a:pt x="610" y="207"/>
                    </a:lnTo>
                    <a:lnTo>
                      <a:pt x="600" y="212"/>
                    </a:lnTo>
                    <a:lnTo>
                      <a:pt x="592" y="218"/>
                    </a:lnTo>
                    <a:lnTo>
                      <a:pt x="586" y="225"/>
                    </a:lnTo>
                    <a:lnTo>
                      <a:pt x="583" y="233"/>
                    </a:lnTo>
                    <a:lnTo>
                      <a:pt x="579" y="242"/>
                    </a:lnTo>
                    <a:lnTo>
                      <a:pt x="578" y="251"/>
                    </a:lnTo>
                    <a:lnTo>
                      <a:pt x="577" y="262"/>
                    </a:lnTo>
                    <a:lnTo>
                      <a:pt x="576" y="273"/>
                    </a:lnTo>
                    <a:lnTo>
                      <a:pt x="577" y="285"/>
                    </a:lnTo>
                    <a:lnTo>
                      <a:pt x="582" y="294"/>
                    </a:lnTo>
                    <a:lnTo>
                      <a:pt x="590" y="303"/>
                    </a:lnTo>
                    <a:lnTo>
                      <a:pt x="599" y="311"/>
                    </a:lnTo>
                    <a:lnTo>
                      <a:pt x="610" y="318"/>
                    </a:lnTo>
                    <a:lnTo>
                      <a:pt x="622" y="324"/>
                    </a:lnTo>
                    <a:lnTo>
                      <a:pt x="634" y="329"/>
                    </a:lnTo>
                    <a:lnTo>
                      <a:pt x="643" y="335"/>
                    </a:lnTo>
                    <a:lnTo>
                      <a:pt x="652" y="327"/>
                    </a:lnTo>
                    <a:lnTo>
                      <a:pt x="660" y="319"/>
                    </a:lnTo>
                    <a:lnTo>
                      <a:pt x="667" y="310"/>
                    </a:lnTo>
                    <a:lnTo>
                      <a:pt x="673" y="301"/>
                    </a:lnTo>
                    <a:lnTo>
                      <a:pt x="678" y="291"/>
                    </a:lnTo>
                    <a:lnTo>
                      <a:pt x="684" y="281"/>
                    </a:lnTo>
                    <a:lnTo>
                      <a:pt x="690" y="272"/>
                    </a:lnTo>
                    <a:lnTo>
                      <a:pt x="696" y="262"/>
                    </a:lnTo>
                    <a:lnTo>
                      <a:pt x="703" y="267"/>
                    </a:lnTo>
                    <a:lnTo>
                      <a:pt x="704" y="275"/>
                    </a:lnTo>
                    <a:lnTo>
                      <a:pt x="703" y="285"/>
                    </a:lnTo>
                    <a:lnTo>
                      <a:pt x="702" y="294"/>
                    </a:lnTo>
                    <a:lnTo>
                      <a:pt x="698" y="304"/>
                    </a:lnTo>
                    <a:lnTo>
                      <a:pt x="692" y="315"/>
                    </a:lnTo>
                    <a:lnTo>
                      <a:pt x="687" y="325"/>
                    </a:lnTo>
                    <a:lnTo>
                      <a:pt x="683" y="334"/>
                    </a:lnTo>
                    <a:lnTo>
                      <a:pt x="693" y="328"/>
                    </a:lnTo>
                    <a:lnTo>
                      <a:pt x="704" y="321"/>
                    </a:lnTo>
                    <a:lnTo>
                      <a:pt x="711" y="313"/>
                    </a:lnTo>
                    <a:lnTo>
                      <a:pt x="718" y="303"/>
                    </a:lnTo>
                    <a:lnTo>
                      <a:pt x="722" y="293"/>
                    </a:lnTo>
                    <a:lnTo>
                      <a:pt x="726" y="282"/>
                    </a:lnTo>
                    <a:lnTo>
                      <a:pt x="728" y="270"/>
                    </a:lnTo>
                    <a:lnTo>
                      <a:pt x="729" y="258"/>
                    </a:lnTo>
                    <a:lnTo>
                      <a:pt x="727" y="249"/>
                    </a:lnTo>
                    <a:lnTo>
                      <a:pt x="722" y="241"/>
                    </a:lnTo>
                    <a:lnTo>
                      <a:pt x="721" y="233"/>
                    </a:lnTo>
                    <a:lnTo>
                      <a:pt x="728" y="227"/>
                    </a:lnTo>
                    <a:lnTo>
                      <a:pt x="737" y="230"/>
                    </a:lnTo>
                    <a:lnTo>
                      <a:pt x="743" y="237"/>
                    </a:lnTo>
                    <a:lnTo>
                      <a:pt x="745" y="247"/>
                    </a:lnTo>
                    <a:lnTo>
                      <a:pt x="750" y="255"/>
                    </a:lnTo>
                    <a:lnTo>
                      <a:pt x="750" y="277"/>
                    </a:lnTo>
                    <a:lnTo>
                      <a:pt x="746" y="298"/>
                    </a:lnTo>
                    <a:lnTo>
                      <a:pt x="740" y="318"/>
                    </a:lnTo>
                    <a:lnTo>
                      <a:pt x="728" y="336"/>
                    </a:lnTo>
                    <a:lnTo>
                      <a:pt x="722" y="339"/>
                    </a:lnTo>
                    <a:lnTo>
                      <a:pt x="716" y="341"/>
                    </a:lnTo>
                    <a:lnTo>
                      <a:pt x="711" y="344"/>
                    </a:lnTo>
                    <a:lnTo>
                      <a:pt x="705" y="348"/>
                    </a:lnTo>
                    <a:lnTo>
                      <a:pt x="699" y="351"/>
                    </a:lnTo>
                    <a:lnTo>
                      <a:pt x="693" y="354"/>
                    </a:lnTo>
                    <a:lnTo>
                      <a:pt x="688" y="356"/>
                    </a:lnTo>
                    <a:lnTo>
                      <a:pt x="682" y="356"/>
                    </a:lnTo>
                    <a:lnTo>
                      <a:pt x="681" y="359"/>
                    </a:lnTo>
                    <a:lnTo>
                      <a:pt x="681" y="364"/>
                    </a:lnTo>
                    <a:lnTo>
                      <a:pt x="681" y="370"/>
                    </a:lnTo>
                    <a:lnTo>
                      <a:pt x="677" y="373"/>
                    </a:lnTo>
                    <a:lnTo>
                      <a:pt x="667" y="371"/>
                    </a:lnTo>
                    <a:lnTo>
                      <a:pt x="652" y="366"/>
                    </a:lnTo>
                    <a:lnTo>
                      <a:pt x="635" y="358"/>
                    </a:lnTo>
                    <a:lnTo>
                      <a:pt x="615" y="349"/>
                    </a:lnTo>
                    <a:lnTo>
                      <a:pt x="596" y="340"/>
                    </a:lnTo>
                    <a:lnTo>
                      <a:pt x="579" y="329"/>
                    </a:lnTo>
                    <a:lnTo>
                      <a:pt x="566" y="319"/>
                    </a:lnTo>
                    <a:lnTo>
                      <a:pt x="559" y="311"/>
                    </a:lnTo>
                    <a:lnTo>
                      <a:pt x="549" y="328"/>
                    </a:lnTo>
                    <a:lnTo>
                      <a:pt x="543" y="355"/>
                    </a:lnTo>
                    <a:lnTo>
                      <a:pt x="541" y="381"/>
                    </a:lnTo>
                    <a:lnTo>
                      <a:pt x="549" y="403"/>
                    </a:lnTo>
                    <a:lnTo>
                      <a:pt x="559" y="404"/>
                    </a:lnTo>
                    <a:lnTo>
                      <a:pt x="569" y="403"/>
                    </a:lnTo>
                    <a:lnTo>
                      <a:pt x="578" y="401"/>
                    </a:lnTo>
                    <a:lnTo>
                      <a:pt x="587" y="397"/>
                    </a:lnTo>
                    <a:lnTo>
                      <a:pt x="597" y="394"/>
                    </a:lnTo>
                    <a:lnTo>
                      <a:pt x="606" y="389"/>
                    </a:lnTo>
                    <a:lnTo>
                      <a:pt x="615" y="385"/>
                    </a:lnTo>
                    <a:lnTo>
                      <a:pt x="624" y="381"/>
                    </a:lnTo>
                    <a:lnTo>
                      <a:pt x="655" y="396"/>
                    </a:lnTo>
                    <a:lnTo>
                      <a:pt x="540" y="439"/>
                    </a:lnTo>
                    <a:lnTo>
                      <a:pt x="524" y="420"/>
                    </a:lnTo>
                    <a:lnTo>
                      <a:pt x="515" y="397"/>
                    </a:lnTo>
                    <a:lnTo>
                      <a:pt x="511" y="373"/>
                    </a:lnTo>
                    <a:lnTo>
                      <a:pt x="508" y="349"/>
                    </a:lnTo>
                    <a:lnTo>
                      <a:pt x="511" y="336"/>
                    </a:lnTo>
                    <a:lnTo>
                      <a:pt x="518" y="324"/>
                    </a:lnTo>
                    <a:lnTo>
                      <a:pt x="526" y="311"/>
                    </a:lnTo>
                    <a:lnTo>
                      <a:pt x="536" y="298"/>
                    </a:lnTo>
                    <a:lnTo>
                      <a:pt x="544" y="288"/>
                    </a:lnTo>
                    <a:lnTo>
                      <a:pt x="552" y="280"/>
                    </a:lnTo>
                    <a:lnTo>
                      <a:pt x="556" y="274"/>
                    </a:lnTo>
                    <a:lnTo>
                      <a:pt x="559" y="272"/>
                    </a:lnTo>
                    <a:lnTo>
                      <a:pt x="560" y="257"/>
                    </a:lnTo>
                    <a:lnTo>
                      <a:pt x="562" y="241"/>
                    </a:lnTo>
                    <a:lnTo>
                      <a:pt x="566" y="227"/>
                    </a:lnTo>
                    <a:lnTo>
                      <a:pt x="571" y="213"/>
                    </a:lnTo>
                    <a:lnTo>
                      <a:pt x="579" y="201"/>
                    </a:lnTo>
                    <a:lnTo>
                      <a:pt x="590" y="190"/>
                    </a:lnTo>
                    <a:lnTo>
                      <a:pt x="602" y="181"/>
                    </a:lnTo>
                    <a:lnTo>
                      <a:pt x="619" y="173"/>
                    </a:lnTo>
                    <a:lnTo>
                      <a:pt x="615" y="169"/>
                    </a:lnTo>
                    <a:lnTo>
                      <a:pt x="604" y="161"/>
                    </a:lnTo>
                    <a:lnTo>
                      <a:pt x="587" y="150"/>
                    </a:lnTo>
                    <a:lnTo>
                      <a:pt x="567" y="135"/>
                    </a:lnTo>
                    <a:lnTo>
                      <a:pt x="545" y="120"/>
                    </a:lnTo>
                    <a:lnTo>
                      <a:pt x="522" y="104"/>
                    </a:lnTo>
                    <a:lnTo>
                      <a:pt x="499" y="89"/>
                    </a:lnTo>
                    <a:lnTo>
                      <a:pt x="479" y="76"/>
                    </a:lnTo>
                    <a:lnTo>
                      <a:pt x="471" y="83"/>
                    </a:lnTo>
                    <a:lnTo>
                      <a:pt x="464" y="93"/>
                    </a:lnTo>
                    <a:lnTo>
                      <a:pt x="457" y="104"/>
                    </a:lnTo>
                    <a:lnTo>
                      <a:pt x="452" y="114"/>
                    </a:lnTo>
                    <a:lnTo>
                      <a:pt x="560" y="189"/>
                    </a:lnTo>
                    <a:lnTo>
                      <a:pt x="547" y="210"/>
                    </a:lnTo>
                    <a:lnTo>
                      <a:pt x="426" y="134"/>
                    </a:lnTo>
                    <a:lnTo>
                      <a:pt x="411" y="143"/>
                    </a:lnTo>
                    <a:lnTo>
                      <a:pt x="395" y="152"/>
                    </a:lnTo>
                    <a:lnTo>
                      <a:pt x="380" y="161"/>
                    </a:lnTo>
                    <a:lnTo>
                      <a:pt x="366" y="171"/>
                    </a:lnTo>
                    <a:lnTo>
                      <a:pt x="351" y="180"/>
                    </a:lnTo>
                    <a:lnTo>
                      <a:pt x="336" y="189"/>
                    </a:lnTo>
                    <a:lnTo>
                      <a:pt x="322" y="198"/>
                    </a:lnTo>
                    <a:lnTo>
                      <a:pt x="307" y="207"/>
                    </a:lnTo>
                    <a:lnTo>
                      <a:pt x="293" y="215"/>
                    </a:lnTo>
                    <a:lnTo>
                      <a:pt x="279" y="225"/>
                    </a:lnTo>
                    <a:lnTo>
                      <a:pt x="264" y="234"/>
                    </a:lnTo>
                    <a:lnTo>
                      <a:pt x="249" y="243"/>
                    </a:lnTo>
                    <a:lnTo>
                      <a:pt x="235" y="252"/>
                    </a:lnTo>
                    <a:lnTo>
                      <a:pt x="220" y="262"/>
                    </a:lnTo>
                    <a:lnTo>
                      <a:pt x="204" y="272"/>
                    </a:lnTo>
                    <a:lnTo>
                      <a:pt x="189" y="281"/>
                    </a:lnTo>
                    <a:lnTo>
                      <a:pt x="166" y="317"/>
                    </a:lnTo>
                    <a:lnTo>
                      <a:pt x="140" y="373"/>
                    </a:lnTo>
                    <a:lnTo>
                      <a:pt x="116" y="445"/>
                    </a:lnTo>
                    <a:lnTo>
                      <a:pt x="93" y="522"/>
                    </a:lnTo>
                    <a:lnTo>
                      <a:pt x="72" y="601"/>
                    </a:lnTo>
                    <a:lnTo>
                      <a:pt x="54" y="675"/>
                    </a:lnTo>
                    <a:lnTo>
                      <a:pt x="39" y="737"/>
                    </a:lnTo>
                    <a:lnTo>
                      <a:pt x="29" y="781"/>
                    </a:lnTo>
                    <a:lnTo>
                      <a:pt x="22" y="781"/>
                    </a:lnTo>
                    <a:lnTo>
                      <a:pt x="14" y="781"/>
                    </a:lnTo>
                    <a:lnTo>
                      <a:pt x="7" y="780"/>
                    </a:lnTo>
                    <a:lnTo>
                      <a:pt x="0" y="776"/>
                    </a:lnTo>
                    <a:lnTo>
                      <a:pt x="3" y="756"/>
                    </a:lnTo>
                    <a:lnTo>
                      <a:pt x="14" y="701"/>
                    </a:lnTo>
                    <a:lnTo>
                      <a:pt x="30" y="623"/>
                    </a:lnTo>
                    <a:lnTo>
                      <a:pt x="49" y="532"/>
                    </a:lnTo>
                    <a:lnTo>
                      <a:pt x="74" y="438"/>
                    </a:lnTo>
                    <a:lnTo>
                      <a:pt x="99" y="351"/>
                    </a:lnTo>
                    <a:lnTo>
                      <a:pt x="128" y="282"/>
                    </a:lnTo>
                    <a:lnTo>
                      <a:pt x="155" y="242"/>
                    </a:lnTo>
                    <a:lnTo>
                      <a:pt x="158" y="241"/>
                    </a:lnTo>
                    <a:lnTo>
                      <a:pt x="166" y="236"/>
                    </a:lnTo>
                    <a:lnTo>
                      <a:pt x="177" y="230"/>
                    </a:lnTo>
                    <a:lnTo>
                      <a:pt x="193" y="222"/>
                    </a:lnTo>
                    <a:lnTo>
                      <a:pt x="212" y="213"/>
                    </a:lnTo>
                    <a:lnTo>
                      <a:pt x="233" y="203"/>
                    </a:lnTo>
                    <a:lnTo>
                      <a:pt x="255" y="190"/>
                    </a:lnTo>
                    <a:lnTo>
                      <a:pt x="279" y="179"/>
                    </a:lnTo>
                    <a:lnTo>
                      <a:pt x="302" y="166"/>
                    </a:lnTo>
                    <a:lnTo>
                      <a:pt x="325" y="153"/>
                    </a:lnTo>
                    <a:lnTo>
                      <a:pt x="348" y="142"/>
                    </a:lnTo>
                    <a:lnTo>
                      <a:pt x="367" y="130"/>
                    </a:lnTo>
                    <a:lnTo>
                      <a:pt x="386" y="120"/>
                    </a:lnTo>
                    <a:lnTo>
                      <a:pt x="401" y="111"/>
                    </a:lnTo>
                    <a:lnTo>
                      <a:pt x="412" y="104"/>
                    </a:lnTo>
                    <a:lnTo>
                      <a:pt x="419" y="99"/>
                    </a:lnTo>
                    <a:lnTo>
                      <a:pt x="425" y="93"/>
                    </a:lnTo>
                    <a:lnTo>
                      <a:pt x="432" y="83"/>
                    </a:lnTo>
                    <a:lnTo>
                      <a:pt x="441" y="72"/>
                    </a:lnTo>
                    <a:lnTo>
                      <a:pt x="450" y="59"/>
                    </a:lnTo>
                    <a:lnTo>
                      <a:pt x="460" y="47"/>
                    </a:lnTo>
                    <a:lnTo>
                      <a:pt x="470" y="39"/>
                    </a:lnTo>
                    <a:lnTo>
                      <a:pt x="479" y="34"/>
                    </a:lnTo>
                    <a:lnTo>
                      <a:pt x="488" y="35"/>
                    </a:lnTo>
                    <a:lnTo>
                      <a:pt x="498" y="42"/>
                    </a:lnTo>
                    <a:lnTo>
                      <a:pt x="511" y="52"/>
                    </a:lnTo>
                    <a:lnTo>
                      <a:pt x="530" y="65"/>
                    </a:lnTo>
                    <a:lnTo>
                      <a:pt x="552" y="78"/>
                    </a:lnTo>
                    <a:lnTo>
                      <a:pt x="574" y="93"/>
                    </a:lnTo>
                    <a:lnTo>
                      <a:pt x="596" y="108"/>
                    </a:lnTo>
                    <a:lnTo>
                      <a:pt x="614" y="121"/>
                    </a:lnTo>
                    <a:lnTo>
                      <a:pt x="629" y="130"/>
                    </a:lnTo>
                    <a:lnTo>
                      <a:pt x="638" y="110"/>
                    </a:lnTo>
                    <a:lnTo>
                      <a:pt x="649" y="87"/>
                    </a:lnTo>
                    <a:lnTo>
                      <a:pt x="659" y="63"/>
                    </a:lnTo>
                    <a:lnTo>
                      <a:pt x="672" y="42"/>
                    </a:lnTo>
                    <a:lnTo>
                      <a:pt x="687" y="23"/>
                    </a:lnTo>
                    <a:lnTo>
                      <a:pt x="704" y="8"/>
                    </a:lnTo>
                    <a:lnTo>
                      <a:pt x="726" y="0"/>
                    </a:lnTo>
                    <a:lnTo>
                      <a:pt x="751" y="0"/>
                    </a:lnTo>
                    <a:lnTo>
                      <a:pt x="760" y="2"/>
                    </a:lnTo>
                    <a:lnTo>
                      <a:pt x="772" y="5"/>
                    </a:lnTo>
                    <a:lnTo>
                      <a:pt x="783" y="9"/>
                    </a:lnTo>
                    <a:lnTo>
                      <a:pt x="797" y="15"/>
                    </a:lnTo>
                    <a:lnTo>
                      <a:pt x="811" y="21"/>
                    </a:lnTo>
                    <a:lnTo>
                      <a:pt x="826" y="28"/>
                    </a:lnTo>
                    <a:lnTo>
                      <a:pt x="842" y="35"/>
                    </a:lnTo>
                    <a:lnTo>
                      <a:pt x="857" y="42"/>
                    </a:lnTo>
                    <a:lnTo>
                      <a:pt x="872" y="50"/>
                    </a:lnTo>
                    <a:lnTo>
                      <a:pt x="887" y="58"/>
                    </a:lnTo>
                    <a:lnTo>
                      <a:pt x="901" y="66"/>
                    </a:lnTo>
                    <a:lnTo>
                      <a:pt x="915" y="74"/>
                    </a:lnTo>
                    <a:lnTo>
                      <a:pt x="926" y="81"/>
                    </a:lnTo>
                    <a:lnTo>
                      <a:pt x="937" y="88"/>
                    </a:lnTo>
                    <a:lnTo>
                      <a:pt x="946" y="95"/>
                    </a:lnTo>
                    <a:lnTo>
                      <a:pt x="953" y="100"/>
                    </a:lnTo>
                    <a:lnTo>
                      <a:pt x="958" y="95"/>
                    </a:lnTo>
                    <a:lnTo>
                      <a:pt x="964" y="89"/>
                    </a:lnTo>
                    <a:lnTo>
                      <a:pt x="970" y="84"/>
                    </a:lnTo>
                    <a:lnTo>
                      <a:pt x="978" y="81"/>
                    </a:lnTo>
                    <a:lnTo>
                      <a:pt x="998" y="77"/>
                    </a:lnTo>
                    <a:lnTo>
                      <a:pt x="1015" y="76"/>
                    </a:lnTo>
                    <a:lnTo>
                      <a:pt x="1032" y="77"/>
                    </a:lnTo>
                    <a:lnTo>
                      <a:pt x="1048" y="81"/>
                    </a:lnTo>
                    <a:lnTo>
                      <a:pt x="1064" y="88"/>
                    </a:lnTo>
                    <a:lnTo>
                      <a:pt x="1083" y="96"/>
                    </a:lnTo>
                    <a:lnTo>
                      <a:pt x="1101" y="106"/>
                    </a:lnTo>
                    <a:lnTo>
                      <a:pt x="1123" y="118"/>
                    </a:lnTo>
                    <a:lnTo>
                      <a:pt x="1144" y="130"/>
                    </a:lnTo>
                    <a:lnTo>
                      <a:pt x="1165" y="143"/>
                    </a:lnTo>
                    <a:lnTo>
                      <a:pt x="1184" y="156"/>
                    </a:lnTo>
                    <a:lnTo>
                      <a:pt x="1204" y="169"/>
                    </a:lnTo>
                    <a:lnTo>
                      <a:pt x="1223" y="183"/>
                    </a:lnTo>
                    <a:lnTo>
                      <a:pt x="1243" y="198"/>
                    </a:lnTo>
                    <a:lnTo>
                      <a:pt x="1261" y="213"/>
                    </a:lnTo>
                    <a:lnTo>
                      <a:pt x="1281" y="229"/>
                    </a:lnTo>
                    <a:lnTo>
                      <a:pt x="1295" y="244"/>
                    </a:lnTo>
                    <a:lnTo>
                      <a:pt x="1306" y="259"/>
                    </a:lnTo>
                    <a:lnTo>
                      <a:pt x="1316" y="273"/>
                    </a:lnTo>
                    <a:lnTo>
                      <a:pt x="1322" y="287"/>
                    </a:lnTo>
                    <a:lnTo>
                      <a:pt x="1327" y="300"/>
                    </a:lnTo>
                    <a:lnTo>
                      <a:pt x="1331" y="313"/>
                    </a:lnTo>
                    <a:lnTo>
                      <a:pt x="1332" y="327"/>
                    </a:lnTo>
                    <a:lnTo>
                      <a:pt x="1332" y="341"/>
                    </a:lnTo>
                    <a:lnTo>
                      <a:pt x="1331" y="349"/>
                    </a:lnTo>
                    <a:lnTo>
                      <a:pt x="1328" y="356"/>
                    </a:lnTo>
                    <a:lnTo>
                      <a:pt x="1324" y="362"/>
                    </a:lnTo>
                    <a:lnTo>
                      <a:pt x="1317" y="364"/>
                    </a:lnTo>
                    <a:lnTo>
                      <a:pt x="1311" y="356"/>
                    </a:lnTo>
                    <a:lnTo>
                      <a:pt x="1307" y="344"/>
                    </a:lnTo>
                    <a:lnTo>
                      <a:pt x="1306" y="334"/>
                    </a:lnTo>
                    <a:lnTo>
                      <a:pt x="1306" y="323"/>
                    </a:lnTo>
                    <a:lnTo>
                      <a:pt x="1301" y="308"/>
                    </a:lnTo>
                    <a:lnTo>
                      <a:pt x="1294" y="293"/>
                    </a:lnTo>
                    <a:lnTo>
                      <a:pt x="1283" y="279"/>
                    </a:lnTo>
                    <a:lnTo>
                      <a:pt x="1273" y="265"/>
                    </a:lnTo>
                    <a:lnTo>
                      <a:pt x="1260" y="251"/>
                    </a:lnTo>
                    <a:lnTo>
                      <a:pt x="1246" y="239"/>
                    </a:lnTo>
                    <a:lnTo>
                      <a:pt x="1231" y="226"/>
                    </a:lnTo>
                    <a:lnTo>
                      <a:pt x="1215" y="213"/>
                    </a:lnTo>
                    <a:lnTo>
                      <a:pt x="1199" y="202"/>
                    </a:lnTo>
                    <a:lnTo>
                      <a:pt x="1182" y="190"/>
                    </a:lnTo>
                    <a:lnTo>
                      <a:pt x="1165" y="179"/>
                    </a:lnTo>
                    <a:lnTo>
                      <a:pt x="1147" y="168"/>
                    </a:lnTo>
                    <a:lnTo>
                      <a:pt x="1129" y="158"/>
                    </a:lnTo>
                    <a:lnTo>
                      <a:pt x="1113" y="148"/>
                    </a:lnTo>
                    <a:lnTo>
                      <a:pt x="1096" y="137"/>
                    </a:lnTo>
                    <a:lnTo>
                      <a:pt x="1079" y="127"/>
                    </a:lnTo>
                    <a:lnTo>
                      <a:pt x="1067" y="121"/>
                    </a:lnTo>
                    <a:lnTo>
                      <a:pt x="1054" y="114"/>
                    </a:lnTo>
                    <a:lnTo>
                      <a:pt x="1043" y="110"/>
                    </a:lnTo>
                    <a:lnTo>
                      <a:pt x="1030" y="105"/>
                    </a:lnTo>
                    <a:lnTo>
                      <a:pt x="1017" y="104"/>
                    </a:lnTo>
                    <a:lnTo>
                      <a:pt x="1006" y="105"/>
                    </a:lnTo>
                    <a:lnTo>
                      <a:pt x="994" y="111"/>
                    </a:lnTo>
                    <a:lnTo>
                      <a:pt x="983" y="120"/>
                    </a:lnTo>
                    <a:lnTo>
                      <a:pt x="988" y="127"/>
                    </a:lnTo>
                    <a:lnTo>
                      <a:pt x="994" y="133"/>
                    </a:lnTo>
                    <a:lnTo>
                      <a:pt x="1000" y="138"/>
                    </a:lnTo>
                    <a:lnTo>
                      <a:pt x="1007" y="144"/>
                    </a:lnTo>
                    <a:lnTo>
                      <a:pt x="1013" y="149"/>
                    </a:lnTo>
                    <a:lnTo>
                      <a:pt x="1019" y="154"/>
                    </a:lnTo>
                    <a:lnTo>
                      <a:pt x="1026" y="160"/>
                    </a:lnTo>
                    <a:lnTo>
                      <a:pt x="1032" y="166"/>
                    </a:lnTo>
                    <a:lnTo>
                      <a:pt x="1049" y="169"/>
                    </a:lnTo>
                    <a:lnTo>
                      <a:pt x="1067" y="175"/>
                    </a:lnTo>
                    <a:lnTo>
                      <a:pt x="1083" y="181"/>
                    </a:lnTo>
                    <a:lnTo>
                      <a:pt x="1100" y="188"/>
                    </a:lnTo>
                    <a:lnTo>
                      <a:pt x="1117" y="196"/>
                    </a:lnTo>
                    <a:lnTo>
                      <a:pt x="1134" y="204"/>
                    </a:lnTo>
                    <a:lnTo>
                      <a:pt x="1151" y="213"/>
                    </a:lnTo>
                    <a:lnTo>
                      <a:pt x="1166" y="222"/>
                    </a:lnTo>
                    <a:lnTo>
                      <a:pt x="1181" y="233"/>
                    </a:lnTo>
                    <a:lnTo>
                      <a:pt x="1196" y="243"/>
                    </a:lnTo>
                    <a:lnTo>
                      <a:pt x="1210" y="253"/>
                    </a:lnTo>
                    <a:lnTo>
                      <a:pt x="1222" y="264"/>
                    </a:lnTo>
                    <a:lnTo>
                      <a:pt x="1235" y="274"/>
                    </a:lnTo>
                    <a:lnTo>
                      <a:pt x="1245" y="286"/>
                    </a:lnTo>
                    <a:lnTo>
                      <a:pt x="1256" y="296"/>
                    </a:lnTo>
                    <a:lnTo>
                      <a:pt x="1264" y="306"/>
                    </a:lnTo>
                    <a:lnTo>
                      <a:pt x="1264" y="313"/>
                    </a:lnTo>
                    <a:lnTo>
                      <a:pt x="1264" y="321"/>
                    </a:lnTo>
                    <a:lnTo>
                      <a:pt x="1263" y="329"/>
                    </a:lnTo>
                    <a:lnTo>
                      <a:pt x="1260" y="338"/>
                    </a:lnTo>
                    <a:lnTo>
                      <a:pt x="1250" y="325"/>
                    </a:lnTo>
                    <a:lnTo>
                      <a:pt x="1243" y="315"/>
                    </a:lnTo>
                    <a:lnTo>
                      <a:pt x="1236" y="305"/>
                    </a:lnTo>
                    <a:lnTo>
                      <a:pt x="1228" y="297"/>
                    </a:lnTo>
                    <a:lnTo>
                      <a:pt x="1208" y="281"/>
                    </a:lnTo>
                    <a:lnTo>
                      <a:pt x="1190" y="265"/>
                    </a:lnTo>
                    <a:lnTo>
                      <a:pt x="1170" y="250"/>
                    </a:lnTo>
                    <a:lnTo>
                      <a:pt x="1150" y="235"/>
                    </a:lnTo>
                    <a:lnTo>
                      <a:pt x="1129" y="222"/>
                    </a:lnTo>
                    <a:lnTo>
                      <a:pt x="1107" y="211"/>
                    </a:lnTo>
                    <a:lnTo>
                      <a:pt x="1084" y="202"/>
                    </a:lnTo>
                    <a:lnTo>
                      <a:pt x="1060" y="195"/>
                    </a:lnTo>
                    <a:lnTo>
                      <a:pt x="1066" y="201"/>
                    </a:lnTo>
                    <a:lnTo>
                      <a:pt x="1070" y="206"/>
                    </a:lnTo>
                    <a:lnTo>
                      <a:pt x="1075" y="213"/>
                    </a:lnTo>
                    <a:lnTo>
                      <a:pt x="1079" y="220"/>
                    </a:lnTo>
                    <a:lnTo>
                      <a:pt x="1084" y="227"/>
                    </a:lnTo>
                    <a:lnTo>
                      <a:pt x="1087" y="234"/>
                    </a:lnTo>
                    <a:lnTo>
                      <a:pt x="1092" y="242"/>
                    </a:lnTo>
                    <a:lnTo>
                      <a:pt x="1096" y="249"/>
                    </a:lnTo>
                    <a:lnTo>
                      <a:pt x="1100" y="250"/>
                    </a:lnTo>
                    <a:lnTo>
                      <a:pt x="1108" y="250"/>
                    </a:lnTo>
                    <a:lnTo>
                      <a:pt x="1120" y="250"/>
                    </a:lnTo>
                    <a:lnTo>
                      <a:pt x="1131" y="251"/>
                    </a:lnTo>
                    <a:lnTo>
                      <a:pt x="1143" y="255"/>
                    </a:lnTo>
                    <a:lnTo>
                      <a:pt x="1153" y="258"/>
                    </a:lnTo>
                    <a:lnTo>
                      <a:pt x="1160" y="264"/>
                    </a:lnTo>
                    <a:lnTo>
                      <a:pt x="1162" y="272"/>
                    </a:lnTo>
                    <a:lnTo>
                      <a:pt x="1151" y="272"/>
                    </a:lnTo>
                    <a:lnTo>
                      <a:pt x="1140" y="271"/>
                    </a:lnTo>
                    <a:lnTo>
                      <a:pt x="1131" y="271"/>
                    </a:lnTo>
                    <a:lnTo>
                      <a:pt x="1122" y="270"/>
                    </a:lnTo>
                    <a:lnTo>
                      <a:pt x="1114" y="270"/>
                    </a:lnTo>
                    <a:lnTo>
                      <a:pt x="1107" y="270"/>
                    </a:lnTo>
                    <a:lnTo>
                      <a:pt x="1101" y="270"/>
                    </a:lnTo>
                    <a:lnTo>
                      <a:pt x="1096" y="270"/>
                    </a:lnTo>
                    <a:lnTo>
                      <a:pt x="1084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 rot="20446200">
                <a:off x="7549200" y="206640"/>
                <a:ext cx="336600" cy="4377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437760"/>
                  <a:gd name="textAreaBottom" fmla="*/ 438120 h 437760"/>
                </a:gdLst>
                <a:ahLst/>
                <a:rect l="textAreaLeft" t="textAreaTop" r="textAreaRight" b="textAreaBottom"/>
                <a:pathLst>
                  <a:path w="423" h="552">
                    <a:moveTo>
                      <a:pt x="147" y="552"/>
                    </a:moveTo>
                    <a:lnTo>
                      <a:pt x="169" y="548"/>
                    </a:lnTo>
                    <a:lnTo>
                      <a:pt x="189" y="542"/>
                    </a:lnTo>
                    <a:lnTo>
                      <a:pt x="210" y="535"/>
                    </a:lnTo>
                    <a:lnTo>
                      <a:pt x="228" y="527"/>
                    </a:lnTo>
                    <a:lnTo>
                      <a:pt x="246" y="519"/>
                    </a:lnTo>
                    <a:lnTo>
                      <a:pt x="263" y="510"/>
                    </a:lnTo>
                    <a:lnTo>
                      <a:pt x="280" y="500"/>
                    </a:lnTo>
                    <a:lnTo>
                      <a:pt x="295" y="490"/>
                    </a:lnTo>
                    <a:lnTo>
                      <a:pt x="310" y="479"/>
                    </a:lnTo>
                    <a:lnTo>
                      <a:pt x="324" y="467"/>
                    </a:lnTo>
                    <a:lnTo>
                      <a:pt x="336" y="454"/>
                    </a:lnTo>
                    <a:lnTo>
                      <a:pt x="349" y="441"/>
                    </a:lnTo>
                    <a:lnTo>
                      <a:pt x="359" y="427"/>
                    </a:lnTo>
                    <a:lnTo>
                      <a:pt x="370" y="413"/>
                    </a:lnTo>
                    <a:lnTo>
                      <a:pt x="380" y="398"/>
                    </a:lnTo>
                    <a:lnTo>
                      <a:pt x="388" y="382"/>
                    </a:lnTo>
                    <a:lnTo>
                      <a:pt x="394" y="363"/>
                    </a:lnTo>
                    <a:lnTo>
                      <a:pt x="399" y="351"/>
                    </a:lnTo>
                    <a:lnTo>
                      <a:pt x="402" y="342"/>
                    </a:lnTo>
                    <a:lnTo>
                      <a:pt x="405" y="335"/>
                    </a:lnTo>
                    <a:lnTo>
                      <a:pt x="409" y="331"/>
                    </a:lnTo>
                    <a:lnTo>
                      <a:pt x="412" y="328"/>
                    </a:lnTo>
                    <a:lnTo>
                      <a:pt x="417" y="325"/>
                    </a:lnTo>
                    <a:lnTo>
                      <a:pt x="423" y="323"/>
                    </a:lnTo>
                    <a:lnTo>
                      <a:pt x="423" y="314"/>
                    </a:lnTo>
                    <a:lnTo>
                      <a:pt x="417" y="313"/>
                    </a:lnTo>
                    <a:lnTo>
                      <a:pt x="412" y="312"/>
                    </a:lnTo>
                    <a:lnTo>
                      <a:pt x="408" y="313"/>
                    </a:lnTo>
                    <a:lnTo>
                      <a:pt x="403" y="315"/>
                    </a:lnTo>
                    <a:lnTo>
                      <a:pt x="400" y="318"/>
                    </a:lnTo>
                    <a:lnTo>
                      <a:pt x="395" y="322"/>
                    </a:lnTo>
                    <a:lnTo>
                      <a:pt x="392" y="325"/>
                    </a:lnTo>
                    <a:lnTo>
                      <a:pt x="388" y="329"/>
                    </a:lnTo>
                    <a:lnTo>
                      <a:pt x="371" y="321"/>
                    </a:lnTo>
                    <a:lnTo>
                      <a:pt x="357" y="308"/>
                    </a:lnTo>
                    <a:lnTo>
                      <a:pt x="344" y="293"/>
                    </a:lnTo>
                    <a:lnTo>
                      <a:pt x="334" y="276"/>
                    </a:lnTo>
                    <a:lnTo>
                      <a:pt x="325" y="255"/>
                    </a:lnTo>
                    <a:lnTo>
                      <a:pt x="316" y="233"/>
                    </a:lnTo>
                    <a:lnTo>
                      <a:pt x="308" y="211"/>
                    </a:lnTo>
                    <a:lnTo>
                      <a:pt x="298" y="187"/>
                    </a:lnTo>
                    <a:lnTo>
                      <a:pt x="289" y="164"/>
                    </a:lnTo>
                    <a:lnTo>
                      <a:pt x="279" y="141"/>
                    </a:lnTo>
                    <a:lnTo>
                      <a:pt x="267" y="119"/>
                    </a:lnTo>
                    <a:lnTo>
                      <a:pt x="253" y="99"/>
                    </a:lnTo>
                    <a:lnTo>
                      <a:pt x="238" y="80"/>
                    </a:lnTo>
                    <a:lnTo>
                      <a:pt x="219" y="64"/>
                    </a:lnTo>
                    <a:lnTo>
                      <a:pt x="197" y="51"/>
                    </a:lnTo>
                    <a:lnTo>
                      <a:pt x="172" y="42"/>
                    </a:lnTo>
                    <a:lnTo>
                      <a:pt x="166" y="41"/>
                    </a:lnTo>
                    <a:lnTo>
                      <a:pt x="159" y="41"/>
                    </a:lnTo>
                    <a:lnTo>
                      <a:pt x="153" y="41"/>
                    </a:lnTo>
                    <a:lnTo>
                      <a:pt x="147" y="42"/>
                    </a:lnTo>
                    <a:lnTo>
                      <a:pt x="143" y="43"/>
                    </a:lnTo>
                    <a:lnTo>
                      <a:pt x="137" y="44"/>
                    </a:lnTo>
                    <a:lnTo>
                      <a:pt x="132" y="46"/>
                    </a:lnTo>
                    <a:lnTo>
                      <a:pt x="129" y="47"/>
                    </a:lnTo>
                    <a:lnTo>
                      <a:pt x="113" y="25"/>
                    </a:lnTo>
                    <a:lnTo>
                      <a:pt x="123" y="24"/>
                    </a:lnTo>
                    <a:lnTo>
                      <a:pt x="132" y="21"/>
                    </a:lnTo>
                    <a:lnTo>
                      <a:pt x="140" y="20"/>
                    </a:lnTo>
                    <a:lnTo>
                      <a:pt x="149" y="19"/>
                    </a:lnTo>
                    <a:lnTo>
                      <a:pt x="157" y="18"/>
                    </a:lnTo>
                    <a:lnTo>
                      <a:pt x="165" y="18"/>
                    </a:lnTo>
                    <a:lnTo>
                      <a:pt x="172" y="19"/>
                    </a:lnTo>
                    <a:lnTo>
                      <a:pt x="180" y="20"/>
                    </a:lnTo>
                    <a:lnTo>
                      <a:pt x="214" y="32"/>
                    </a:lnTo>
                    <a:lnTo>
                      <a:pt x="243" y="50"/>
                    </a:lnTo>
                    <a:lnTo>
                      <a:pt x="268" y="74"/>
                    </a:lnTo>
                    <a:lnTo>
                      <a:pt x="290" y="103"/>
                    </a:lnTo>
                    <a:lnTo>
                      <a:pt x="309" y="134"/>
                    </a:lnTo>
                    <a:lnTo>
                      <a:pt x="325" y="168"/>
                    </a:lnTo>
                    <a:lnTo>
                      <a:pt x="339" y="200"/>
                    </a:lnTo>
                    <a:lnTo>
                      <a:pt x="351" y="230"/>
                    </a:lnTo>
                    <a:lnTo>
                      <a:pt x="356" y="238"/>
                    </a:lnTo>
                    <a:lnTo>
                      <a:pt x="361" y="247"/>
                    </a:lnTo>
                    <a:lnTo>
                      <a:pt x="364" y="255"/>
                    </a:lnTo>
                    <a:lnTo>
                      <a:pt x="369" y="262"/>
                    </a:lnTo>
                    <a:lnTo>
                      <a:pt x="373" y="268"/>
                    </a:lnTo>
                    <a:lnTo>
                      <a:pt x="379" y="271"/>
                    </a:lnTo>
                    <a:lnTo>
                      <a:pt x="386" y="274"/>
                    </a:lnTo>
                    <a:lnTo>
                      <a:pt x="394" y="274"/>
                    </a:lnTo>
                    <a:lnTo>
                      <a:pt x="389" y="264"/>
                    </a:lnTo>
                    <a:lnTo>
                      <a:pt x="387" y="257"/>
                    </a:lnTo>
                    <a:lnTo>
                      <a:pt x="385" y="252"/>
                    </a:lnTo>
                    <a:lnTo>
                      <a:pt x="382" y="245"/>
                    </a:lnTo>
                    <a:lnTo>
                      <a:pt x="370" y="216"/>
                    </a:lnTo>
                    <a:lnTo>
                      <a:pt x="358" y="187"/>
                    </a:lnTo>
                    <a:lnTo>
                      <a:pt x="347" y="156"/>
                    </a:lnTo>
                    <a:lnTo>
                      <a:pt x="335" y="126"/>
                    </a:lnTo>
                    <a:lnTo>
                      <a:pt x="321" y="97"/>
                    </a:lnTo>
                    <a:lnTo>
                      <a:pt x="305" y="71"/>
                    </a:lnTo>
                    <a:lnTo>
                      <a:pt x="284" y="48"/>
                    </a:lnTo>
                    <a:lnTo>
                      <a:pt x="258" y="28"/>
                    </a:lnTo>
                    <a:lnTo>
                      <a:pt x="237" y="17"/>
                    </a:lnTo>
                    <a:lnTo>
                      <a:pt x="215" y="9"/>
                    </a:lnTo>
                    <a:lnTo>
                      <a:pt x="195" y="3"/>
                    </a:lnTo>
                    <a:lnTo>
                      <a:pt x="174" y="1"/>
                    </a:lnTo>
                    <a:lnTo>
                      <a:pt x="153" y="0"/>
                    </a:lnTo>
                    <a:lnTo>
                      <a:pt x="132" y="1"/>
                    </a:lnTo>
                    <a:lnTo>
                      <a:pt x="113" y="4"/>
                    </a:lnTo>
                    <a:lnTo>
                      <a:pt x="93" y="9"/>
                    </a:lnTo>
                    <a:lnTo>
                      <a:pt x="79" y="2"/>
                    </a:lnTo>
                    <a:lnTo>
                      <a:pt x="69" y="1"/>
                    </a:lnTo>
                    <a:lnTo>
                      <a:pt x="60" y="0"/>
                    </a:lnTo>
                    <a:lnTo>
                      <a:pt x="52" y="1"/>
                    </a:lnTo>
                    <a:lnTo>
                      <a:pt x="43" y="2"/>
                    </a:lnTo>
                    <a:lnTo>
                      <a:pt x="34" y="4"/>
                    </a:lnTo>
                    <a:lnTo>
                      <a:pt x="26" y="6"/>
                    </a:lnTo>
                    <a:lnTo>
                      <a:pt x="17" y="10"/>
                    </a:lnTo>
                    <a:lnTo>
                      <a:pt x="8" y="13"/>
                    </a:lnTo>
                    <a:lnTo>
                      <a:pt x="2" y="19"/>
                    </a:lnTo>
                    <a:lnTo>
                      <a:pt x="0" y="25"/>
                    </a:lnTo>
                    <a:lnTo>
                      <a:pt x="2" y="31"/>
                    </a:lnTo>
                    <a:lnTo>
                      <a:pt x="8" y="36"/>
                    </a:lnTo>
                    <a:lnTo>
                      <a:pt x="20" y="38"/>
                    </a:lnTo>
                    <a:lnTo>
                      <a:pt x="28" y="42"/>
                    </a:lnTo>
                    <a:lnTo>
                      <a:pt x="34" y="49"/>
                    </a:lnTo>
                    <a:lnTo>
                      <a:pt x="40" y="56"/>
                    </a:lnTo>
                    <a:lnTo>
                      <a:pt x="45" y="65"/>
                    </a:lnTo>
                    <a:lnTo>
                      <a:pt x="47" y="72"/>
                    </a:lnTo>
                    <a:lnTo>
                      <a:pt x="48" y="78"/>
                    </a:lnTo>
                    <a:lnTo>
                      <a:pt x="49" y="80"/>
                    </a:lnTo>
                    <a:lnTo>
                      <a:pt x="53" y="80"/>
                    </a:lnTo>
                    <a:lnTo>
                      <a:pt x="56" y="79"/>
                    </a:lnTo>
                    <a:lnTo>
                      <a:pt x="59" y="77"/>
                    </a:lnTo>
                    <a:lnTo>
                      <a:pt x="61" y="74"/>
                    </a:lnTo>
                    <a:lnTo>
                      <a:pt x="59" y="59"/>
                    </a:lnTo>
                    <a:lnTo>
                      <a:pt x="53" y="47"/>
                    </a:lnTo>
                    <a:lnTo>
                      <a:pt x="44" y="35"/>
                    </a:lnTo>
                    <a:lnTo>
                      <a:pt x="31" y="26"/>
                    </a:lnTo>
                    <a:lnTo>
                      <a:pt x="33" y="24"/>
                    </a:lnTo>
                    <a:lnTo>
                      <a:pt x="38" y="21"/>
                    </a:lnTo>
                    <a:lnTo>
                      <a:pt x="44" y="19"/>
                    </a:lnTo>
                    <a:lnTo>
                      <a:pt x="49" y="17"/>
                    </a:lnTo>
                    <a:lnTo>
                      <a:pt x="56" y="14"/>
                    </a:lnTo>
                    <a:lnTo>
                      <a:pt x="63" y="14"/>
                    </a:lnTo>
                    <a:lnTo>
                      <a:pt x="70" y="14"/>
                    </a:lnTo>
                    <a:lnTo>
                      <a:pt x="77" y="17"/>
                    </a:lnTo>
                    <a:lnTo>
                      <a:pt x="90" y="28"/>
                    </a:lnTo>
                    <a:lnTo>
                      <a:pt x="99" y="41"/>
                    </a:lnTo>
                    <a:lnTo>
                      <a:pt x="105" y="55"/>
                    </a:lnTo>
                    <a:lnTo>
                      <a:pt x="111" y="69"/>
                    </a:lnTo>
                    <a:lnTo>
                      <a:pt x="104" y="72"/>
                    </a:lnTo>
                    <a:lnTo>
                      <a:pt x="97" y="76"/>
                    </a:lnTo>
                    <a:lnTo>
                      <a:pt x="89" y="79"/>
                    </a:lnTo>
                    <a:lnTo>
                      <a:pt x="82" y="81"/>
                    </a:lnTo>
                    <a:lnTo>
                      <a:pt x="74" y="85"/>
                    </a:lnTo>
                    <a:lnTo>
                      <a:pt x="66" y="87"/>
                    </a:lnTo>
                    <a:lnTo>
                      <a:pt x="58" y="89"/>
                    </a:lnTo>
                    <a:lnTo>
                      <a:pt x="49" y="93"/>
                    </a:lnTo>
                    <a:lnTo>
                      <a:pt x="43" y="90"/>
                    </a:lnTo>
                    <a:lnTo>
                      <a:pt x="36" y="87"/>
                    </a:lnTo>
                    <a:lnTo>
                      <a:pt x="29" y="82"/>
                    </a:lnTo>
                    <a:lnTo>
                      <a:pt x="23" y="77"/>
                    </a:lnTo>
                    <a:lnTo>
                      <a:pt x="18" y="70"/>
                    </a:lnTo>
                    <a:lnTo>
                      <a:pt x="14" y="63"/>
                    </a:lnTo>
                    <a:lnTo>
                      <a:pt x="9" y="56"/>
                    </a:lnTo>
                    <a:lnTo>
                      <a:pt x="6" y="49"/>
                    </a:lnTo>
                    <a:lnTo>
                      <a:pt x="3" y="66"/>
                    </a:lnTo>
                    <a:lnTo>
                      <a:pt x="7" y="80"/>
                    </a:lnTo>
                    <a:lnTo>
                      <a:pt x="14" y="93"/>
                    </a:lnTo>
                    <a:lnTo>
                      <a:pt x="22" y="103"/>
                    </a:lnTo>
                    <a:lnTo>
                      <a:pt x="31" y="110"/>
                    </a:lnTo>
                    <a:lnTo>
                      <a:pt x="40" y="116"/>
                    </a:lnTo>
                    <a:lnTo>
                      <a:pt x="46" y="119"/>
                    </a:lnTo>
                    <a:lnTo>
                      <a:pt x="48" y="120"/>
                    </a:lnTo>
                    <a:lnTo>
                      <a:pt x="61" y="118"/>
                    </a:lnTo>
                    <a:lnTo>
                      <a:pt x="74" y="115"/>
                    </a:lnTo>
                    <a:lnTo>
                      <a:pt x="86" y="110"/>
                    </a:lnTo>
                    <a:lnTo>
                      <a:pt x="98" y="105"/>
                    </a:lnTo>
                    <a:lnTo>
                      <a:pt x="108" y="100"/>
                    </a:lnTo>
                    <a:lnTo>
                      <a:pt x="117" y="94"/>
                    </a:lnTo>
                    <a:lnTo>
                      <a:pt x="125" y="87"/>
                    </a:lnTo>
                    <a:lnTo>
                      <a:pt x="130" y="80"/>
                    </a:lnTo>
                    <a:lnTo>
                      <a:pt x="130" y="74"/>
                    </a:lnTo>
                    <a:lnTo>
                      <a:pt x="131" y="70"/>
                    </a:lnTo>
                    <a:lnTo>
                      <a:pt x="134" y="66"/>
                    </a:lnTo>
                    <a:lnTo>
                      <a:pt x="137" y="64"/>
                    </a:lnTo>
                    <a:lnTo>
                      <a:pt x="149" y="62"/>
                    </a:lnTo>
                    <a:lnTo>
                      <a:pt x="159" y="61"/>
                    </a:lnTo>
                    <a:lnTo>
                      <a:pt x="170" y="63"/>
                    </a:lnTo>
                    <a:lnTo>
                      <a:pt x="183" y="66"/>
                    </a:lnTo>
                    <a:lnTo>
                      <a:pt x="195" y="73"/>
                    </a:lnTo>
                    <a:lnTo>
                      <a:pt x="206" y="82"/>
                    </a:lnTo>
                    <a:lnTo>
                      <a:pt x="219" y="94"/>
                    </a:lnTo>
                    <a:lnTo>
                      <a:pt x="230" y="108"/>
                    </a:lnTo>
                    <a:lnTo>
                      <a:pt x="246" y="132"/>
                    </a:lnTo>
                    <a:lnTo>
                      <a:pt x="258" y="156"/>
                    </a:lnTo>
                    <a:lnTo>
                      <a:pt x="267" y="180"/>
                    </a:lnTo>
                    <a:lnTo>
                      <a:pt x="275" y="204"/>
                    </a:lnTo>
                    <a:lnTo>
                      <a:pt x="283" y="229"/>
                    </a:lnTo>
                    <a:lnTo>
                      <a:pt x="291" y="252"/>
                    </a:lnTo>
                    <a:lnTo>
                      <a:pt x="301" y="276"/>
                    </a:lnTo>
                    <a:lnTo>
                      <a:pt x="312" y="299"/>
                    </a:lnTo>
                    <a:lnTo>
                      <a:pt x="320" y="309"/>
                    </a:lnTo>
                    <a:lnTo>
                      <a:pt x="327" y="318"/>
                    </a:lnTo>
                    <a:lnTo>
                      <a:pt x="333" y="327"/>
                    </a:lnTo>
                    <a:lnTo>
                      <a:pt x="340" y="333"/>
                    </a:lnTo>
                    <a:lnTo>
                      <a:pt x="347" y="339"/>
                    </a:lnTo>
                    <a:lnTo>
                      <a:pt x="355" y="346"/>
                    </a:lnTo>
                    <a:lnTo>
                      <a:pt x="365" y="351"/>
                    </a:lnTo>
                    <a:lnTo>
                      <a:pt x="377" y="356"/>
                    </a:lnTo>
                    <a:lnTo>
                      <a:pt x="370" y="371"/>
                    </a:lnTo>
                    <a:lnTo>
                      <a:pt x="361" y="386"/>
                    </a:lnTo>
                    <a:lnTo>
                      <a:pt x="351" y="401"/>
                    </a:lnTo>
                    <a:lnTo>
                      <a:pt x="342" y="415"/>
                    </a:lnTo>
                    <a:lnTo>
                      <a:pt x="331" y="429"/>
                    </a:lnTo>
                    <a:lnTo>
                      <a:pt x="319" y="443"/>
                    </a:lnTo>
                    <a:lnTo>
                      <a:pt x="305" y="456"/>
                    </a:lnTo>
                    <a:lnTo>
                      <a:pt x="291" y="468"/>
                    </a:lnTo>
                    <a:lnTo>
                      <a:pt x="276" y="480"/>
                    </a:lnTo>
                    <a:lnTo>
                      <a:pt x="260" y="491"/>
                    </a:lnTo>
                    <a:lnTo>
                      <a:pt x="243" y="502"/>
                    </a:lnTo>
                    <a:lnTo>
                      <a:pt x="225" y="510"/>
                    </a:lnTo>
                    <a:lnTo>
                      <a:pt x="205" y="518"/>
                    </a:lnTo>
                    <a:lnTo>
                      <a:pt x="185" y="525"/>
                    </a:lnTo>
                    <a:lnTo>
                      <a:pt x="164" y="530"/>
                    </a:lnTo>
                    <a:lnTo>
                      <a:pt x="140" y="534"/>
                    </a:lnTo>
                    <a:lnTo>
                      <a:pt x="147" y="5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 rot="20446200">
                <a:off x="7419240" y="272160"/>
                <a:ext cx="559080" cy="55548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555480"/>
                  <a:gd name="textAreaBottom" fmla="*/ 555480 h 555480"/>
                </a:gdLst>
                <a:ahLst/>
                <a:rect l="textAreaLeft" t="textAreaTop" r="textAreaRight" b="textAreaBottom"/>
                <a:pathLst>
                  <a:path w="704" h="700">
                    <a:moveTo>
                      <a:pt x="66" y="53"/>
                    </a:moveTo>
                    <a:lnTo>
                      <a:pt x="77" y="64"/>
                    </a:lnTo>
                    <a:lnTo>
                      <a:pt x="81" y="73"/>
                    </a:lnTo>
                    <a:lnTo>
                      <a:pt x="83" y="82"/>
                    </a:lnTo>
                    <a:lnTo>
                      <a:pt x="84" y="90"/>
                    </a:lnTo>
                    <a:lnTo>
                      <a:pt x="58" y="111"/>
                    </a:lnTo>
                    <a:lnTo>
                      <a:pt x="38" y="128"/>
                    </a:lnTo>
                    <a:lnTo>
                      <a:pt x="22" y="145"/>
                    </a:lnTo>
                    <a:lnTo>
                      <a:pt x="10" y="162"/>
                    </a:lnTo>
                    <a:lnTo>
                      <a:pt x="2" y="178"/>
                    </a:lnTo>
                    <a:lnTo>
                      <a:pt x="0" y="195"/>
                    </a:lnTo>
                    <a:lnTo>
                      <a:pt x="0" y="214"/>
                    </a:lnTo>
                    <a:lnTo>
                      <a:pt x="3" y="236"/>
                    </a:lnTo>
                    <a:lnTo>
                      <a:pt x="13" y="250"/>
                    </a:lnTo>
                    <a:lnTo>
                      <a:pt x="27" y="264"/>
                    </a:lnTo>
                    <a:lnTo>
                      <a:pt x="45" y="278"/>
                    </a:lnTo>
                    <a:lnTo>
                      <a:pt x="63" y="292"/>
                    </a:lnTo>
                    <a:lnTo>
                      <a:pt x="83" y="305"/>
                    </a:lnTo>
                    <a:lnTo>
                      <a:pt x="104" y="318"/>
                    </a:lnTo>
                    <a:lnTo>
                      <a:pt x="126" y="331"/>
                    </a:lnTo>
                    <a:lnTo>
                      <a:pt x="147" y="342"/>
                    </a:lnTo>
                    <a:lnTo>
                      <a:pt x="169" y="353"/>
                    </a:lnTo>
                    <a:lnTo>
                      <a:pt x="189" y="363"/>
                    </a:lnTo>
                    <a:lnTo>
                      <a:pt x="207" y="371"/>
                    </a:lnTo>
                    <a:lnTo>
                      <a:pt x="223" y="379"/>
                    </a:lnTo>
                    <a:lnTo>
                      <a:pt x="237" y="385"/>
                    </a:lnTo>
                    <a:lnTo>
                      <a:pt x="247" y="390"/>
                    </a:lnTo>
                    <a:lnTo>
                      <a:pt x="254" y="392"/>
                    </a:lnTo>
                    <a:lnTo>
                      <a:pt x="257" y="393"/>
                    </a:lnTo>
                    <a:lnTo>
                      <a:pt x="272" y="404"/>
                    </a:lnTo>
                    <a:lnTo>
                      <a:pt x="284" y="425"/>
                    </a:lnTo>
                    <a:lnTo>
                      <a:pt x="296" y="452"/>
                    </a:lnTo>
                    <a:lnTo>
                      <a:pt x="307" y="482"/>
                    </a:lnTo>
                    <a:lnTo>
                      <a:pt x="318" y="514"/>
                    </a:lnTo>
                    <a:lnTo>
                      <a:pt x="330" y="547"/>
                    </a:lnTo>
                    <a:lnTo>
                      <a:pt x="344" y="578"/>
                    </a:lnTo>
                    <a:lnTo>
                      <a:pt x="360" y="606"/>
                    </a:lnTo>
                    <a:lnTo>
                      <a:pt x="375" y="626"/>
                    </a:lnTo>
                    <a:lnTo>
                      <a:pt x="391" y="643"/>
                    </a:lnTo>
                    <a:lnTo>
                      <a:pt x="409" y="657"/>
                    </a:lnTo>
                    <a:lnTo>
                      <a:pt x="428" y="668"/>
                    </a:lnTo>
                    <a:lnTo>
                      <a:pt x="448" y="679"/>
                    </a:lnTo>
                    <a:lnTo>
                      <a:pt x="469" y="685"/>
                    </a:lnTo>
                    <a:lnTo>
                      <a:pt x="490" y="691"/>
                    </a:lnTo>
                    <a:lnTo>
                      <a:pt x="512" y="696"/>
                    </a:lnTo>
                    <a:lnTo>
                      <a:pt x="535" y="698"/>
                    </a:lnTo>
                    <a:lnTo>
                      <a:pt x="558" y="700"/>
                    </a:lnTo>
                    <a:lnTo>
                      <a:pt x="583" y="700"/>
                    </a:lnTo>
                    <a:lnTo>
                      <a:pt x="606" y="700"/>
                    </a:lnTo>
                    <a:lnTo>
                      <a:pt x="630" y="699"/>
                    </a:lnTo>
                    <a:lnTo>
                      <a:pt x="653" y="698"/>
                    </a:lnTo>
                    <a:lnTo>
                      <a:pt x="676" y="696"/>
                    </a:lnTo>
                    <a:lnTo>
                      <a:pt x="699" y="695"/>
                    </a:lnTo>
                    <a:lnTo>
                      <a:pt x="704" y="670"/>
                    </a:lnTo>
                    <a:lnTo>
                      <a:pt x="693" y="673"/>
                    </a:lnTo>
                    <a:lnTo>
                      <a:pt x="682" y="674"/>
                    </a:lnTo>
                    <a:lnTo>
                      <a:pt x="667" y="676"/>
                    </a:lnTo>
                    <a:lnTo>
                      <a:pt x="652" y="677"/>
                    </a:lnTo>
                    <a:lnTo>
                      <a:pt x="634" y="679"/>
                    </a:lnTo>
                    <a:lnTo>
                      <a:pt x="616" y="679"/>
                    </a:lnTo>
                    <a:lnTo>
                      <a:pt x="596" y="679"/>
                    </a:lnTo>
                    <a:lnTo>
                      <a:pt x="577" y="677"/>
                    </a:lnTo>
                    <a:lnTo>
                      <a:pt x="557" y="676"/>
                    </a:lnTo>
                    <a:lnTo>
                      <a:pt x="537" y="674"/>
                    </a:lnTo>
                    <a:lnTo>
                      <a:pt x="517" y="670"/>
                    </a:lnTo>
                    <a:lnTo>
                      <a:pt x="496" y="667"/>
                    </a:lnTo>
                    <a:lnTo>
                      <a:pt x="478" y="661"/>
                    </a:lnTo>
                    <a:lnTo>
                      <a:pt x="459" y="654"/>
                    </a:lnTo>
                    <a:lnTo>
                      <a:pt x="442" y="647"/>
                    </a:lnTo>
                    <a:lnTo>
                      <a:pt x="427" y="638"/>
                    </a:lnTo>
                    <a:lnTo>
                      <a:pt x="416" y="630"/>
                    </a:lnTo>
                    <a:lnTo>
                      <a:pt x="405" y="622"/>
                    </a:lnTo>
                    <a:lnTo>
                      <a:pt x="395" y="613"/>
                    </a:lnTo>
                    <a:lnTo>
                      <a:pt x="387" y="603"/>
                    </a:lnTo>
                    <a:lnTo>
                      <a:pt x="378" y="590"/>
                    </a:lnTo>
                    <a:lnTo>
                      <a:pt x="369" y="575"/>
                    </a:lnTo>
                    <a:lnTo>
                      <a:pt x="361" y="559"/>
                    </a:lnTo>
                    <a:lnTo>
                      <a:pt x="353" y="539"/>
                    </a:lnTo>
                    <a:lnTo>
                      <a:pt x="346" y="516"/>
                    </a:lnTo>
                    <a:lnTo>
                      <a:pt x="339" y="492"/>
                    </a:lnTo>
                    <a:lnTo>
                      <a:pt x="331" y="469"/>
                    </a:lnTo>
                    <a:lnTo>
                      <a:pt x="322" y="446"/>
                    </a:lnTo>
                    <a:lnTo>
                      <a:pt x="311" y="425"/>
                    </a:lnTo>
                    <a:lnTo>
                      <a:pt x="299" y="407"/>
                    </a:lnTo>
                    <a:lnTo>
                      <a:pt x="284" y="391"/>
                    </a:lnTo>
                    <a:lnTo>
                      <a:pt x="268" y="378"/>
                    </a:lnTo>
                    <a:lnTo>
                      <a:pt x="254" y="370"/>
                    </a:lnTo>
                    <a:lnTo>
                      <a:pt x="239" y="363"/>
                    </a:lnTo>
                    <a:lnTo>
                      <a:pt x="225" y="356"/>
                    </a:lnTo>
                    <a:lnTo>
                      <a:pt x="212" y="348"/>
                    </a:lnTo>
                    <a:lnTo>
                      <a:pt x="197" y="341"/>
                    </a:lnTo>
                    <a:lnTo>
                      <a:pt x="183" y="333"/>
                    </a:lnTo>
                    <a:lnTo>
                      <a:pt x="169" y="325"/>
                    </a:lnTo>
                    <a:lnTo>
                      <a:pt x="154" y="317"/>
                    </a:lnTo>
                    <a:lnTo>
                      <a:pt x="140" y="309"/>
                    </a:lnTo>
                    <a:lnTo>
                      <a:pt x="126" y="301"/>
                    </a:lnTo>
                    <a:lnTo>
                      <a:pt x="113" y="293"/>
                    </a:lnTo>
                    <a:lnTo>
                      <a:pt x="99" y="284"/>
                    </a:lnTo>
                    <a:lnTo>
                      <a:pt x="85" y="274"/>
                    </a:lnTo>
                    <a:lnTo>
                      <a:pt x="72" y="264"/>
                    </a:lnTo>
                    <a:lnTo>
                      <a:pt x="58" y="254"/>
                    </a:lnTo>
                    <a:lnTo>
                      <a:pt x="46" y="243"/>
                    </a:lnTo>
                    <a:lnTo>
                      <a:pt x="33" y="228"/>
                    </a:lnTo>
                    <a:lnTo>
                      <a:pt x="25" y="211"/>
                    </a:lnTo>
                    <a:lnTo>
                      <a:pt x="24" y="191"/>
                    </a:lnTo>
                    <a:lnTo>
                      <a:pt x="31" y="168"/>
                    </a:lnTo>
                    <a:lnTo>
                      <a:pt x="34" y="159"/>
                    </a:lnTo>
                    <a:lnTo>
                      <a:pt x="39" y="151"/>
                    </a:lnTo>
                    <a:lnTo>
                      <a:pt x="45" y="144"/>
                    </a:lnTo>
                    <a:lnTo>
                      <a:pt x="50" y="138"/>
                    </a:lnTo>
                    <a:lnTo>
                      <a:pt x="57" y="133"/>
                    </a:lnTo>
                    <a:lnTo>
                      <a:pt x="65" y="127"/>
                    </a:lnTo>
                    <a:lnTo>
                      <a:pt x="72" y="120"/>
                    </a:lnTo>
                    <a:lnTo>
                      <a:pt x="79" y="114"/>
                    </a:lnTo>
                    <a:lnTo>
                      <a:pt x="89" y="115"/>
                    </a:lnTo>
                    <a:lnTo>
                      <a:pt x="100" y="114"/>
                    </a:lnTo>
                    <a:lnTo>
                      <a:pt x="111" y="112"/>
                    </a:lnTo>
                    <a:lnTo>
                      <a:pt x="122" y="109"/>
                    </a:lnTo>
                    <a:lnTo>
                      <a:pt x="132" y="104"/>
                    </a:lnTo>
                    <a:lnTo>
                      <a:pt x="142" y="99"/>
                    </a:lnTo>
                    <a:lnTo>
                      <a:pt x="152" y="94"/>
                    </a:lnTo>
                    <a:lnTo>
                      <a:pt x="161" y="87"/>
                    </a:lnTo>
                    <a:lnTo>
                      <a:pt x="168" y="76"/>
                    </a:lnTo>
                    <a:lnTo>
                      <a:pt x="170" y="65"/>
                    </a:lnTo>
                    <a:lnTo>
                      <a:pt x="168" y="53"/>
                    </a:lnTo>
                    <a:lnTo>
                      <a:pt x="163" y="42"/>
                    </a:lnTo>
                    <a:lnTo>
                      <a:pt x="157" y="31"/>
                    </a:lnTo>
                    <a:lnTo>
                      <a:pt x="153" y="22"/>
                    </a:lnTo>
                    <a:lnTo>
                      <a:pt x="147" y="16"/>
                    </a:lnTo>
                    <a:lnTo>
                      <a:pt x="141" y="11"/>
                    </a:lnTo>
                    <a:lnTo>
                      <a:pt x="134" y="7"/>
                    </a:lnTo>
                    <a:lnTo>
                      <a:pt x="128" y="4"/>
                    </a:lnTo>
                    <a:lnTo>
                      <a:pt x="121" y="1"/>
                    </a:lnTo>
                    <a:lnTo>
                      <a:pt x="111" y="0"/>
                    </a:lnTo>
                    <a:lnTo>
                      <a:pt x="106" y="1"/>
                    </a:lnTo>
                    <a:lnTo>
                      <a:pt x="101" y="3"/>
                    </a:lnTo>
                    <a:lnTo>
                      <a:pt x="95" y="4"/>
                    </a:lnTo>
                    <a:lnTo>
                      <a:pt x="91" y="5"/>
                    </a:lnTo>
                    <a:lnTo>
                      <a:pt x="86" y="7"/>
                    </a:lnTo>
                    <a:lnTo>
                      <a:pt x="80" y="10"/>
                    </a:lnTo>
                    <a:lnTo>
                      <a:pt x="73" y="13"/>
                    </a:lnTo>
                    <a:lnTo>
                      <a:pt x="66" y="18"/>
                    </a:lnTo>
                    <a:lnTo>
                      <a:pt x="55" y="39"/>
                    </a:lnTo>
                    <a:lnTo>
                      <a:pt x="62" y="35"/>
                    </a:lnTo>
                    <a:lnTo>
                      <a:pt x="69" y="30"/>
                    </a:lnTo>
                    <a:lnTo>
                      <a:pt x="77" y="26"/>
                    </a:lnTo>
                    <a:lnTo>
                      <a:pt x="84" y="22"/>
                    </a:lnTo>
                    <a:lnTo>
                      <a:pt x="91" y="20"/>
                    </a:lnTo>
                    <a:lnTo>
                      <a:pt x="98" y="18"/>
                    </a:lnTo>
                    <a:lnTo>
                      <a:pt x="103" y="18"/>
                    </a:lnTo>
                    <a:lnTo>
                      <a:pt x="109" y="18"/>
                    </a:lnTo>
                    <a:lnTo>
                      <a:pt x="118" y="21"/>
                    </a:lnTo>
                    <a:lnTo>
                      <a:pt x="125" y="26"/>
                    </a:lnTo>
                    <a:lnTo>
                      <a:pt x="132" y="31"/>
                    </a:lnTo>
                    <a:lnTo>
                      <a:pt x="137" y="39"/>
                    </a:lnTo>
                    <a:lnTo>
                      <a:pt x="139" y="46"/>
                    </a:lnTo>
                    <a:lnTo>
                      <a:pt x="141" y="54"/>
                    </a:lnTo>
                    <a:lnTo>
                      <a:pt x="141" y="62"/>
                    </a:lnTo>
                    <a:lnTo>
                      <a:pt x="140" y="69"/>
                    </a:lnTo>
                    <a:lnTo>
                      <a:pt x="134" y="73"/>
                    </a:lnTo>
                    <a:lnTo>
                      <a:pt x="128" y="77"/>
                    </a:lnTo>
                    <a:lnTo>
                      <a:pt x="122" y="81"/>
                    </a:lnTo>
                    <a:lnTo>
                      <a:pt x="115" y="83"/>
                    </a:lnTo>
                    <a:lnTo>
                      <a:pt x="108" y="84"/>
                    </a:lnTo>
                    <a:lnTo>
                      <a:pt x="103" y="84"/>
                    </a:lnTo>
                    <a:lnTo>
                      <a:pt x="100" y="82"/>
                    </a:lnTo>
                    <a:lnTo>
                      <a:pt x="98" y="77"/>
                    </a:lnTo>
                    <a:lnTo>
                      <a:pt x="94" y="69"/>
                    </a:lnTo>
                    <a:lnTo>
                      <a:pt x="92" y="61"/>
                    </a:lnTo>
                    <a:lnTo>
                      <a:pt x="87" y="53"/>
                    </a:lnTo>
                    <a:lnTo>
                      <a:pt x="81" y="46"/>
                    </a:lnTo>
                    <a:lnTo>
                      <a:pt x="66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 rot="20446200">
                <a:off x="7368840" y="390240"/>
                <a:ext cx="212760" cy="28080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269" h="353">
                    <a:moveTo>
                      <a:pt x="96" y="0"/>
                    </a:moveTo>
                    <a:lnTo>
                      <a:pt x="92" y="2"/>
                    </a:lnTo>
                    <a:lnTo>
                      <a:pt x="84" y="6"/>
                    </a:lnTo>
                    <a:lnTo>
                      <a:pt x="75" y="13"/>
                    </a:lnTo>
                    <a:lnTo>
                      <a:pt x="64" y="22"/>
                    </a:lnTo>
                    <a:lnTo>
                      <a:pt x="51" y="33"/>
                    </a:lnTo>
                    <a:lnTo>
                      <a:pt x="38" y="47"/>
                    </a:lnTo>
                    <a:lnTo>
                      <a:pt x="26" y="62"/>
                    </a:lnTo>
                    <a:lnTo>
                      <a:pt x="15" y="78"/>
                    </a:lnTo>
                    <a:lnTo>
                      <a:pt x="6" y="101"/>
                    </a:lnTo>
                    <a:lnTo>
                      <a:pt x="0" y="127"/>
                    </a:lnTo>
                    <a:lnTo>
                      <a:pt x="0" y="155"/>
                    </a:lnTo>
                    <a:lnTo>
                      <a:pt x="7" y="188"/>
                    </a:lnTo>
                    <a:lnTo>
                      <a:pt x="11" y="198"/>
                    </a:lnTo>
                    <a:lnTo>
                      <a:pt x="15" y="208"/>
                    </a:lnTo>
                    <a:lnTo>
                      <a:pt x="21" y="218"/>
                    </a:lnTo>
                    <a:lnTo>
                      <a:pt x="27" y="227"/>
                    </a:lnTo>
                    <a:lnTo>
                      <a:pt x="32" y="235"/>
                    </a:lnTo>
                    <a:lnTo>
                      <a:pt x="40" y="243"/>
                    </a:lnTo>
                    <a:lnTo>
                      <a:pt x="47" y="250"/>
                    </a:lnTo>
                    <a:lnTo>
                      <a:pt x="55" y="257"/>
                    </a:lnTo>
                    <a:lnTo>
                      <a:pt x="65" y="264"/>
                    </a:lnTo>
                    <a:lnTo>
                      <a:pt x="75" y="270"/>
                    </a:lnTo>
                    <a:lnTo>
                      <a:pt x="85" y="277"/>
                    </a:lnTo>
                    <a:lnTo>
                      <a:pt x="97" y="283"/>
                    </a:lnTo>
                    <a:lnTo>
                      <a:pt x="107" y="289"/>
                    </a:lnTo>
                    <a:lnTo>
                      <a:pt x="119" y="295"/>
                    </a:lnTo>
                    <a:lnTo>
                      <a:pt x="129" y="300"/>
                    </a:lnTo>
                    <a:lnTo>
                      <a:pt x="141" y="306"/>
                    </a:lnTo>
                    <a:lnTo>
                      <a:pt x="152" y="312"/>
                    </a:lnTo>
                    <a:lnTo>
                      <a:pt x="166" y="318"/>
                    </a:lnTo>
                    <a:lnTo>
                      <a:pt x="180" y="323"/>
                    </a:lnTo>
                    <a:lnTo>
                      <a:pt x="195" y="330"/>
                    </a:lnTo>
                    <a:lnTo>
                      <a:pt x="209" y="336"/>
                    </a:lnTo>
                    <a:lnTo>
                      <a:pt x="223" y="343"/>
                    </a:lnTo>
                    <a:lnTo>
                      <a:pt x="236" y="349"/>
                    </a:lnTo>
                    <a:lnTo>
                      <a:pt x="248" y="353"/>
                    </a:lnTo>
                    <a:lnTo>
                      <a:pt x="269" y="344"/>
                    </a:lnTo>
                    <a:lnTo>
                      <a:pt x="255" y="337"/>
                    </a:lnTo>
                    <a:lnTo>
                      <a:pt x="239" y="330"/>
                    </a:lnTo>
                    <a:lnTo>
                      <a:pt x="224" y="323"/>
                    </a:lnTo>
                    <a:lnTo>
                      <a:pt x="209" y="317"/>
                    </a:lnTo>
                    <a:lnTo>
                      <a:pt x="194" y="310"/>
                    </a:lnTo>
                    <a:lnTo>
                      <a:pt x="180" y="304"/>
                    </a:lnTo>
                    <a:lnTo>
                      <a:pt x="168" y="299"/>
                    </a:lnTo>
                    <a:lnTo>
                      <a:pt x="159" y="295"/>
                    </a:lnTo>
                    <a:lnTo>
                      <a:pt x="136" y="283"/>
                    </a:lnTo>
                    <a:lnTo>
                      <a:pt x="113" y="270"/>
                    </a:lnTo>
                    <a:lnTo>
                      <a:pt x="90" y="258"/>
                    </a:lnTo>
                    <a:lnTo>
                      <a:pt x="69" y="242"/>
                    </a:lnTo>
                    <a:lnTo>
                      <a:pt x="51" y="226"/>
                    </a:lnTo>
                    <a:lnTo>
                      <a:pt x="36" y="206"/>
                    </a:lnTo>
                    <a:lnTo>
                      <a:pt x="24" y="185"/>
                    </a:lnTo>
                    <a:lnTo>
                      <a:pt x="19" y="162"/>
                    </a:lnTo>
                    <a:lnTo>
                      <a:pt x="19" y="135"/>
                    </a:lnTo>
                    <a:lnTo>
                      <a:pt x="23" y="109"/>
                    </a:lnTo>
                    <a:lnTo>
                      <a:pt x="32" y="87"/>
                    </a:lnTo>
                    <a:lnTo>
                      <a:pt x="45" y="67"/>
                    </a:lnTo>
                    <a:lnTo>
                      <a:pt x="51" y="60"/>
                    </a:lnTo>
                    <a:lnTo>
                      <a:pt x="57" y="53"/>
                    </a:lnTo>
                    <a:lnTo>
                      <a:pt x="62" y="46"/>
                    </a:lnTo>
                    <a:lnTo>
                      <a:pt x="69" y="39"/>
                    </a:lnTo>
                    <a:lnTo>
                      <a:pt x="76" y="33"/>
                    </a:lnTo>
                    <a:lnTo>
                      <a:pt x="84" y="26"/>
                    </a:lnTo>
                    <a:lnTo>
                      <a:pt x="91" y="19"/>
                    </a:lnTo>
                    <a:lnTo>
                      <a:pt x="99" y="13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 rot="20446200">
                <a:off x="7801560" y="277560"/>
                <a:ext cx="850680" cy="893160"/>
              </a:xfrm>
              <a:custGeom>
                <a:avLst/>
                <a:gdLst>
                  <a:gd name="textAreaLeft" fmla="*/ 0 w 850680"/>
                  <a:gd name="textAreaRight" fmla="*/ 851040 w 850680"/>
                  <a:gd name="textAreaTop" fmla="*/ 0 h 893160"/>
                  <a:gd name="textAreaBottom" fmla="*/ 893520 h 893160"/>
                </a:gdLst>
                <a:ahLst/>
                <a:rect l="textAreaLeft" t="textAreaTop" r="textAreaRight" b="textAreaBottom"/>
                <a:pathLst>
                  <a:path w="1071" h="1126">
                    <a:moveTo>
                      <a:pt x="2" y="308"/>
                    </a:moveTo>
                    <a:lnTo>
                      <a:pt x="31" y="300"/>
                    </a:lnTo>
                    <a:lnTo>
                      <a:pt x="58" y="292"/>
                    </a:lnTo>
                    <a:lnTo>
                      <a:pt x="83" y="284"/>
                    </a:lnTo>
                    <a:lnTo>
                      <a:pt x="104" y="275"/>
                    </a:lnTo>
                    <a:lnTo>
                      <a:pt x="125" y="265"/>
                    </a:lnTo>
                    <a:lnTo>
                      <a:pt x="144" y="255"/>
                    </a:lnTo>
                    <a:lnTo>
                      <a:pt x="161" y="243"/>
                    </a:lnTo>
                    <a:lnTo>
                      <a:pt x="177" y="232"/>
                    </a:lnTo>
                    <a:lnTo>
                      <a:pt x="192" y="220"/>
                    </a:lnTo>
                    <a:lnTo>
                      <a:pt x="206" y="208"/>
                    </a:lnTo>
                    <a:lnTo>
                      <a:pt x="220" y="194"/>
                    </a:lnTo>
                    <a:lnTo>
                      <a:pt x="232" y="179"/>
                    </a:lnTo>
                    <a:lnTo>
                      <a:pt x="244" y="164"/>
                    </a:lnTo>
                    <a:lnTo>
                      <a:pt x="257" y="148"/>
                    </a:lnTo>
                    <a:lnTo>
                      <a:pt x="268" y="131"/>
                    </a:lnTo>
                    <a:lnTo>
                      <a:pt x="281" y="112"/>
                    </a:lnTo>
                    <a:lnTo>
                      <a:pt x="296" y="114"/>
                    </a:lnTo>
                    <a:lnTo>
                      <a:pt x="311" y="119"/>
                    </a:lnTo>
                    <a:lnTo>
                      <a:pt x="326" y="125"/>
                    </a:lnTo>
                    <a:lnTo>
                      <a:pt x="339" y="132"/>
                    </a:lnTo>
                    <a:lnTo>
                      <a:pt x="354" y="139"/>
                    </a:lnTo>
                    <a:lnTo>
                      <a:pt x="368" y="148"/>
                    </a:lnTo>
                    <a:lnTo>
                      <a:pt x="381" y="156"/>
                    </a:lnTo>
                    <a:lnTo>
                      <a:pt x="395" y="165"/>
                    </a:lnTo>
                    <a:lnTo>
                      <a:pt x="412" y="179"/>
                    </a:lnTo>
                    <a:lnTo>
                      <a:pt x="427" y="194"/>
                    </a:lnTo>
                    <a:lnTo>
                      <a:pt x="441" y="211"/>
                    </a:lnTo>
                    <a:lnTo>
                      <a:pt x="452" y="231"/>
                    </a:lnTo>
                    <a:lnTo>
                      <a:pt x="462" y="250"/>
                    </a:lnTo>
                    <a:lnTo>
                      <a:pt x="467" y="272"/>
                    </a:lnTo>
                    <a:lnTo>
                      <a:pt x="471" y="294"/>
                    </a:lnTo>
                    <a:lnTo>
                      <a:pt x="472" y="316"/>
                    </a:lnTo>
                    <a:lnTo>
                      <a:pt x="471" y="329"/>
                    </a:lnTo>
                    <a:lnTo>
                      <a:pt x="468" y="346"/>
                    </a:lnTo>
                    <a:lnTo>
                      <a:pt x="465" y="366"/>
                    </a:lnTo>
                    <a:lnTo>
                      <a:pt x="458" y="379"/>
                    </a:lnTo>
                    <a:lnTo>
                      <a:pt x="454" y="380"/>
                    </a:lnTo>
                    <a:lnTo>
                      <a:pt x="449" y="380"/>
                    </a:lnTo>
                    <a:lnTo>
                      <a:pt x="443" y="379"/>
                    </a:lnTo>
                    <a:lnTo>
                      <a:pt x="436" y="379"/>
                    </a:lnTo>
                    <a:lnTo>
                      <a:pt x="428" y="379"/>
                    </a:lnTo>
                    <a:lnTo>
                      <a:pt x="420" y="380"/>
                    </a:lnTo>
                    <a:lnTo>
                      <a:pt x="409" y="384"/>
                    </a:lnTo>
                    <a:lnTo>
                      <a:pt x="397" y="389"/>
                    </a:lnTo>
                    <a:lnTo>
                      <a:pt x="380" y="398"/>
                    </a:lnTo>
                    <a:lnTo>
                      <a:pt x="367" y="409"/>
                    </a:lnTo>
                    <a:lnTo>
                      <a:pt x="359" y="422"/>
                    </a:lnTo>
                    <a:lnTo>
                      <a:pt x="353" y="435"/>
                    </a:lnTo>
                    <a:lnTo>
                      <a:pt x="350" y="447"/>
                    </a:lnTo>
                    <a:lnTo>
                      <a:pt x="349" y="456"/>
                    </a:lnTo>
                    <a:lnTo>
                      <a:pt x="349" y="463"/>
                    </a:lnTo>
                    <a:lnTo>
                      <a:pt x="351" y="467"/>
                    </a:lnTo>
                    <a:lnTo>
                      <a:pt x="361" y="450"/>
                    </a:lnTo>
                    <a:lnTo>
                      <a:pt x="372" y="436"/>
                    </a:lnTo>
                    <a:lnTo>
                      <a:pt x="381" y="424"/>
                    </a:lnTo>
                    <a:lnTo>
                      <a:pt x="391" y="416"/>
                    </a:lnTo>
                    <a:lnTo>
                      <a:pt x="402" y="410"/>
                    </a:lnTo>
                    <a:lnTo>
                      <a:pt x="413" y="406"/>
                    </a:lnTo>
                    <a:lnTo>
                      <a:pt x="427" y="404"/>
                    </a:lnTo>
                    <a:lnTo>
                      <a:pt x="442" y="402"/>
                    </a:lnTo>
                    <a:lnTo>
                      <a:pt x="454" y="404"/>
                    </a:lnTo>
                    <a:lnTo>
                      <a:pt x="466" y="406"/>
                    </a:lnTo>
                    <a:lnTo>
                      <a:pt x="478" y="410"/>
                    </a:lnTo>
                    <a:lnTo>
                      <a:pt x="489" y="416"/>
                    </a:lnTo>
                    <a:lnTo>
                      <a:pt x="498" y="424"/>
                    </a:lnTo>
                    <a:lnTo>
                      <a:pt x="508" y="433"/>
                    </a:lnTo>
                    <a:lnTo>
                      <a:pt x="516" y="444"/>
                    </a:lnTo>
                    <a:lnTo>
                      <a:pt x="521" y="455"/>
                    </a:lnTo>
                    <a:lnTo>
                      <a:pt x="525" y="470"/>
                    </a:lnTo>
                    <a:lnTo>
                      <a:pt x="527" y="486"/>
                    </a:lnTo>
                    <a:lnTo>
                      <a:pt x="525" y="504"/>
                    </a:lnTo>
                    <a:lnTo>
                      <a:pt x="518" y="519"/>
                    </a:lnTo>
                    <a:lnTo>
                      <a:pt x="523" y="523"/>
                    </a:lnTo>
                    <a:lnTo>
                      <a:pt x="527" y="529"/>
                    </a:lnTo>
                    <a:lnTo>
                      <a:pt x="532" y="534"/>
                    </a:lnTo>
                    <a:lnTo>
                      <a:pt x="538" y="538"/>
                    </a:lnTo>
                    <a:lnTo>
                      <a:pt x="542" y="544"/>
                    </a:lnTo>
                    <a:lnTo>
                      <a:pt x="548" y="550"/>
                    </a:lnTo>
                    <a:lnTo>
                      <a:pt x="553" y="556"/>
                    </a:lnTo>
                    <a:lnTo>
                      <a:pt x="558" y="561"/>
                    </a:lnTo>
                    <a:lnTo>
                      <a:pt x="576" y="594"/>
                    </a:lnTo>
                    <a:lnTo>
                      <a:pt x="584" y="625"/>
                    </a:lnTo>
                    <a:lnTo>
                      <a:pt x="584" y="656"/>
                    </a:lnTo>
                    <a:lnTo>
                      <a:pt x="579" y="691"/>
                    </a:lnTo>
                    <a:lnTo>
                      <a:pt x="550" y="830"/>
                    </a:lnTo>
                    <a:lnTo>
                      <a:pt x="548" y="848"/>
                    </a:lnTo>
                    <a:lnTo>
                      <a:pt x="548" y="868"/>
                    </a:lnTo>
                    <a:lnTo>
                      <a:pt x="550" y="885"/>
                    </a:lnTo>
                    <a:lnTo>
                      <a:pt x="556" y="902"/>
                    </a:lnTo>
                    <a:lnTo>
                      <a:pt x="563" y="918"/>
                    </a:lnTo>
                    <a:lnTo>
                      <a:pt x="572" y="933"/>
                    </a:lnTo>
                    <a:lnTo>
                      <a:pt x="584" y="946"/>
                    </a:lnTo>
                    <a:lnTo>
                      <a:pt x="599" y="957"/>
                    </a:lnTo>
                    <a:lnTo>
                      <a:pt x="617" y="969"/>
                    </a:lnTo>
                    <a:lnTo>
                      <a:pt x="634" y="978"/>
                    </a:lnTo>
                    <a:lnTo>
                      <a:pt x="653" y="985"/>
                    </a:lnTo>
                    <a:lnTo>
                      <a:pt x="670" y="991"/>
                    </a:lnTo>
                    <a:lnTo>
                      <a:pt x="690" y="995"/>
                    </a:lnTo>
                    <a:lnTo>
                      <a:pt x="710" y="998"/>
                    </a:lnTo>
                    <a:lnTo>
                      <a:pt x="733" y="1000"/>
                    </a:lnTo>
                    <a:lnTo>
                      <a:pt x="759" y="1002"/>
                    </a:lnTo>
                    <a:lnTo>
                      <a:pt x="777" y="1002"/>
                    </a:lnTo>
                    <a:lnTo>
                      <a:pt x="796" y="1000"/>
                    </a:lnTo>
                    <a:lnTo>
                      <a:pt x="813" y="999"/>
                    </a:lnTo>
                    <a:lnTo>
                      <a:pt x="830" y="995"/>
                    </a:lnTo>
                    <a:lnTo>
                      <a:pt x="845" y="992"/>
                    </a:lnTo>
                    <a:lnTo>
                      <a:pt x="858" y="988"/>
                    </a:lnTo>
                    <a:lnTo>
                      <a:pt x="871" y="985"/>
                    </a:lnTo>
                    <a:lnTo>
                      <a:pt x="880" y="980"/>
                    </a:lnTo>
                    <a:lnTo>
                      <a:pt x="881" y="1000"/>
                    </a:lnTo>
                    <a:lnTo>
                      <a:pt x="882" y="1020"/>
                    </a:lnTo>
                    <a:lnTo>
                      <a:pt x="884" y="1038"/>
                    </a:lnTo>
                    <a:lnTo>
                      <a:pt x="892" y="1055"/>
                    </a:lnTo>
                    <a:lnTo>
                      <a:pt x="954" y="1082"/>
                    </a:lnTo>
                    <a:lnTo>
                      <a:pt x="950" y="1060"/>
                    </a:lnTo>
                    <a:lnTo>
                      <a:pt x="907" y="1039"/>
                    </a:lnTo>
                    <a:lnTo>
                      <a:pt x="904" y="1016"/>
                    </a:lnTo>
                    <a:lnTo>
                      <a:pt x="904" y="992"/>
                    </a:lnTo>
                    <a:lnTo>
                      <a:pt x="906" y="970"/>
                    </a:lnTo>
                    <a:lnTo>
                      <a:pt x="911" y="949"/>
                    </a:lnTo>
                    <a:lnTo>
                      <a:pt x="952" y="944"/>
                    </a:lnTo>
                    <a:lnTo>
                      <a:pt x="952" y="970"/>
                    </a:lnTo>
                    <a:lnTo>
                      <a:pt x="955" y="1001"/>
                    </a:lnTo>
                    <a:lnTo>
                      <a:pt x="958" y="1031"/>
                    </a:lnTo>
                    <a:lnTo>
                      <a:pt x="965" y="1059"/>
                    </a:lnTo>
                    <a:lnTo>
                      <a:pt x="966" y="1040"/>
                    </a:lnTo>
                    <a:lnTo>
                      <a:pt x="970" y="995"/>
                    </a:lnTo>
                    <a:lnTo>
                      <a:pt x="978" y="942"/>
                    </a:lnTo>
                    <a:lnTo>
                      <a:pt x="990" y="899"/>
                    </a:lnTo>
                    <a:lnTo>
                      <a:pt x="995" y="892"/>
                    </a:lnTo>
                    <a:lnTo>
                      <a:pt x="1002" y="887"/>
                    </a:lnTo>
                    <a:lnTo>
                      <a:pt x="1009" y="885"/>
                    </a:lnTo>
                    <a:lnTo>
                      <a:pt x="1016" y="884"/>
                    </a:lnTo>
                    <a:lnTo>
                      <a:pt x="1011" y="932"/>
                    </a:lnTo>
                    <a:lnTo>
                      <a:pt x="1007" y="984"/>
                    </a:lnTo>
                    <a:lnTo>
                      <a:pt x="1005" y="1037"/>
                    </a:lnTo>
                    <a:lnTo>
                      <a:pt x="1008" y="1086"/>
                    </a:lnTo>
                    <a:lnTo>
                      <a:pt x="1004" y="1088"/>
                    </a:lnTo>
                    <a:lnTo>
                      <a:pt x="1000" y="1089"/>
                    </a:lnTo>
                    <a:lnTo>
                      <a:pt x="995" y="1089"/>
                    </a:lnTo>
                    <a:lnTo>
                      <a:pt x="990" y="1088"/>
                    </a:lnTo>
                    <a:lnTo>
                      <a:pt x="985" y="1086"/>
                    </a:lnTo>
                    <a:lnTo>
                      <a:pt x="980" y="1084"/>
                    </a:lnTo>
                    <a:lnTo>
                      <a:pt x="974" y="1082"/>
                    </a:lnTo>
                    <a:lnTo>
                      <a:pt x="970" y="1079"/>
                    </a:lnTo>
                    <a:lnTo>
                      <a:pt x="972" y="1089"/>
                    </a:lnTo>
                    <a:lnTo>
                      <a:pt x="977" y="1097"/>
                    </a:lnTo>
                    <a:lnTo>
                      <a:pt x="985" y="1104"/>
                    </a:lnTo>
                    <a:lnTo>
                      <a:pt x="994" y="1111"/>
                    </a:lnTo>
                    <a:lnTo>
                      <a:pt x="1004" y="1115"/>
                    </a:lnTo>
                    <a:lnTo>
                      <a:pt x="1015" y="1120"/>
                    </a:lnTo>
                    <a:lnTo>
                      <a:pt x="1025" y="1123"/>
                    </a:lnTo>
                    <a:lnTo>
                      <a:pt x="1034" y="1126"/>
                    </a:lnTo>
                    <a:lnTo>
                      <a:pt x="1032" y="1099"/>
                    </a:lnTo>
                    <a:lnTo>
                      <a:pt x="1028" y="1037"/>
                    </a:lnTo>
                    <a:lnTo>
                      <a:pt x="1028" y="964"/>
                    </a:lnTo>
                    <a:lnTo>
                      <a:pt x="1038" y="904"/>
                    </a:lnTo>
                    <a:lnTo>
                      <a:pt x="1051" y="944"/>
                    </a:lnTo>
                    <a:lnTo>
                      <a:pt x="1055" y="1001"/>
                    </a:lnTo>
                    <a:lnTo>
                      <a:pt x="1054" y="1052"/>
                    </a:lnTo>
                    <a:lnTo>
                      <a:pt x="1054" y="1074"/>
                    </a:lnTo>
                    <a:lnTo>
                      <a:pt x="1068" y="1023"/>
                    </a:lnTo>
                    <a:lnTo>
                      <a:pt x="1071" y="971"/>
                    </a:lnTo>
                    <a:lnTo>
                      <a:pt x="1065" y="918"/>
                    </a:lnTo>
                    <a:lnTo>
                      <a:pt x="1054" y="864"/>
                    </a:lnTo>
                    <a:lnTo>
                      <a:pt x="1045" y="860"/>
                    </a:lnTo>
                    <a:lnTo>
                      <a:pt x="1033" y="857"/>
                    </a:lnTo>
                    <a:lnTo>
                      <a:pt x="1020" y="857"/>
                    </a:lnTo>
                    <a:lnTo>
                      <a:pt x="1008" y="858"/>
                    </a:lnTo>
                    <a:lnTo>
                      <a:pt x="994" y="863"/>
                    </a:lnTo>
                    <a:lnTo>
                      <a:pt x="982" y="869"/>
                    </a:lnTo>
                    <a:lnTo>
                      <a:pt x="973" y="876"/>
                    </a:lnTo>
                    <a:lnTo>
                      <a:pt x="967" y="885"/>
                    </a:lnTo>
                    <a:lnTo>
                      <a:pt x="956" y="922"/>
                    </a:lnTo>
                    <a:lnTo>
                      <a:pt x="945" y="923"/>
                    </a:lnTo>
                    <a:lnTo>
                      <a:pt x="935" y="923"/>
                    </a:lnTo>
                    <a:lnTo>
                      <a:pt x="924" y="924"/>
                    </a:lnTo>
                    <a:lnTo>
                      <a:pt x="913" y="925"/>
                    </a:lnTo>
                    <a:lnTo>
                      <a:pt x="903" y="927"/>
                    </a:lnTo>
                    <a:lnTo>
                      <a:pt x="895" y="931"/>
                    </a:lnTo>
                    <a:lnTo>
                      <a:pt x="888" y="937"/>
                    </a:lnTo>
                    <a:lnTo>
                      <a:pt x="883" y="945"/>
                    </a:lnTo>
                    <a:lnTo>
                      <a:pt x="873" y="953"/>
                    </a:lnTo>
                    <a:lnTo>
                      <a:pt x="858" y="960"/>
                    </a:lnTo>
                    <a:lnTo>
                      <a:pt x="839" y="965"/>
                    </a:lnTo>
                    <a:lnTo>
                      <a:pt x="818" y="971"/>
                    </a:lnTo>
                    <a:lnTo>
                      <a:pt x="795" y="975"/>
                    </a:lnTo>
                    <a:lnTo>
                      <a:pt x="769" y="977"/>
                    </a:lnTo>
                    <a:lnTo>
                      <a:pt x="744" y="978"/>
                    </a:lnTo>
                    <a:lnTo>
                      <a:pt x="718" y="976"/>
                    </a:lnTo>
                    <a:lnTo>
                      <a:pt x="702" y="974"/>
                    </a:lnTo>
                    <a:lnTo>
                      <a:pt x="686" y="970"/>
                    </a:lnTo>
                    <a:lnTo>
                      <a:pt x="671" y="965"/>
                    </a:lnTo>
                    <a:lnTo>
                      <a:pt x="656" y="961"/>
                    </a:lnTo>
                    <a:lnTo>
                      <a:pt x="642" y="954"/>
                    </a:lnTo>
                    <a:lnTo>
                      <a:pt x="630" y="946"/>
                    </a:lnTo>
                    <a:lnTo>
                      <a:pt x="617" y="937"/>
                    </a:lnTo>
                    <a:lnTo>
                      <a:pt x="607" y="926"/>
                    </a:lnTo>
                    <a:lnTo>
                      <a:pt x="595" y="908"/>
                    </a:lnTo>
                    <a:lnTo>
                      <a:pt x="587" y="888"/>
                    </a:lnTo>
                    <a:lnTo>
                      <a:pt x="581" y="870"/>
                    </a:lnTo>
                    <a:lnTo>
                      <a:pt x="579" y="850"/>
                    </a:lnTo>
                    <a:lnTo>
                      <a:pt x="578" y="832"/>
                    </a:lnTo>
                    <a:lnTo>
                      <a:pt x="579" y="812"/>
                    </a:lnTo>
                    <a:lnTo>
                      <a:pt x="581" y="793"/>
                    </a:lnTo>
                    <a:lnTo>
                      <a:pt x="585" y="773"/>
                    </a:lnTo>
                    <a:lnTo>
                      <a:pt x="591" y="743"/>
                    </a:lnTo>
                    <a:lnTo>
                      <a:pt x="598" y="712"/>
                    </a:lnTo>
                    <a:lnTo>
                      <a:pt x="603" y="682"/>
                    </a:lnTo>
                    <a:lnTo>
                      <a:pt x="606" y="652"/>
                    </a:lnTo>
                    <a:lnTo>
                      <a:pt x="606" y="623"/>
                    </a:lnTo>
                    <a:lnTo>
                      <a:pt x="600" y="595"/>
                    </a:lnTo>
                    <a:lnTo>
                      <a:pt x="587" y="567"/>
                    </a:lnTo>
                    <a:lnTo>
                      <a:pt x="568" y="539"/>
                    </a:lnTo>
                    <a:lnTo>
                      <a:pt x="550" y="521"/>
                    </a:lnTo>
                    <a:lnTo>
                      <a:pt x="556" y="506"/>
                    </a:lnTo>
                    <a:lnTo>
                      <a:pt x="558" y="490"/>
                    </a:lnTo>
                    <a:lnTo>
                      <a:pt x="558" y="475"/>
                    </a:lnTo>
                    <a:lnTo>
                      <a:pt x="555" y="460"/>
                    </a:lnTo>
                    <a:lnTo>
                      <a:pt x="550" y="445"/>
                    </a:lnTo>
                    <a:lnTo>
                      <a:pt x="543" y="431"/>
                    </a:lnTo>
                    <a:lnTo>
                      <a:pt x="535" y="417"/>
                    </a:lnTo>
                    <a:lnTo>
                      <a:pt x="527" y="405"/>
                    </a:lnTo>
                    <a:lnTo>
                      <a:pt x="534" y="395"/>
                    </a:lnTo>
                    <a:lnTo>
                      <a:pt x="541" y="386"/>
                    </a:lnTo>
                    <a:lnTo>
                      <a:pt x="547" y="376"/>
                    </a:lnTo>
                    <a:lnTo>
                      <a:pt x="553" y="364"/>
                    </a:lnTo>
                    <a:lnTo>
                      <a:pt x="557" y="354"/>
                    </a:lnTo>
                    <a:lnTo>
                      <a:pt x="562" y="342"/>
                    </a:lnTo>
                    <a:lnTo>
                      <a:pt x="565" y="330"/>
                    </a:lnTo>
                    <a:lnTo>
                      <a:pt x="568" y="318"/>
                    </a:lnTo>
                    <a:lnTo>
                      <a:pt x="569" y="296"/>
                    </a:lnTo>
                    <a:lnTo>
                      <a:pt x="566" y="272"/>
                    </a:lnTo>
                    <a:lnTo>
                      <a:pt x="563" y="247"/>
                    </a:lnTo>
                    <a:lnTo>
                      <a:pt x="554" y="219"/>
                    </a:lnTo>
                    <a:lnTo>
                      <a:pt x="539" y="192"/>
                    </a:lnTo>
                    <a:lnTo>
                      <a:pt x="518" y="163"/>
                    </a:lnTo>
                    <a:lnTo>
                      <a:pt x="490" y="133"/>
                    </a:lnTo>
                    <a:lnTo>
                      <a:pt x="452" y="103"/>
                    </a:lnTo>
                    <a:lnTo>
                      <a:pt x="435" y="91"/>
                    </a:lnTo>
                    <a:lnTo>
                      <a:pt x="418" y="81"/>
                    </a:lnTo>
                    <a:lnTo>
                      <a:pt x="399" y="72"/>
                    </a:lnTo>
                    <a:lnTo>
                      <a:pt x="381" y="63"/>
                    </a:lnTo>
                    <a:lnTo>
                      <a:pt x="363" y="55"/>
                    </a:lnTo>
                    <a:lnTo>
                      <a:pt x="344" y="45"/>
                    </a:lnTo>
                    <a:lnTo>
                      <a:pt x="327" y="37"/>
                    </a:lnTo>
                    <a:lnTo>
                      <a:pt x="310" y="27"/>
                    </a:lnTo>
                    <a:lnTo>
                      <a:pt x="305" y="24"/>
                    </a:lnTo>
                    <a:lnTo>
                      <a:pt x="300" y="21"/>
                    </a:lnTo>
                    <a:lnTo>
                      <a:pt x="296" y="18"/>
                    </a:lnTo>
                    <a:lnTo>
                      <a:pt x="290" y="14"/>
                    </a:lnTo>
                    <a:lnTo>
                      <a:pt x="284" y="11"/>
                    </a:lnTo>
                    <a:lnTo>
                      <a:pt x="278" y="7"/>
                    </a:lnTo>
                    <a:lnTo>
                      <a:pt x="271" y="4"/>
                    </a:lnTo>
                    <a:lnTo>
                      <a:pt x="263" y="0"/>
                    </a:lnTo>
                    <a:lnTo>
                      <a:pt x="267" y="6"/>
                    </a:lnTo>
                    <a:lnTo>
                      <a:pt x="275" y="19"/>
                    </a:lnTo>
                    <a:lnTo>
                      <a:pt x="285" y="33"/>
                    </a:lnTo>
                    <a:lnTo>
                      <a:pt x="296" y="43"/>
                    </a:lnTo>
                    <a:lnTo>
                      <a:pt x="415" y="111"/>
                    </a:lnTo>
                    <a:lnTo>
                      <a:pt x="441" y="127"/>
                    </a:lnTo>
                    <a:lnTo>
                      <a:pt x="464" y="143"/>
                    </a:lnTo>
                    <a:lnTo>
                      <a:pt x="485" y="162"/>
                    </a:lnTo>
                    <a:lnTo>
                      <a:pt x="502" y="182"/>
                    </a:lnTo>
                    <a:lnTo>
                      <a:pt x="516" y="205"/>
                    </a:lnTo>
                    <a:lnTo>
                      <a:pt x="527" y="232"/>
                    </a:lnTo>
                    <a:lnTo>
                      <a:pt x="535" y="261"/>
                    </a:lnTo>
                    <a:lnTo>
                      <a:pt x="540" y="294"/>
                    </a:lnTo>
                    <a:lnTo>
                      <a:pt x="540" y="308"/>
                    </a:lnTo>
                    <a:lnTo>
                      <a:pt x="539" y="322"/>
                    </a:lnTo>
                    <a:lnTo>
                      <a:pt x="535" y="334"/>
                    </a:lnTo>
                    <a:lnTo>
                      <a:pt x="531" y="347"/>
                    </a:lnTo>
                    <a:lnTo>
                      <a:pt x="526" y="359"/>
                    </a:lnTo>
                    <a:lnTo>
                      <a:pt x="519" y="370"/>
                    </a:lnTo>
                    <a:lnTo>
                      <a:pt x="512" y="382"/>
                    </a:lnTo>
                    <a:lnTo>
                      <a:pt x="504" y="392"/>
                    </a:lnTo>
                    <a:lnTo>
                      <a:pt x="488" y="385"/>
                    </a:lnTo>
                    <a:lnTo>
                      <a:pt x="501" y="351"/>
                    </a:lnTo>
                    <a:lnTo>
                      <a:pt x="504" y="311"/>
                    </a:lnTo>
                    <a:lnTo>
                      <a:pt x="500" y="273"/>
                    </a:lnTo>
                    <a:lnTo>
                      <a:pt x="488" y="239"/>
                    </a:lnTo>
                    <a:lnTo>
                      <a:pt x="478" y="220"/>
                    </a:lnTo>
                    <a:lnTo>
                      <a:pt x="467" y="204"/>
                    </a:lnTo>
                    <a:lnTo>
                      <a:pt x="456" y="188"/>
                    </a:lnTo>
                    <a:lnTo>
                      <a:pt x="444" y="174"/>
                    </a:lnTo>
                    <a:lnTo>
                      <a:pt x="432" y="162"/>
                    </a:lnTo>
                    <a:lnTo>
                      <a:pt x="418" y="150"/>
                    </a:lnTo>
                    <a:lnTo>
                      <a:pt x="405" y="139"/>
                    </a:lnTo>
                    <a:lnTo>
                      <a:pt x="391" y="129"/>
                    </a:lnTo>
                    <a:lnTo>
                      <a:pt x="376" y="120"/>
                    </a:lnTo>
                    <a:lnTo>
                      <a:pt x="363" y="113"/>
                    </a:lnTo>
                    <a:lnTo>
                      <a:pt x="348" y="105"/>
                    </a:lnTo>
                    <a:lnTo>
                      <a:pt x="333" y="100"/>
                    </a:lnTo>
                    <a:lnTo>
                      <a:pt x="318" y="94"/>
                    </a:lnTo>
                    <a:lnTo>
                      <a:pt x="303" y="88"/>
                    </a:lnTo>
                    <a:lnTo>
                      <a:pt x="286" y="83"/>
                    </a:lnTo>
                    <a:lnTo>
                      <a:pt x="271" y="79"/>
                    </a:lnTo>
                    <a:lnTo>
                      <a:pt x="266" y="90"/>
                    </a:lnTo>
                    <a:lnTo>
                      <a:pt x="260" y="102"/>
                    </a:lnTo>
                    <a:lnTo>
                      <a:pt x="255" y="111"/>
                    </a:lnTo>
                    <a:lnTo>
                      <a:pt x="250" y="120"/>
                    </a:lnTo>
                    <a:lnTo>
                      <a:pt x="245" y="129"/>
                    </a:lnTo>
                    <a:lnTo>
                      <a:pt x="238" y="139"/>
                    </a:lnTo>
                    <a:lnTo>
                      <a:pt x="230" y="149"/>
                    </a:lnTo>
                    <a:lnTo>
                      <a:pt x="221" y="161"/>
                    </a:lnTo>
                    <a:lnTo>
                      <a:pt x="210" y="172"/>
                    </a:lnTo>
                    <a:lnTo>
                      <a:pt x="200" y="182"/>
                    </a:lnTo>
                    <a:lnTo>
                      <a:pt x="190" y="194"/>
                    </a:lnTo>
                    <a:lnTo>
                      <a:pt x="178" y="204"/>
                    </a:lnTo>
                    <a:lnTo>
                      <a:pt x="167" y="214"/>
                    </a:lnTo>
                    <a:lnTo>
                      <a:pt x="155" y="224"/>
                    </a:lnTo>
                    <a:lnTo>
                      <a:pt x="142" y="233"/>
                    </a:lnTo>
                    <a:lnTo>
                      <a:pt x="129" y="241"/>
                    </a:lnTo>
                    <a:lnTo>
                      <a:pt x="115" y="249"/>
                    </a:lnTo>
                    <a:lnTo>
                      <a:pt x="101" y="257"/>
                    </a:lnTo>
                    <a:lnTo>
                      <a:pt x="85" y="264"/>
                    </a:lnTo>
                    <a:lnTo>
                      <a:pt x="70" y="270"/>
                    </a:lnTo>
                    <a:lnTo>
                      <a:pt x="54" y="276"/>
                    </a:lnTo>
                    <a:lnTo>
                      <a:pt x="36" y="280"/>
                    </a:lnTo>
                    <a:lnTo>
                      <a:pt x="18" y="285"/>
                    </a:lnTo>
                    <a:lnTo>
                      <a:pt x="0" y="288"/>
                    </a:lnTo>
                    <a:lnTo>
                      <a:pt x="2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 rot="20446200">
                <a:off x="7651800" y="535680"/>
                <a:ext cx="495360" cy="30132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622" h="380">
                    <a:moveTo>
                      <a:pt x="0" y="14"/>
                    </a:moveTo>
                    <a:lnTo>
                      <a:pt x="2" y="23"/>
                    </a:lnTo>
                    <a:lnTo>
                      <a:pt x="12" y="45"/>
                    </a:lnTo>
                    <a:lnTo>
                      <a:pt x="24" y="75"/>
                    </a:lnTo>
                    <a:lnTo>
                      <a:pt x="38" y="109"/>
                    </a:lnTo>
                    <a:lnTo>
                      <a:pt x="53" y="143"/>
                    </a:lnTo>
                    <a:lnTo>
                      <a:pt x="67" y="171"/>
                    </a:lnTo>
                    <a:lnTo>
                      <a:pt x="76" y="192"/>
                    </a:lnTo>
                    <a:lnTo>
                      <a:pt x="79" y="200"/>
                    </a:lnTo>
                    <a:lnTo>
                      <a:pt x="89" y="216"/>
                    </a:lnTo>
                    <a:lnTo>
                      <a:pt x="99" y="232"/>
                    </a:lnTo>
                    <a:lnTo>
                      <a:pt x="109" y="247"/>
                    </a:lnTo>
                    <a:lnTo>
                      <a:pt x="121" y="261"/>
                    </a:lnTo>
                    <a:lnTo>
                      <a:pt x="135" y="275"/>
                    </a:lnTo>
                    <a:lnTo>
                      <a:pt x="149" y="287"/>
                    </a:lnTo>
                    <a:lnTo>
                      <a:pt x="164" y="298"/>
                    </a:lnTo>
                    <a:lnTo>
                      <a:pt x="180" y="307"/>
                    </a:lnTo>
                    <a:lnTo>
                      <a:pt x="196" y="315"/>
                    </a:lnTo>
                    <a:lnTo>
                      <a:pt x="212" y="322"/>
                    </a:lnTo>
                    <a:lnTo>
                      <a:pt x="227" y="328"/>
                    </a:lnTo>
                    <a:lnTo>
                      <a:pt x="244" y="333"/>
                    </a:lnTo>
                    <a:lnTo>
                      <a:pt x="260" y="336"/>
                    </a:lnTo>
                    <a:lnTo>
                      <a:pt x="278" y="339"/>
                    </a:lnTo>
                    <a:lnTo>
                      <a:pt x="295" y="342"/>
                    </a:lnTo>
                    <a:lnTo>
                      <a:pt x="313" y="344"/>
                    </a:lnTo>
                    <a:lnTo>
                      <a:pt x="332" y="345"/>
                    </a:lnTo>
                    <a:lnTo>
                      <a:pt x="351" y="346"/>
                    </a:lnTo>
                    <a:lnTo>
                      <a:pt x="372" y="346"/>
                    </a:lnTo>
                    <a:lnTo>
                      <a:pt x="393" y="345"/>
                    </a:lnTo>
                    <a:lnTo>
                      <a:pt x="415" y="344"/>
                    </a:lnTo>
                    <a:lnTo>
                      <a:pt x="438" y="343"/>
                    </a:lnTo>
                    <a:lnTo>
                      <a:pt x="462" y="342"/>
                    </a:lnTo>
                    <a:lnTo>
                      <a:pt x="487" y="339"/>
                    </a:lnTo>
                    <a:lnTo>
                      <a:pt x="501" y="351"/>
                    </a:lnTo>
                    <a:lnTo>
                      <a:pt x="517" y="363"/>
                    </a:lnTo>
                    <a:lnTo>
                      <a:pt x="535" y="371"/>
                    </a:lnTo>
                    <a:lnTo>
                      <a:pt x="554" y="377"/>
                    </a:lnTo>
                    <a:lnTo>
                      <a:pt x="573" y="380"/>
                    </a:lnTo>
                    <a:lnTo>
                      <a:pt x="591" y="379"/>
                    </a:lnTo>
                    <a:lnTo>
                      <a:pt x="608" y="372"/>
                    </a:lnTo>
                    <a:lnTo>
                      <a:pt x="622" y="359"/>
                    </a:lnTo>
                    <a:lnTo>
                      <a:pt x="594" y="359"/>
                    </a:lnTo>
                    <a:lnTo>
                      <a:pt x="571" y="357"/>
                    </a:lnTo>
                    <a:lnTo>
                      <a:pt x="552" y="352"/>
                    </a:lnTo>
                    <a:lnTo>
                      <a:pt x="536" y="344"/>
                    </a:lnTo>
                    <a:lnTo>
                      <a:pt x="523" y="335"/>
                    </a:lnTo>
                    <a:lnTo>
                      <a:pt x="513" y="325"/>
                    </a:lnTo>
                    <a:lnTo>
                      <a:pt x="503" y="312"/>
                    </a:lnTo>
                    <a:lnTo>
                      <a:pt x="497" y="299"/>
                    </a:lnTo>
                    <a:lnTo>
                      <a:pt x="491" y="300"/>
                    </a:lnTo>
                    <a:lnTo>
                      <a:pt x="486" y="306"/>
                    </a:lnTo>
                    <a:lnTo>
                      <a:pt x="482" y="313"/>
                    </a:lnTo>
                    <a:lnTo>
                      <a:pt x="477" y="316"/>
                    </a:lnTo>
                    <a:lnTo>
                      <a:pt x="453" y="319"/>
                    </a:lnTo>
                    <a:lnTo>
                      <a:pt x="430" y="320"/>
                    </a:lnTo>
                    <a:lnTo>
                      <a:pt x="409" y="321"/>
                    </a:lnTo>
                    <a:lnTo>
                      <a:pt x="388" y="321"/>
                    </a:lnTo>
                    <a:lnTo>
                      <a:pt x="370" y="321"/>
                    </a:lnTo>
                    <a:lnTo>
                      <a:pt x="351" y="321"/>
                    </a:lnTo>
                    <a:lnTo>
                      <a:pt x="334" y="321"/>
                    </a:lnTo>
                    <a:lnTo>
                      <a:pt x="317" y="320"/>
                    </a:lnTo>
                    <a:lnTo>
                      <a:pt x="301" y="318"/>
                    </a:lnTo>
                    <a:lnTo>
                      <a:pt x="285" y="315"/>
                    </a:lnTo>
                    <a:lnTo>
                      <a:pt x="268" y="313"/>
                    </a:lnTo>
                    <a:lnTo>
                      <a:pt x="253" y="310"/>
                    </a:lnTo>
                    <a:lnTo>
                      <a:pt x="237" y="306"/>
                    </a:lnTo>
                    <a:lnTo>
                      <a:pt x="222" y="301"/>
                    </a:lnTo>
                    <a:lnTo>
                      <a:pt x="206" y="296"/>
                    </a:lnTo>
                    <a:lnTo>
                      <a:pt x="190" y="290"/>
                    </a:lnTo>
                    <a:lnTo>
                      <a:pt x="153" y="265"/>
                    </a:lnTo>
                    <a:lnTo>
                      <a:pt x="124" y="234"/>
                    </a:lnTo>
                    <a:lnTo>
                      <a:pt x="101" y="200"/>
                    </a:lnTo>
                    <a:lnTo>
                      <a:pt x="83" y="164"/>
                    </a:lnTo>
                    <a:lnTo>
                      <a:pt x="67" y="129"/>
                    </a:lnTo>
                    <a:lnTo>
                      <a:pt x="52" y="92"/>
                    </a:lnTo>
                    <a:lnTo>
                      <a:pt x="37" y="56"/>
                    </a:lnTo>
                    <a:lnTo>
                      <a:pt x="18" y="23"/>
                    </a:lnTo>
                    <a:lnTo>
                      <a:pt x="25" y="18"/>
                    </a:lnTo>
                    <a:lnTo>
                      <a:pt x="33" y="14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6" y="4"/>
                    </a:lnTo>
                    <a:lnTo>
                      <a:pt x="21" y="7"/>
                    </a:lnTo>
                    <a:lnTo>
                      <a:pt x="14" y="9"/>
                    </a:lnTo>
                    <a:lnTo>
                      <a:pt x="8" y="11"/>
                    </a:lnTo>
                    <a:lnTo>
                      <a:pt x="3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 rot="20446200">
                <a:off x="8248320" y="660240"/>
                <a:ext cx="298440" cy="40140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375" h="507">
                    <a:moveTo>
                      <a:pt x="371" y="480"/>
                    </a:moveTo>
                    <a:lnTo>
                      <a:pt x="350" y="484"/>
                    </a:lnTo>
                    <a:lnTo>
                      <a:pt x="330" y="485"/>
                    </a:lnTo>
                    <a:lnTo>
                      <a:pt x="312" y="487"/>
                    </a:lnTo>
                    <a:lnTo>
                      <a:pt x="296" y="488"/>
                    </a:lnTo>
                    <a:lnTo>
                      <a:pt x="280" y="488"/>
                    </a:lnTo>
                    <a:lnTo>
                      <a:pt x="265" y="488"/>
                    </a:lnTo>
                    <a:lnTo>
                      <a:pt x="251" y="488"/>
                    </a:lnTo>
                    <a:lnTo>
                      <a:pt x="238" y="487"/>
                    </a:lnTo>
                    <a:lnTo>
                      <a:pt x="226" y="485"/>
                    </a:lnTo>
                    <a:lnTo>
                      <a:pt x="214" y="484"/>
                    </a:lnTo>
                    <a:lnTo>
                      <a:pt x="203" y="481"/>
                    </a:lnTo>
                    <a:lnTo>
                      <a:pt x="192" y="479"/>
                    </a:lnTo>
                    <a:lnTo>
                      <a:pt x="181" y="476"/>
                    </a:lnTo>
                    <a:lnTo>
                      <a:pt x="170" y="473"/>
                    </a:lnTo>
                    <a:lnTo>
                      <a:pt x="160" y="470"/>
                    </a:lnTo>
                    <a:lnTo>
                      <a:pt x="148" y="466"/>
                    </a:lnTo>
                    <a:lnTo>
                      <a:pt x="128" y="458"/>
                    </a:lnTo>
                    <a:lnTo>
                      <a:pt x="108" y="447"/>
                    </a:lnTo>
                    <a:lnTo>
                      <a:pt x="91" y="432"/>
                    </a:lnTo>
                    <a:lnTo>
                      <a:pt x="75" y="416"/>
                    </a:lnTo>
                    <a:lnTo>
                      <a:pt x="61" y="397"/>
                    </a:lnTo>
                    <a:lnTo>
                      <a:pt x="51" y="377"/>
                    </a:lnTo>
                    <a:lnTo>
                      <a:pt x="41" y="355"/>
                    </a:lnTo>
                    <a:lnTo>
                      <a:pt x="37" y="333"/>
                    </a:lnTo>
                    <a:lnTo>
                      <a:pt x="34" y="296"/>
                    </a:lnTo>
                    <a:lnTo>
                      <a:pt x="38" y="259"/>
                    </a:lnTo>
                    <a:lnTo>
                      <a:pt x="44" y="222"/>
                    </a:lnTo>
                    <a:lnTo>
                      <a:pt x="49" y="185"/>
                    </a:lnTo>
                    <a:lnTo>
                      <a:pt x="55" y="149"/>
                    </a:lnTo>
                    <a:lnTo>
                      <a:pt x="56" y="113"/>
                    </a:lnTo>
                    <a:lnTo>
                      <a:pt x="52" y="77"/>
                    </a:lnTo>
                    <a:lnTo>
                      <a:pt x="40" y="41"/>
                    </a:lnTo>
                    <a:lnTo>
                      <a:pt x="33" y="28"/>
                    </a:lnTo>
                    <a:lnTo>
                      <a:pt x="29" y="16"/>
                    </a:lnTo>
                    <a:lnTo>
                      <a:pt x="24" y="7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9" y="24"/>
                    </a:lnTo>
                    <a:lnTo>
                      <a:pt x="15" y="37"/>
                    </a:lnTo>
                    <a:lnTo>
                      <a:pt x="19" y="50"/>
                    </a:lnTo>
                    <a:lnTo>
                      <a:pt x="24" y="66"/>
                    </a:lnTo>
                    <a:lnTo>
                      <a:pt x="30" y="88"/>
                    </a:lnTo>
                    <a:lnTo>
                      <a:pt x="33" y="113"/>
                    </a:lnTo>
                    <a:lnTo>
                      <a:pt x="36" y="139"/>
                    </a:lnTo>
                    <a:lnTo>
                      <a:pt x="34" y="167"/>
                    </a:lnTo>
                    <a:lnTo>
                      <a:pt x="30" y="196"/>
                    </a:lnTo>
                    <a:lnTo>
                      <a:pt x="25" y="223"/>
                    </a:lnTo>
                    <a:lnTo>
                      <a:pt x="21" y="252"/>
                    </a:lnTo>
                    <a:lnTo>
                      <a:pt x="17" y="280"/>
                    </a:lnTo>
                    <a:lnTo>
                      <a:pt x="15" y="307"/>
                    </a:lnTo>
                    <a:lnTo>
                      <a:pt x="16" y="333"/>
                    </a:lnTo>
                    <a:lnTo>
                      <a:pt x="19" y="357"/>
                    </a:lnTo>
                    <a:lnTo>
                      <a:pt x="27" y="380"/>
                    </a:lnTo>
                    <a:lnTo>
                      <a:pt x="39" y="402"/>
                    </a:lnTo>
                    <a:lnTo>
                      <a:pt x="53" y="421"/>
                    </a:lnTo>
                    <a:lnTo>
                      <a:pt x="68" y="439"/>
                    </a:lnTo>
                    <a:lnTo>
                      <a:pt x="85" y="454"/>
                    </a:lnTo>
                    <a:lnTo>
                      <a:pt x="104" y="466"/>
                    </a:lnTo>
                    <a:lnTo>
                      <a:pt x="123" y="478"/>
                    </a:lnTo>
                    <a:lnTo>
                      <a:pt x="145" y="487"/>
                    </a:lnTo>
                    <a:lnTo>
                      <a:pt x="167" y="494"/>
                    </a:lnTo>
                    <a:lnTo>
                      <a:pt x="190" y="500"/>
                    </a:lnTo>
                    <a:lnTo>
                      <a:pt x="215" y="503"/>
                    </a:lnTo>
                    <a:lnTo>
                      <a:pt x="239" y="506"/>
                    </a:lnTo>
                    <a:lnTo>
                      <a:pt x="266" y="507"/>
                    </a:lnTo>
                    <a:lnTo>
                      <a:pt x="292" y="507"/>
                    </a:lnTo>
                    <a:lnTo>
                      <a:pt x="320" y="506"/>
                    </a:lnTo>
                    <a:lnTo>
                      <a:pt x="348" y="503"/>
                    </a:lnTo>
                    <a:lnTo>
                      <a:pt x="375" y="500"/>
                    </a:lnTo>
                    <a:lnTo>
                      <a:pt x="371" y="4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 rot="20446200">
                <a:off x="8100720" y="64872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23" y="82"/>
                    </a:moveTo>
                    <a:lnTo>
                      <a:pt x="31" y="81"/>
                    </a:lnTo>
                    <a:lnTo>
                      <a:pt x="39" y="80"/>
                    </a:lnTo>
                    <a:lnTo>
                      <a:pt x="46" y="76"/>
                    </a:lnTo>
                    <a:lnTo>
                      <a:pt x="53" y="72"/>
                    </a:lnTo>
                    <a:lnTo>
                      <a:pt x="57" y="67"/>
                    </a:lnTo>
                    <a:lnTo>
                      <a:pt x="61" y="61"/>
                    </a:lnTo>
                    <a:lnTo>
                      <a:pt x="63" y="56"/>
                    </a:lnTo>
                    <a:lnTo>
                      <a:pt x="64" y="49"/>
                    </a:lnTo>
                    <a:lnTo>
                      <a:pt x="63" y="42"/>
                    </a:lnTo>
                    <a:lnTo>
                      <a:pt x="61" y="36"/>
                    </a:lnTo>
                    <a:lnTo>
                      <a:pt x="57" y="30"/>
                    </a:lnTo>
                    <a:lnTo>
                      <a:pt x="53" y="24"/>
                    </a:lnTo>
                    <a:lnTo>
                      <a:pt x="46" y="21"/>
                    </a:lnTo>
                    <a:lnTo>
                      <a:pt x="39" y="18"/>
                    </a:lnTo>
                    <a:lnTo>
                      <a:pt x="31" y="16"/>
                    </a:lnTo>
                    <a:lnTo>
                      <a:pt x="23" y="15"/>
                    </a:lnTo>
                    <a:lnTo>
                      <a:pt x="17" y="15"/>
                    </a:lnTo>
                    <a:lnTo>
                      <a:pt x="11" y="16"/>
                    </a:lnTo>
                    <a:lnTo>
                      <a:pt x="5" y="19"/>
                    </a:lnTo>
                    <a:lnTo>
                      <a:pt x="0" y="21"/>
                    </a:lnTo>
                    <a:lnTo>
                      <a:pt x="3" y="16"/>
                    </a:lnTo>
                    <a:lnTo>
                      <a:pt x="8" y="13"/>
                    </a:lnTo>
                    <a:lnTo>
                      <a:pt x="12" y="8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7" y="1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9" y="1"/>
                    </a:lnTo>
                    <a:lnTo>
                      <a:pt x="58" y="4"/>
                    </a:lnTo>
                    <a:lnTo>
                      <a:pt x="65" y="7"/>
                    </a:lnTo>
                    <a:lnTo>
                      <a:pt x="72" y="13"/>
                    </a:lnTo>
                    <a:lnTo>
                      <a:pt x="78" y="20"/>
                    </a:lnTo>
                    <a:lnTo>
                      <a:pt x="82" y="27"/>
                    </a:lnTo>
                    <a:lnTo>
                      <a:pt x="85" y="35"/>
                    </a:lnTo>
                    <a:lnTo>
                      <a:pt x="86" y="44"/>
                    </a:lnTo>
                    <a:lnTo>
                      <a:pt x="85" y="53"/>
                    </a:lnTo>
                    <a:lnTo>
                      <a:pt x="82" y="61"/>
                    </a:lnTo>
                    <a:lnTo>
                      <a:pt x="78" y="68"/>
                    </a:lnTo>
                    <a:lnTo>
                      <a:pt x="72" y="75"/>
                    </a:lnTo>
                    <a:lnTo>
                      <a:pt x="65" y="81"/>
                    </a:lnTo>
                    <a:lnTo>
                      <a:pt x="58" y="84"/>
                    </a:lnTo>
                    <a:lnTo>
                      <a:pt x="49" y="87"/>
                    </a:lnTo>
                    <a:lnTo>
                      <a:pt x="40" y="88"/>
                    </a:lnTo>
                    <a:lnTo>
                      <a:pt x="33" y="88"/>
                    </a:lnTo>
                    <a:lnTo>
                      <a:pt x="27" y="86"/>
                    </a:lnTo>
                    <a:lnTo>
                      <a:pt x="21" y="84"/>
                    </a:lnTo>
                    <a:lnTo>
                      <a:pt x="16" y="81"/>
                    </a:lnTo>
                    <a:lnTo>
                      <a:pt x="18" y="81"/>
                    </a:lnTo>
                    <a:lnTo>
                      <a:pt x="19" y="81"/>
                    </a:lnTo>
                    <a:lnTo>
                      <a:pt x="21" y="82"/>
                    </a:lnTo>
                    <a:lnTo>
                      <a:pt x="23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826920" y="260280"/>
            <a:ext cx="33814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я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3635280" y="1413000"/>
            <a:ext cx="4535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нолог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564000" y="263700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-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человек, которы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занимаетс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изучением 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разведением собак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10" descr="dog029"/>
          <p:cNvPicPr/>
          <p:nvPr/>
        </p:nvPicPr>
        <p:blipFill>
          <a:blip r:embed="rId1"/>
          <a:stretch/>
        </p:blipFill>
        <p:spPr>
          <a:xfrm>
            <a:off x="4788000" y="5157720"/>
            <a:ext cx="2158920" cy="1165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пог"/>
          <p:cNvPicPr/>
          <p:nvPr/>
        </p:nvPicPr>
        <p:blipFill>
          <a:blip r:embed="rId2"/>
          <a:stretch/>
        </p:blipFill>
        <p:spPr>
          <a:xfrm>
            <a:off x="324000" y="2205000"/>
            <a:ext cx="313056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250"/>
                            </p:stCondLst>
                            <p:childTnLst>
                              <p:par>
                                <p:cTn id="9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200"/>
                            </p:stCondLst>
                            <p:childTnLst>
                              <p:par>
                                <p:cTn id="10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15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450"/>
                            </p:stCondLst>
                            <p:childTnLst>
                              <p:par>
                                <p:cTn id="10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5"/>
          <p:cNvSpPr txBox="1"/>
          <p:nvPr/>
        </p:nvSpPr>
        <p:spPr>
          <a:xfrm>
            <a:off x="1258920" y="115920"/>
            <a:ext cx="6458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ебные собаки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95280" y="1916280"/>
            <a:ext cx="77770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роводники людей, помощники чаб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Охранники государственной границы и военных объе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омогают в поиске и задержании преступ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Участвуют в поисковой, спасательной и таможенной служб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9" descr="Собака живет дома у кинолога и проводит с ним круглые сутки."/>
          <p:cNvPicPr/>
          <p:nvPr/>
        </p:nvPicPr>
        <p:blipFill>
          <a:blip r:embed="rId1"/>
          <a:stretch/>
        </p:blipFill>
        <p:spPr>
          <a:xfrm>
            <a:off x="5940360" y="3514680"/>
            <a:ext cx="2552760" cy="3343320"/>
          </a:xfrm>
          <a:prstGeom prst="rect">
            <a:avLst/>
          </a:prstGeom>
          <a:ln w="0">
            <a:noFill/>
          </a:ln>
        </p:spPr>
      </p:pic>
      <p:sp>
        <p:nvSpPr>
          <p:cNvPr id="154" name="WordArt 8"/>
          <p:cNvSpPr txBox="1"/>
          <p:nvPr/>
        </p:nvSpPr>
        <p:spPr>
          <a:xfrm>
            <a:off x="5580000" y="6165720"/>
            <a:ext cx="3371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бака - спасатель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11" descr="Image1_0"/>
          <p:cNvPicPr/>
          <p:nvPr/>
        </p:nvPicPr>
        <p:blipFill>
          <a:blip r:embed="rId2"/>
          <a:stretch/>
        </p:blipFill>
        <p:spPr>
          <a:xfrm>
            <a:off x="4932360" y="115920"/>
            <a:ext cx="3672000" cy="33130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8"/>
          <p:cNvSpPr txBox="1"/>
          <p:nvPr/>
        </p:nvSpPr>
        <p:spPr>
          <a:xfrm>
            <a:off x="5076720" y="2924280"/>
            <a:ext cx="3372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бака - поводырь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Picture 13" descr="Image2_0"/>
          <p:cNvPicPr/>
          <p:nvPr/>
        </p:nvPicPr>
        <p:blipFill>
          <a:blip r:embed="rId3"/>
          <a:stretch/>
        </p:blipFill>
        <p:spPr>
          <a:xfrm>
            <a:off x="468360" y="115920"/>
            <a:ext cx="3960720" cy="34574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9"/>
          <p:cNvSpPr txBox="1"/>
          <p:nvPr/>
        </p:nvSpPr>
        <p:spPr>
          <a:xfrm>
            <a:off x="826920" y="2997360"/>
            <a:ext cx="3372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бака - ищейка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5" descr="Image3_0"/>
          <p:cNvPicPr/>
          <p:nvPr/>
        </p:nvPicPr>
        <p:blipFill>
          <a:blip r:embed="rId4"/>
          <a:stretch/>
        </p:blipFill>
        <p:spPr>
          <a:xfrm>
            <a:off x="395280" y="3645000"/>
            <a:ext cx="4753080" cy="3213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0"/>
          <p:cNvSpPr txBox="1"/>
          <p:nvPr/>
        </p:nvSpPr>
        <p:spPr>
          <a:xfrm>
            <a:off x="1042920" y="6237360"/>
            <a:ext cx="3371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аульные собаки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826920" y="2637000"/>
            <a:ext cx="64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900000" y="5157720"/>
            <a:ext cx="574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826920" y="3933720"/>
            <a:ext cx="576360" cy="10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835280" y="27082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- Министерство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908000" y="407664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- чрезвычайных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979640" y="537372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- ситуац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0" descr="эмб"/>
          <p:cNvPicPr/>
          <p:nvPr/>
        </p:nvPicPr>
        <p:blipFill>
          <a:blip r:embed="rId1"/>
          <a:stretch/>
        </p:blipFill>
        <p:spPr>
          <a:xfrm>
            <a:off x="1763640" y="189000"/>
            <a:ext cx="1914480" cy="2600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mcs_fl_pred"/>
          <p:cNvPicPr/>
          <p:nvPr/>
        </p:nvPicPr>
        <p:blipFill>
          <a:blip r:embed="rId2"/>
          <a:stretch/>
        </p:blipFill>
        <p:spPr>
          <a:xfrm>
            <a:off x="5003640" y="476280"/>
            <a:ext cx="3041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60"/>
                            </p:stCondLst>
                            <p:childTnLst>
                              <p:par>
                                <p:cTn id="1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120"/>
                            </p:stCondLst>
                            <p:childTnLst>
                              <p:par>
                                <p:cTn id="1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042920" y="260280"/>
            <a:ext cx="70581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рукавные знаки МЧС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Picture 5" descr="embMCS-5"/>
          <p:cNvPicPr/>
          <p:nvPr/>
        </p:nvPicPr>
        <p:blipFill>
          <a:blip r:embed="rId1"/>
          <a:stretch/>
        </p:blipFill>
        <p:spPr>
          <a:xfrm>
            <a:off x="4788000" y="1557360"/>
            <a:ext cx="1877760" cy="2535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embMCS-9"/>
          <p:cNvPicPr/>
          <p:nvPr/>
        </p:nvPicPr>
        <p:blipFill>
          <a:blip r:embed="rId2"/>
          <a:stretch/>
        </p:blipFill>
        <p:spPr>
          <a:xfrm>
            <a:off x="5435640" y="4292640"/>
            <a:ext cx="2206440" cy="2176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embMCS-12"/>
          <p:cNvPicPr/>
          <p:nvPr/>
        </p:nvPicPr>
        <p:blipFill>
          <a:blip r:embed="rId3"/>
          <a:stretch/>
        </p:blipFill>
        <p:spPr>
          <a:xfrm>
            <a:off x="6877080" y="1557360"/>
            <a:ext cx="1878120" cy="2535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embMCS-13"/>
          <p:cNvPicPr/>
          <p:nvPr/>
        </p:nvPicPr>
        <p:blipFill>
          <a:blip r:embed="rId4"/>
          <a:stretch/>
        </p:blipFill>
        <p:spPr>
          <a:xfrm>
            <a:off x="1403280" y="4292640"/>
            <a:ext cx="2192400" cy="2192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embMCS-11"/>
          <p:cNvPicPr/>
          <p:nvPr/>
        </p:nvPicPr>
        <p:blipFill>
          <a:blip r:embed="rId5"/>
          <a:stretch/>
        </p:blipFill>
        <p:spPr>
          <a:xfrm>
            <a:off x="2556000" y="1557360"/>
            <a:ext cx="2028600" cy="2533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embMCS-4"/>
          <p:cNvPicPr/>
          <p:nvPr/>
        </p:nvPicPr>
        <p:blipFill>
          <a:blip r:embed="rId6"/>
          <a:stretch/>
        </p:blipFill>
        <p:spPr>
          <a:xfrm>
            <a:off x="395280" y="1557360"/>
            <a:ext cx="18892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м"/>
          <p:cNvPicPr/>
          <p:nvPr/>
        </p:nvPicPr>
        <p:blipFill>
          <a:blip r:embed="rId1"/>
          <a:stretch/>
        </p:blipFill>
        <p:spPr>
          <a:xfrm>
            <a:off x="179280" y="3068640"/>
            <a:ext cx="4819680" cy="3616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мчс"/>
          <p:cNvPicPr/>
          <p:nvPr/>
        </p:nvPicPr>
        <p:blipFill>
          <a:blip r:embed="rId2"/>
          <a:stretch/>
        </p:blipFill>
        <p:spPr>
          <a:xfrm>
            <a:off x="179280" y="189000"/>
            <a:ext cx="5419800" cy="3612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спа"/>
          <p:cNvPicPr/>
          <p:nvPr/>
        </p:nvPicPr>
        <p:blipFill>
          <a:blip r:embed="rId3"/>
          <a:stretch/>
        </p:blipFill>
        <p:spPr>
          <a:xfrm>
            <a:off x="3492360" y="1628640"/>
            <a:ext cx="54230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2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4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1763640" y="189000"/>
            <a:ext cx="546732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полни корзину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new"/>
          <p:cNvPicPr/>
          <p:nvPr/>
        </p:nvPicPr>
        <p:blipFill>
          <a:blip r:embed="rId1"/>
          <a:stretch/>
        </p:blipFill>
        <p:spPr>
          <a:xfrm>
            <a:off x="324000" y="2637000"/>
            <a:ext cx="3411360" cy="3603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new"/>
          <p:cNvPicPr/>
          <p:nvPr/>
        </p:nvPicPr>
        <p:blipFill>
          <a:blip r:embed="rId2"/>
          <a:stretch/>
        </p:blipFill>
        <p:spPr>
          <a:xfrm>
            <a:off x="5364000" y="2637000"/>
            <a:ext cx="3411720" cy="36036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7"/>
          <p:cNvSpPr txBox="1"/>
          <p:nvPr/>
        </p:nvSpPr>
        <p:spPr>
          <a:xfrm>
            <a:off x="1835280" y="5589720"/>
            <a:ext cx="419040" cy="56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1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6948360" y="5589720"/>
            <a:ext cx="419400" cy="56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2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68360" y="191628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95280" y="3716280"/>
            <a:ext cx="3311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ыло трудн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интересн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5651640" y="3716280"/>
            <a:ext cx="29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нравилос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ыло интересн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12" descr="079513_337"/>
          <p:cNvPicPr/>
          <p:nvPr/>
        </p:nvPicPr>
        <p:blipFill>
          <a:blip r:embed="rId3"/>
          <a:srcRect l="0" t="58671" r="67560" b="0"/>
          <a:stretch/>
        </p:blipFill>
        <p:spPr>
          <a:xfrm rot="20241000">
            <a:off x="1258920" y="2205000"/>
            <a:ext cx="1417680" cy="146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b39"/>
          <p:cNvPicPr/>
          <p:nvPr/>
        </p:nvPicPr>
        <p:blipFill>
          <a:blip r:embed="rId4"/>
          <a:stretch/>
        </p:blipFill>
        <p:spPr>
          <a:xfrm>
            <a:off x="6300720" y="1989000"/>
            <a:ext cx="14367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new"/>
          <p:cNvPicPr/>
          <p:nvPr/>
        </p:nvPicPr>
        <p:blipFill>
          <a:blip r:embed="rId1"/>
          <a:stretch/>
        </p:blipFill>
        <p:spPr>
          <a:xfrm>
            <a:off x="179280" y="1773360"/>
            <a:ext cx="4397400" cy="464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0" descr="new"/>
          <p:cNvPicPr/>
          <p:nvPr/>
        </p:nvPicPr>
        <p:blipFill>
          <a:blip r:embed="rId2"/>
          <a:stretch/>
        </p:blipFill>
        <p:spPr>
          <a:xfrm>
            <a:off x="4572000" y="1844640"/>
            <a:ext cx="4397400" cy="4645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1" descr="b39"/>
          <p:cNvPicPr/>
          <p:nvPr/>
        </p:nvPicPr>
        <p:blipFill>
          <a:blip r:embed="rId3"/>
          <a:stretch/>
        </p:blipFill>
        <p:spPr>
          <a:xfrm>
            <a:off x="4932360" y="115920"/>
            <a:ext cx="1436760" cy="1452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2" descr="079513_337"/>
          <p:cNvPicPr/>
          <p:nvPr/>
        </p:nvPicPr>
        <p:blipFill>
          <a:blip r:embed="rId4"/>
          <a:srcRect l="0" t="58671" r="67560" b="0"/>
          <a:stretch/>
        </p:blipFill>
        <p:spPr>
          <a:xfrm rot="878400">
            <a:off x="3779640" y="1483920"/>
            <a:ext cx="1417320" cy="14605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3"/>
          <p:cNvSpPr/>
          <p:nvPr/>
        </p:nvSpPr>
        <p:spPr>
          <a:xfrm>
            <a:off x="1763640" y="5805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WordArt 35"/>
          <p:cNvSpPr txBox="1"/>
          <p:nvPr/>
        </p:nvSpPr>
        <p:spPr>
          <a:xfrm>
            <a:off x="2195640" y="5661000"/>
            <a:ext cx="4190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1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sp>
        <p:nvSpPr>
          <p:cNvPr id="195" name="WordArt 36"/>
          <p:cNvSpPr txBox="1"/>
          <p:nvPr/>
        </p:nvSpPr>
        <p:spPr>
          <a:xfrm>
            <a:off x="6732720" y="5661000"/>
            <a:ext cx="4190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latin typeface="Tahoma"/>
              </a:rPr>
              <a:t>2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latin typeface="Tahoma"/>
              <a:ea typeface="Tahoma"/>
            </a:endParaRPr>
          </a:p>
        </p:txBody>
      </p:sp>
      <p:pic>
        <p:nvPicPr>
          <p:cNvPr id="196" name="Picture 37" descr="079513_337"/>
          <p:cNvPicPr/>
          <p:nvPr/>
        </p:nvPicPr>
        <p:blipFill>
          <a:blip r:embed="rId5"/>
          <a:srcRect l="0" t="58671" r="67560" b="0"/>
          <a:stretch/>
        </p:blipFill>
        <p:spPr>
          <a:xfrm rot="1956000">
            <a:off x="6587640" y="260280"/>
            <a:ext cx="1417680" cy="1460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079513_337"/>
          <p:cNvPicPr/>
          <p:nvPr/>
        </p:nvPicPr>
        <p:blipFill>
          <a:blip r:embed="rId6"/>
          <a:srcRect l="0" t="58671" r="67560" b="0"/>
          <a:stretch/>
        </p:blipFill>
        <p:spPr>
          <a:xfrm rot="19427400">
            <a:off x="826920" y="404640"/>
            <a:ext cx="1417680" cy="1460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9" descr="b39"/>
          <p:cNvPicPr/>
          <p:nvPr/>
        </p:nvPicPr>
        <p:blipFill>
          <a:blip r:embed="rId7"/>
          <a:stretch/>
        </p:blipFill>
        <p:spPr>
          <a:xfrm rot="1431000">
            <a:off x="7706880" y="981000"/>
            <a:ext cx="1436760" cy="1452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0" descr="b39"/>
          <p:cNvPicPr/>
          <p:nvPr/>
        </p:nvPicPr>
        <p:blipFill>
          <a:blip r:embed="rId8"/>
          <a:stretch/>
        </p:blipFill>
        <p:spPr>
          <a:xfrm rot="20254200">
            <a:off x="2626920" y="259920"/>
            <a:ext cx="14367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-0.0158 0.55648 E">
                                      <p:cBhvr>
                                        <p:cTn id="1371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2.22222E-006 L 0.2519 0.57755 E">
                                      <p:cBhvr>
                                        <p:cTn id="1374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77778E-006 L -0.24427 0.46203 E">
                                      <p:cBhvr>
                                        <p:cTn id="1377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0.11823 0.59838 E">
                                      <p:cBhvr>
                                        <p:cTn id="1380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L -0.40938 0.59838 E">
                                      <p:cBhvr>
                                        <p:cTn id="1383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L -0.04721 0.45139 E">
                                      <p:cBhvr>
                                        <p:cTn id="1386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900000" y="692280"/>
            <a:ext cx="73771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работу!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1" name="Picture 5" descr="mult02"/>
          <p:cNvPicPr/>
          <p:nvPr/>
        </p:nvPicPr>
        <p:blipFill>
          <a:blip r:embed="rId1"/>
          <a:stretch/>
        </p:blipFill>
        <p:spPr>
          <a:xfrm>
            <a:off x="3276720" y="3716280"/>
            <a:ext cx="2305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539640" y="189000"/>
            <a:ext cx="82011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 профессии важны!</a:t>
            </a:r>
            <a:endParaRPr b="1" lang="en-US" sz="66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90600" y="4292640"/>
            <a:ext cx="87534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 профессии нужны!</a:t>
            </a:r>
            <a:endParaRPr b="1" lang="en-US" sz="66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6" descr="doc02"/>
          <p:cNvPicPr/>
          <p:nvPr/>
        </p:nvPicPr>
        <p:blipFill>
          <a:blip r:embed="rId1"/>
          <a:stretch/>
        </p:blipFill>
        <p:spPr>
          <a:xfrm>
            <a:off x="3564000" y="234936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133200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формационные источни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68360" y="1125360"/>
            <a:ext cx="77756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Агеева И.Д.Новые загадки про слова для всех детских праздников. М.: Сфера, 200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Сухин И. 800 загадок. 100 кроссвордов. М.: Новая школа, 199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Тян В.В. На ринг вызываются… - М.: «Патриот», 19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/ru.wikipedia.org/wik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.http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/wedomstwa – uniforma.narod.ru/mcs/prikaz 11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.http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www.emer.kz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/www.rosfoto.ru/photos/big/0079000/079513-337.jp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/foto-sobaki.narod.ru/images/foto-sobaki.narod.ru3311.jp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//www.gifpark.ru/CO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539640" y="33336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№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- Кто считает, что о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ало знает о профессиях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 хотел бы ещё больше узна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11280" y="2492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Tahoma"/>
              </a:rPr>
              <a:t>№</a:t>
            </a:r>
            <a:r>
              <a:rPr b="1" lang="ru-RU" sz="3600" spc="-1" strike="noStrike" u="sng">
                <a:solidFill>
                  <a:srgbClr val="000099"/>
                </a:solidFill>
                <a:uFillTx/>
                <a:latin typeface="Tahoma"/>
              </a:rPr>
              <a:t>2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 Кто знает профессии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но ещё не вс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11280" y="4149720"/>
            <a:ext cx="74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ahoma"/>
              </a:rPr>
              <a:t>№</a:t>
            </a:r>
            <a:r>
              <a:rPr b="1" lang="ru-RU" sz="3600" spc="-1" strike="noStrike" u="sng">
                <a:solidFill>
                  <a:srgbClr val="cc0000"/>
                </a:solidFill>
                <a:uFillTx/>
                <a:latin typeface="Tahoma"/>
              </a:rPr>
              <a:t>3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 Кто всё знает о профессиях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и будет мне сегодня мног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помога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611280" y="692280"/>
            <a:ext cx="734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то род трудовой деятельности, занятий, требующий определённой подготовки и являющийся обычно источником существования, это то, чем человек занимаетс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о-другому, это его работа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ru-RU" sz="3600" spc="-1" strike="noStrike">
                <a:solidFill>
                  <a:srgbClr val="ff9933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189000"/>
            <a:ext cx="40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я –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619280" y="260280"/>
            <a:ext cx="5533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ьные профессии :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76360" y="226692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11280" y="1700280"/>
            <a:ext cx="417672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завхо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лабора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уборщиц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пова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библиотекар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Рисунок 7" descr="Image6_0.tmp"/>
          <p:cNvPicPr/>
          <p:nvPr/>
        </p:nvPicPr>
        <p:blipFill>
          <a:blip r:embed="rId1"/>
          <a:stretch/>
        </p:blipFill>
        <p:spPr>
          <a:xfrm>
            <a:off x="5786280" y="1143000"/>
            <a:ext cx="25718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619280" y="260280"/>
            <a:ext cx="5533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дицинские профессии :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95280" y="1338120"/>
            <a:ext cx="457200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л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окули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хирур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стоматоло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терапев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кардиоло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Рисунок 6" descr="Image7_0.tmp"/>
          <p:cNvPicPr/>
          <p:nvPr/>
        </p:nvPicPr>
        <p:blipFill>
          <a:blip r:embed="rId1"/>
          <a:stretch/>
        </p:blipFill>
        <p:spPr>
          <a:xfrm>
            <a:off x="5072040" y="1357200"/>
            <a:ext cx="3429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Новая форма для российских военнослужащи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197000"/>
            <a:ext cx="3114720" cy="495288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1908000" y="260280"/>
            <a:ext cx="5534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еннослужащие : 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79280" y="1413000"/>
            <a:ext cx="6264360" cy="57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марша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генера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полковн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подполковн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май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капит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старший лейтена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0033"/>
                </a:solidFill>
                <a:latin typeface="Tahoma"/>
              </a:rPr>
              <a:t>лейтена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4"/>
          <p:cNvSpPr/>
          <p:nvPr/>
        </p:nvSpPr>
        <p:spPr>
          <a:xfrm>
            <a:off x="468360" y="260280"/>
            <a:ext cx="4390920" cy="1656000"/>
          </a:xfrm>
          <a:prstGeom prst="cloudCallout">
            <a:avLst>
              <a:gd name="adj1" fmla="val -44467"/>
              <a:gd name="adj2" fmla="val 70037"/>
            </a:avLst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 него товаров горы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гурцы и помидоры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абачки, капуста, мёд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сё он людям продаё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476360" y="3645000"/>
            <a:ext cx="4537080" cy="1727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 малышами я вожусь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 ними провожу все д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икогда я не сержус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 проделки ребятн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4500720" y="907920"/>
            <a:ext cx="4392360" cy="201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згребает снег лопато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дметает двор метл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гадались вы, ребят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то следит за чистотой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9" descr="j0397560"/>
          <p:cNvPicPr/>
          <p:nvPr/>
        </p:nvPicPr>
        <p:blipFill>
          <a:blip r:embed="rId1"/>
          <a:stretch/>
        </p:blipFill>
        <p:spPr>
          <a:xfrm>
            <a:off x="2340000" y="2565360"/>
            <a:ext cx="33145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0"/>
          <p:cNvGrpSpPr/>
          <p:nvPr/>
        </p:nvGrpSpPr>
        <p:grpSpPr>
          <a:xfrm>
            <a:off x="2340000" y="5300640"/>
            <a:ext cx="926640" cy="1239840"/>
            <a:chOff x="2340000" y="5300640"/>
            <a:chExt cx="926640" cy="1239840"/>
          </a:xfrm>
        </p:grpSpPr>
        <p:pic>
          <p:nvPicPr>
            <p:cNvPr id="66" name="Picture 11" descr="j0349111"/>
            <p:cNvPicPr/>
            <p:nvPr/>
          </p:nvPicPr>
          <p:blipFill>
            <a:blip r:embed="rId2"/>
            <a:stretch/>
          </p:blipFill>
          <p:spPr>
            <a:xfrm>
              <a:off x="2340000" y="5300640"/>
              <a:ext cx="92664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Freeform 12"/>
            <p:cNvSpPr/>
            <p:nvPr/>
          </p:nvSpPr>
          <p:spPr>
            <a:xfrm flipV="1" rot="20785800">
              <a:off x="2629080" y="5803200"/>
              <a:ext cx="76320" cy="71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-360 h 71640"/>
                <a:gd name="textAreaBottom" fmla="*/ 71640 h 7164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8" name="Group 16"/>
          <p:cNvGrpSpPr/>
          <p:nvPr/>
        </p:nvGrpSpPr>
        <p:grpSpPr>
          <a:xfrm>
            <a:off x="971640" y="5300640"/>
            <a:ext cx="1054800" cy="1258920"/>
            <a:chOff x="971640" y="5300640"/>
            <a:chExt cx="1054800" cy="1258920"/>
          </a:xfrm>
        </p:grpSpPr>
        <p:grpSp>
          <p:nvGrpSpPr>
            <p:cNvPr id="69" name="Group 17"/>
            <p:cNvGrpSpPr/>
            <p:nvPr/>
          </p:nvGrpSpPr>
          <p:grpSpPr>
            <a:xfrm>
              <a:off x="971640" y="5300640"/>
              <a:ext cx="1054800" cy="1258920"/>
              <a:chOff x="971640" y="5300640"/>
              <a:chExt cx="1054800" cy="1258920"/>
            </a:xfrm>
          </p:grpSpPr>
          <p:pic>
            <p:nvPicPr>
              <p:cNvPr id="70" name="Picture 18" descr="j0349105"/>
              <p:cNvPicPr/>
              <p:nvPr/>
            </p:nvPicPr>
            <p:blipFill>
              <a:blip r:embed="rId3"/>
              <a:stretch/>
            </p:blipFill>
            <p:spPr>
              <a:xfrm>
                <a:off x="971640" y="5300640"/>
                <a:ext cx="961200" cy="12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19" descr="j0435811"/>
              <p:cNvPicPr/>
              <p:nvPr/>
            </p:nvPicPr>
            <p:blipFill>
              <a:blip r:embed="rId4"/>
              <a:stretch/>
            </p:blipFill>
            <p:spPr>
              <a:xfrm>
                <a:off x="1657800" y="5660280"/>
                <a:ext cx="368640" cy="630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" name="Freeform 20"/>
            <p:cNvSpPr/>
            <p:nvPr/>
          </p:nvSpPr>
          <p:spPr>
            <a:xfrm flipH="1" flipV="1" rot="814200">
              <a:off x="1476720" y="5803200"/>
              <a:ext cx="76320" cy="70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-360 h 70200"/>
                <a:gd name="textAreaBottom" fmla="*/ 70200 h 7020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3" name="Group 45"/>
          <p:cNvGrpSpPr/>
          <p:nvPr/>
        </p:nvGrpSpPr>
        <p:grpSpPr>
          <a:xfrm>
            <a:off x="5054400" y="333360"/>
            <a:ext cx="3622680" cy="4797000"/>
            <a:chOff x="5054400" y="333360"/>
            <a:chExt cx="3622680" cy="4797000"/>
          </a:xfrm>
        </p:grpSpPr>
        <p:pic>
          <p:nvPicPr>
            <p:cNvPr id="74" name="Picture 46" descr="MCj01984570000[1]"/>
            <p:cNvPicPr/>
            <p:nvPr/>
          </p:nvPicPr>
          <p:blipFill>
            <a:blip r:embed="rId5"/>
            <a:stretch/>
          </p:blipFill>
          <p:spPr>
            <a:xfrm flipH="1">
              <a:off x="5369400" y="333360"/>
              <a:ext cx="3307680" cy="47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7" descr="MCj03523840000[1]"/>
            <p:cNvPicPr/>
            <p:nvPr/>
          </p:nvPicPr>
          <p:blipFill>
            <a:blip r:embed="rId6"/>
            <a:stretch/>
          </p:blipFill>
          <p:spPr>
            <a:xfrm flipH="1" rot="4233600">
              <a:off x="5326560" y="3519360"/>
              <a:ext cx="1243080" cy="14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AutoShape 48"/>
          <p:cNvSpPr/>
          <p:nvPr/>
        </p:nvSpPr>
        <p:spPr>
          <a:xfrm>
            <a:off x="2843280" y="4005360"/>
            <a:ext cx="5256000" cy="2232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ы защитник стран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ренированы, силь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граничники, танкист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оряки, артиллерист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лужбу мы несём везд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 земле и на вод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9" descr="Image3_0"/>
          <p:cNvPicPr/>
          <p:nvPr/>
        </p:nvPicPr>
        <p:blipFill>
          <a:blip r:embed="rId7"/>
          <a:stretch/>
        </p:blipFill>
        <p:spPr>
          <a:xfrm>
            <a:off x="1835280" y="1916280"/>
            <a:ext cx="4752720" cy="32130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50"/>
          <p:cNvSpPr/>
          <p:nvPr/>
        </p:nvSpPr>
        <p:spPr>
          <a:xfrm>
            <a:off x="1187280" y="1700280"/>
            <a:ext cx="4824720" cy="1873080"/>
          </a:xfrm>
          <a:prstGeom prst="cloudCallout">
            <a:avLst>
              <a:gd name="adj1" fmla="val -44407"/>
              <a:gd name="adj2" fmla="val 88388"/>
            </a:avLst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н с утра в столовой нашей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арит суп, компот и каш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51" descr="MCj04062360000[1]"/>
          <p:cNvPicPr/>
          <p:nvPr/>
        </p:nvPicPr>
        <p:blipFill>
          <a:blip r:embed="rId8"/>
          <a:stretch/>
        </p:blipFill>
        <p:spPr>
          <a:xfrm>
            <a:off x="4427640" y="836640"/>
            <a:ext cx="3698640" cy="37116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2"/>
          <p:cNvSpPr/>
          <p:nvPr/>
        </p:nvSpPr>
        <p:spPr>
          <a:xfrm>
            <a:off x="395280" y="3789360"/>
            <a:ext cx="5256360" cy="1944720"/>
          </a:xfrm>
          <a:prstGeom prst="cloudCallout">
            <a:avLst>
              <a:gd name="adj1" fmla="val -44018"/>
              <a:gd name="adj2" fmla="val 83222"/>
            </a:avLst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н вылечит корь, и бронхит, и ангин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опишет пилюли и витами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1" name="Group 53"/>
          <p:cNvGrpSpPr/>
          <p:nvPr/>
        </p:nvGrpSpPr>
        <p:grpSpPr>
          <a:xfrm>
            <a:off x="3276720" y="981000"/>
            <a:ext cx="2003040" cy="3644640"/>
            <a:chOff x="3276720" y="981000"/>
            <a:chExt cx="2003040" cy="3644640"/>
          </a:xfrm>
        </p:grpSpPr>
        <p:pic>
          <p:nvPicPr>
            <p:cNvPr id="82" name="Picture 54" descr="j0424160"/>
            <p:cNvPicPr/>
            <p:nvPr/>
          </p:nvPicPr>
          <p:blipFill>
            <a:blip r:embed="rId9"/>
            <a:stretch/>
          </p:blipFill>
          <p:spPr>
            <a:xfrm>
              <a:off x="3276720" y="1196640"/>
              <a:ext cx="200304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55"/>
            <p:cNvSpPr/>
            <p:nvPr/>
          </p:nvSpPr>
          <p:spPr>
            <a:xfrm>
              <a:off x="3662640" y="981000"/>
              <a:ext cx="1008720" cy="6458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" name="AutoShape 57"/>
          <p:cNvSpPr/>
          <p:nvPr/>
        </p:nvSpPr>
        <p:spPr>
          <a:xfrm>
            <a:off x="4140360" y="2565360"/>
            <a:ext cx="4752720" cy="2879640"/>
          </a:xfrm>
          <a:prstGeom prst="cloudCallout">
            <a:avLst>
              <a:gd name="adj1" fmla="val -35236"/>
              <a:gd name="adj2" fmla="val 58046"/>
            </a:avLst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н приучает детишек к порядк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н проверяет ребячьи тетрад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учит детей и читать, и писать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 складывать цифры, и вычита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8" descr="SDC10301_0"/>
          <p:cNvPicPr/>
          <p:nvPr/>
        </p:nvPicPr>
        <p:blipFill>
          <a:blip r:embed="rId10"/>
          <a:stretch/>
        </p:blipFill>
        <p:spPr>
          <a:xfrm>
            <a:off x="1258920" y="620640"/>
            <a:ext cx="3143160" cy="39528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9"/>
          <p:cNvSpPr/>
          <p:nvPr/>
        </p:nvSpPr>
        <p:spPr>
          <a:xfrm>
            <a:off x="2411280" y="333360"/>
            <a:ext cx="4681800" cy="1871640"/>
          </a:xfrm>
          <a:prstGeom prst="cloudCallout">
            <a:avLst>
              <a:gd name="adj1" fmla="val -37486"/>
              <a:gd name="adj2" fmla="val 240074"/>
            </a:avLst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ы работаем бригадой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м везут песок, бето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ружно потрудиться надо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Чтоб построить новый до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0" descr="Image1_0"/>
          <p:cNvPicPr/>
          <p:nvPr/>
        </p:nvPicPr>
        <p:blipFill>
          <a:blip r:embed="rId11"/>
          <a:stretch/>
        </p:blipFill>
        <p:spPr>
          <a:xfrm>
            <a:off x="2843280" y="1125360"/>
            <a:ext cx="3657600" cy="36291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1"/>
          <p:cNvSpPr/>
          <p:nvPr/>
        </p:nvSpPr>
        <p:spPr>
          <a:xfrm>
            <a:off x="1908000" y="1773360"/>
            <a:ext cx="4248360" cy="1871640"/>
          </a:xfrm>
          <a:prstGeom prst="cloudCallout">
            <a:avLst>
              <a:gd name="adj1" fmla="val -43759"/>
              <a:gd name="adj2" fmla="val 73069"/>
            </a:avLst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еном, щёткой  и расчё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овко сделает причёск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2" descr="Image3_0"/>
          <p:cNvPicPr/>
          <p:nvPr/>
        </p:nvPicPr>
        <p:blipFill>
          <a:blip r:embed="rId12"/>
          <a:stretch/>
        </p:blipFill>
        <p:spPr>
          <a:xfrm>
            <a:off x="3492360" y="1125360"/>
            <a:ext cx="2248200" cy="380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3" descr="Image1_0"/>
          <p:cNvPicPr/>
          <p:nvPr/>
        </p:nvPicPr>
        <p:blipFill>
          <a:blip r:embed="rId13"/>
          <a:stretch/>
        </p:blipFill>
        <p:spPr>
          <a:xfrm>
            <a:off x="1979640" y="1197000"/>
            <a:ext cx="50450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500"/>
                            </p:stCondLst>
                            <p:childTnLst>
                              <p:par>
                                <p:cTn id="4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6"/>
          <p:cNvSpPr txBox="1"/>
          <p:nvPr/>
        </p:nvSpPr>
        <p:spPr>
          <a:xfrm>
            <a:off x="324000" y="333360"/>
            <a:ext cx="2232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8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80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87640" y="476280"/>
            <a:ext cx="583236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вар, писатель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ртной, певец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тичница, пастух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человод, пожарный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одавец, прачка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сол, президент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оводник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3:22:01Z</dcterms:created>
  <dc:creator>Танюха</dc:creator>
  <dc:description/>
  <dc:language>en-US</dc:language>
  <cp:lastModifiedBy>5</cp:lastModifiedBy>
  <dcterms:modified xsi:type="dcterms:W3CDTF">2015-01-30T03:27:23Z</dcterms:modified>
  <cp:revision>38</cp:revision>
  <dc:subject/>
  <dc:title>Слайд 1</dc:title>
</cp:coreProperties>
</file>