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12B-1F6B-4B02-9E03-E3572959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77A-06F9-4085-8AC6-C7257230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0AE-588E-43C6-B691-E96D30D9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FDF-8E1D-446C-9B97-5B102835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840-6811-4A12-B64D-41FCC441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FBA-F568-4A9C-87C2-2A21626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517-3E8D-48D9-9606-0175902F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575-8B76-46E3-AD68-DD407825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7D4-E17F-427D-9180-B406D850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53F-199C-4179-8319-7541EFA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23E-C556-4C48-8008-BC8D8483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C71-1D94-4DB3-BFC2-FE1D4304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07FF-A19F-4A8E-8FC9-C7A091CAE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port.rin.ru/html/rools_5-4" TargetMode="External"/><Relationship Id="rId3" Type="http://schemas.openxmlformats.org/officeDocument/2006/relationships/hyperlink" Target="http://dic.academic.ru/dic.nsf/bse/67613/&#1041;&#1072;&#1089;&#1082;&#1077;&#1090;&#1073;&#1086;&#1083;" TargetMode="External"/><Relationship Id="rId4" Type="http://schemas.openxmlformats.org/officeDocument/2006/relationships/hyperlink" Target="http://basketb.wordpress.com/" TargetMode="External"/><Relationship Id="rId5" Type="http://schemas.openxmlformats.org/officeDocument/2006/relationships/hyperlink" Target="http://top-desktop.ru/files/sport/800/83.jpg" TargetMode="External"/><Relationship Id="rId6" Type="http://schemas.openxmlformats.org/officeDocument/2006/relationships/hyperlink" Target="http://olympus.ourlife.ru/gallery/data/media/35/0783-copy.jpg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1261080" y="2780280"/>
            <a:ext cx="5545080" cy="136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2000"/>
                  </a:srgbClr>
                </a:solidFill>
                <a:latin typeface="Arial"/>
              </a:rPr>
              <a:t>Баске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2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Контроль мяч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грок контролирует мяч, когда он держит или ведет живой мяч, или живой мяч находится в его распоря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Команда контролирует мяч, когда Игрок этой команды контролирует живой мяч или Игроки этой команды передают мяч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71492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Правил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56000" y="148428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Мяч, заброшенный с площадки, засчитывается команде, атакующей корзину, в которую он заброшен,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За мяч, заброшенный со штрафного броска, засчитывается одно (1) оч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За мяч, заброшенный с игры, из 2-х очковой зоны засчитывается два (2) о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За мяч, заброшенный из 3-х очковой зоны, засчитывается три (3) 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Если Игрок случайно забрасывает мяч с площадки в свою корзину, очки записываются Капитану соперников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Зона трехочковых бро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860480"/>
            <a:ext cx="5435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Зоной трехочковых бросков с игры для команды является вся игровая площадка, за исключением области около корзины соперника, ограниченно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Двумя параллельными линиями, начинающимся с лицевой линии на расстоянии 6.25 м от точки на площадке, полученной на пересечении с ней перпендикуляра, опущенного из центра корзины соперника. Расстояние от этой точки до внутреннего края середины лицевой линии равно 1.575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Полукругом радиусом 6.25 м до внешнего края его линии с центром в той же точке, что указана выше, до соединения с параллельными ли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333600" cy="277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43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Ведение начинается, когда Игрок, получивший контроль над живым мячом на площадке, бросает, отбивает его в пол или катит его по полу и касается мяча опять, прежде, чем его коснется другой Иг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Ведение заканчивается в тот момент, когда Игрок касается мяча одновременно двумя руками или допускает задержку мяча в одной или обеих ру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При ведении мяч может быть подброшен в воздух при условии, что мяч коснется пола раньше, чем Игрок снова коснется мяча своей ру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Число шагов, которые Игрок может сделать, когда мяч не находится в контакте с его рукой, не ограниче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Следующие действия не являются ведени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Последовательные броски в корзину против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Случайная потеря мяча в начале или в конце 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Попытки установить контроль над мячом путем выбивания его из области расположения других Игр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Выбивание мяча из-под контроля другого Игро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Препятствование передаче и перехват мяч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Перебрасывание мяча из руки (рук) в руку (руки) и задержка его прежде, чем он коснется пола, при условии, что Игрок не совершает нарушения в передвижении с мяч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57960" y="1197000"/>
            <a:ext cx="3686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Пробеж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620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Пробежка - запрещенное перемещение одной или обеих ног в любом направлении, во время контроля живого мяча на площа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2230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80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Три секун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71280" y="3860640"/>
            <a:ext cx="615636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грок не должен оставаться более трех (3) секунд подряд в ограниченной зоне соперника, когда его команда контролирует живой мяч на площадке и игровые часы включ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Для того, чтобы Игрок рассматривался находящимся вне ограниченной зоны, он должен расположить обе ноги на полу вне эт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240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Ф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000" y="134136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Фол - это несоблюдение Правил, вследствие персонального контакта с соперником и/или неспортивного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Фол фиксируется провинившемуся и наказывается согласно положениям соответствующей статьи Правил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7037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Наказани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679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нападении, никакие очки не засчитываются и мяч передается сопернику для вбрасывания из-за пределов площадки напротив линии штрафного бро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защите, атакующей команде засчитыва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два (2) очка, если мяч был выпущен из 2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три (3) очка, если мяч был выпущен из 3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Засчитывание мяча и последующая процедура таковы, как в случае попадания мяча в корз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одновременно Игроками обеих команд, никакие очки не засчитываются. Игра возобновляется спорным брос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Штрафные броск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6421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Штрафной бросок - это возможность, предоставляемая Игроку, набрать одно (1) очко броском в корзину без помех с позиции за линией штрафного броска и внутри полукру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Серия штрафных бросков - это все штрафные броски в результате наказания за один фо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Штрафной бросок и все действия, связанные с ним, заканчиваются, когда мяч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Входит непосредственно в корзину сверху, остается в ней или проходит сквозь не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Не имеет больше возможности попасть в корзину непосредственно или после касани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Правильно был сыгран Игроком после того, как коснулс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Касается по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121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3333960" cy="2076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420800" y="3284640"/>
            <a:ext cx="40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хождение игроков при штрафном брос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444760" cy="2963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Развитие баскетбольных навыков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8930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Стоя на месте. Ведение вокруг корпу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2. Стоя на месте. Ведение вокруг и между но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3. Стоя на месте. Разновысокое ведение. Несколько ударов с высотой отскока 60-80 см и сразу же переход на низкое ведение с высотой отскока 10-15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4. Стоя на месте. Очень частое низкое ведение попеременно левой и правой ру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5. Стоя на месте. Ведение дву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6. Стоя на месте. Ведение трех-четыре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7. Сидя на скамейке. Очень низкое ведение, высота отскока не более 5-7 см от п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8. Сидя на скамейке. Ведение мяча под вытянутыми вперед ногами в быстром тем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9. Бег на нос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10. Бег на пят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11. Бег на краях стопы (поочередно внешнем и внутреннем)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12. Бег в полуприседе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зентация подготовлена учителем физической культуры первой квалификационной категории МОУ «СОШ №1 г. Калининска»Шараповым Г.Г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67280" y="404280"/>
            <a:ext cx="4619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о спортивной игрой -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 основными  правилами игры в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учить навыкам владения элементами техники баскет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3. Передвижение в глубоком приседе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4. Спортивная ходьба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5. Гладкий бег с поворотами и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6. Гладкий бег с переводами мяча с руки на руку перед собой, за спиной и между ног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7. Бег приставными шагами: мяч проходит между ногами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8. Бег окрестным шагом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9. Бег спиной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. Передвижение спиной вперед в глубоком приседе с поворотами на 90* с ведением мяча. Таким образом тренируется пивотный ша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1. Бег с выбрасыванием прямых ног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2. Бег взахлест наза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3. Бег с высоким подниманием бедра. Мяч переводится с руки на руку ударом под ногой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4. Передвижение попеременными прыжками с ноги на ногу с ведением мя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Тренировка брос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691920"/>
            <a:ext cx="439272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Броски из-под щита. Игроки выстраиваются в две колонны. В каждой колонне по два - три мяча. После ведения головной игрок забрасывает мяч и передает его в свою колонну. Затем переходит в хвост другой колонны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2. Броски из-под кольца с препятствием. Игрок отдает мяч тренеру, разбегается к кольцу, получает ответную передачу, делает два шага, перепрыгивая через стул, и бросает по кольцу. Задача: при броске выпрыгнуть максимально вверх, не задеть стул и быть готовым к борьбе на щите. Упражнение воспитывает у игроков стремление завершать бросок из-под кольца в высшей точке прыжка, оставаться в игре после броска и участвовать в борьбе за отскок на чужом щите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3. То же, что и упр. 2, но тренер передает игроку мяч для завершения атаки в одном прыж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05080" cy="609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653200" y="26028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Техника выполнения бр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477040" cy="6248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Броски со средней дистанции без сопротивления. Игрок ведет мяч от центра поля к линии штрафного броска, выполняет бросок в прыжке, идет на подбор, в случае промаха добивает мяч в кольцо, вновь подбирает его и с ведением возвращается к линии штрафного броска. Повторить 10-15 раз подряд в быстром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5. То же, что и упр. 4, но ведение начинается от лицевой линии к линии штрафного броска и бросок выполняется с поворотом на 180*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6. То же, что и упр. 4, но бросок выполняется с расстояния 5-6-8 м, с раз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7. То же, что и упр. 6, но после выполнения передачи от ст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Улыбнемся вместе.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                           Последний уд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08720" y="3013200"/>
            <a:ext cx="3370320" cy="384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282840" cy="38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211640" y="1341360"/>
            <a:ext cx="41767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Удачной иг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port.rin.ru/html/rools_5-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mlhttp://sport.rin.ru/images/rools/-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ic.academic.ru/dic.nsf/bse/67613/Баскетб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asketb.wordpress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top-desktop.ru/files/sport/800/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olympus.ourlife.ru/gallery/data/media/35/0783-cop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Физкультура и Спорт малая энциклопедия (Гусевой Г.В., Кондрашовой Н.М., Милютина В.П., 1992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портивные игры. Учебник для физ. ин-тов. Под ред. Портных Ю. И.М. 1975г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Баскетбол учебник для физкультурных институтов. Под ред. Н.В. Семашко. "Физкультура и спорт", 197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4. Упражнения в баскетболе. "Физкультура и спорт", 197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ратко о баскетболе можно сказать, что это спортивная командная игра, в которой игроки забрасывают мяч в "корзину", состоящую из кольца с сеткой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одиной баскетбола являются Соединенные Штаты Америки. Игра была придумана в 1891 году в учебном центре Христианской молодежной ассоциации в Спрингфилде, штат Массачусетс. Чтобы оживить уроки по гимнастике, молодой преподаватель, уроженец Канады, доктор Дисеймс Нейсмит придумал новую игру. Он прикрепил к перилам балкона две фруктовые корзины без дна, в которые нужно было забрасывать футбольный мяч (basket - корзина, boll - мяч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Игра Баскетбо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4000" y="981000"/>
            <a:ext cx="504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 баскетбол играют две (2) команды, в каждой из которых по пять (5) игроков. Цель каждой команды - забросить мяч в корзину соперника и помешать другой команде овладеть мячом, и забросить его в корз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2 Корзина: своя/сопер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орзина, которую команда атакует, является корзиной соперника, а корзина, которую та же команда защищает, называется собственной корзиной кома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3 Перемещение мя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Мяч можно передавать, бросать, отбивать, катить или вести в любом направлении при условии соблюдения положений соответствующих статей, изложенных Прави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4 Победитель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бедителем игры становится команда, которая по окончании игрового времени четвертого периода или, если необходимо, дополнительного(-ых) периода(-ов) набрала большее количество о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2054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Площадка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и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 размеры л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гровая площадка должна представлять собой плоскую прямоугольную твердую поверхность без каких-либо препятствий Для главных официальных соревнований ФИБА, а также для строящихся новых игровых площадок размеры, измеренные от внутреннего края ограничительных линий, должны быть 28 метров в длину и 15 метров ши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4762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Щиты и опоры 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36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Размеры щитов должны быть: 1,80 м по горизонтали и 1,05 м по вертикали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2000" y="2492280"/>
            <a:ext cx="2879640" cy="200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47023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19280" y="259920"/>
            <a:ext cx="482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аждая команда должна состоять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Не более чем десяти (10) членов команды, имеющих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Тренера и, по желанию команды, помощника трен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апитана, который должен быть одним из членов команды, имеющего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Пять (5) Игроков каждой команды должны находиться на площадке в течение игрового времени и они могут быть замен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316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Игровое время, ничейный счет и дополнительные периоды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гра состоит из четырех (4) периодов по десять (10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ервым и вторым, третьим и четвертым периодами игры и перед каждым дополнительным периодом составляет две (2) мину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оловинами игры - пятнадцать (15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Как играют мячом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24360" y="764640"/>
            <a:ext cx="4402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В баскетболе мячом играют только ру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Бежать с мячом, преднамеренно бить по нему ногой, блокировать любой частью ноги или бить по нему кулаком является наруш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Случайное соприкосновение или касание мяча стопой или ногой не является наруш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940360" y="4508640"/>
            <a:ext cx="295128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29:03Z</dcterms:created>
  <dc:creator>Admin</dc:creator>
  <dc:description/>
  <dc:language>en-US</dc:language>
  <cp:lastModifiedBy>Admin</cp:lastModifiedBy>
  <dcterms:modified xsi:type="dcterms:W3CDTF">2002-11-25T00:41:34Z</dcterms:modified>
  <cp:revision>4</cp:revision>
  <dc:subject/>
  <dc:title>Слайд 1</dc:title>
</cp:coreProperties>
</file>