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752D-705D-4ACE-BAA8-1174355741E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7972-DBE4-4BA8-A35F-1B2EDCAEFE2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C2B9-AFC1-43E6-80B8-EF57C6621DC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8744-614B-4685-A36E-DC0E54FA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E1C0-C846-442B-99E3-44A533BE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86C-4957-4244-BB78-264208D4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E24-26EB-4219-BBE5-5934E806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A9E7-A1E2-4BDA-A116-4A41496A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76DF-F69C-4E26-B92C-3A70F248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7B2C-7580-4A03-8416-8C2D6AA2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A6C9-4492-42BD-A98D-4AA6E83B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0FBB-01C2-44C4-817F-3F52833F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B612-5A5F-4ED1-974E-52C1CA41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6C1F-9E4C-4908-8823-EE470FB2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32E5-3E36-475F-A067-1EE40D45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E1F8-3BCD-491C-906D-685BDD8E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6484-B3FC-4821-8542-8455C9E0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D13C-1768-4CCB-879B-1DF10A44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2601-6AB3-4440-A993-1482B980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6490-60BA-4EA7-AF6F-4E61235E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F0CD-A42F-45A9-983F-E886652D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449-4348-4E8A-BFE6-8135F62D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1EC-1D21-419E-852F-2F62BB0D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3E1-64F0-4284-A4A2-97DF490F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4ED-6EDA-4587-B33E-23977179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C6A3-99DC-429A-85FB-1042824A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A13-3DBF-4CE7-9B4A-847FF7D9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EF10-9723-44C5-8843-68D9B98D9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3C54-3296-4CC4-AA0F-2D5C5F9E23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.jpeg"/><Relationship Id="rId3" Type="http://schemas.openxmlformats.org/officeDocument/2006/relationships/slide" Target="slide12.xml"/><Relationship Id="rId4" Type="http://schemas.openxmlformats.org/officeDocument/2006/relationships/image" Target="../media/image4.jpeg"/><Relationship Id="rId5" Type="http://schemas.openxmlformats.org/officeDocument/2006/relationships/slide" Target="slide4.xml"/><Relationship Id="rId6" Type="http://schemas.openxmlformats.org/officeDocument/2006/relationships/image" Target="../media/image5.jpeg"/><Relationship Id="rId7" Type="http://schemas.openxmlformats.org/officeDocument/2006/relationships/slide" Target="slide8.xml"/><Relationship Id="rId8" Type="http://schemas.openxmlformats.org/officeDocument/2006/relationships/image" Target="../media/image6.jpeg"/><Relationship Id="rId9" Type="http://schemas.openxmlformats.org/officeDocument/2006/relationships/slide" Target="slide9.xml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3"/>
          <p:cNvSpPr/>
          <p:nvPr/>
        </p:nvSpPr>
        <p:spPr>
          <a:xfrm>
            <a:off x="1187280" y="4005360"/>
            <a:ext cx="6624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785880" y="21420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1" name="AutoShape 19"/>
          <p:cNvCxnSpPr/>
          <p:nvPr/>
        </p:nvCxnSpPr>
        <p:spPr>
          <a:xfrm>
            <a:off x="8819640" y="5660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92" name="AutoShape 21"/>
          <p:cNvSpPr/>
          <p:nvPr/>
        </p:nvSpPr>
        <p:spPr>
          <a:xfrm rot="10800000">
            <a:off x="0" y="285840"/>
            <a:ext cx="9144000" cy="62863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162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ahoma"/>
              </a:rPr>
              <a:t>«Таганрога я не  миную…»</a:t>
            </a:r>
            <a:r>
              <a:rPr b="1" lang="ru-RU" sz="40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ahoma"/>
              </a:rPr>
              <a:t>Виртуальная экскурс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ahoma"/>
              </a:rPr>
              <a:t>на родину А.П.Чех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ahoma"/>
              </a:rPr>
              <a:t>Подготовила: воспитатель первой категор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ahoma"/>
              </a:rPr>
              <a:t>МБДОУ  д/с  № 36 г. Таганро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ahoma"/>
              </a:rPr>
              <a:t>Дутченко Н.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Содержимое 2" descr="0_7f4e4_343bf2b3_XL.jpg"/>
          <p:cNvPicPr/>
          <p:nvPr/>
        </p:nvPicPr>
        <p:blipFill>
          <a:blip r:embed="rId1"/>
          <a:stretch/>
        </p:blipFill>
        <p:spPr>
          <a:xfrm>
            <a:off x="1214280" y="285840"/>
            <a:ext cx="7143840" cy="628632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Группа 10"/>
          <p:cNvGrpSpPr/>
          <p:nvPr/>
        </p:nvGrpSpPr>
        <p:grpSpPr>
          <a:xfrm>
            <a:off x="428760" y="285840"/>
            <a:ext cx="8429400" cy="4857840"/>
            <a:chOff x="428760" y="285840"/>
            <a:chExt cx="8429400" cy="4857840"/>
          </a:xfrm>
        </p:grpSpPr>
        <p:pic>
          <p:nvPicPr>
            <p:cNvPr id="129" name="Picture 53" descr="PDVD_009">
              <a:hlinkClick r:id="rId1" action="ppaction://hlinksldjump"/>
            </p:cNvPr>
            <p:cNvPicPr/>
            <p:nvPr/>
          </p:nvPicPr>
          <p:blipFill>
            <a:blip r:embed="rId2"/>
            <a:srcRect l="17224" t="3281" r="17224" b="3281"/>
            <a:stretch/>
          </p:blipFill>
          <p:spPr>
            <a:xfrm>
              <a:off x="4143240" y="285840"/>
              <a:ext cx="4714920" cy="48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" descr="PDVD_012"/>
            <p:cNvPicPr/>
            <p:nvPr/>
          </p:nvPicPr>
          <p:blipFill>
            <a:blip r:embed="rId3"/>
            <a:stretch/>
          </p:blipFill>
          <p:spPr>
            <a:xfrm>
              <a:off x="428760" y="285840"/>
              <a:ext cx="3639960" cy="48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Box 6"/>
          <p:cNvSpPr/>
          <p:nvPr/>
        </p:nvSpPr>
        <p:spPr>
          <a:xfrm>
            <a:off x="428760" y="550080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Tahoma"/>
              </a:rPr>
              <a:t>В гостиной Павел Егорович Чехов часто проводил спевки церковного хора, руководителем которого он являл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2" descr="0_7f4e7_5af2f24c_XL.jpg"/>
          <p:cNvPicPr/>
          <p:nvPr/>
        </p:nvPicPr>
        <p:blipFill>
          <a:blip r:embed="rId1"/>
          <a:stretch/>
        </p:blipFill>
        <p:spPr>
          <a:xfrm>
            <a:off x="0" y="0"/>
            <a:ext cx="4643280" cy="36590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3" descr="274.jpg"/>
          <p:cNvPicPr/>
          <p:nvPr/>
        </p:nvPicPr>
        <p:blipFill>
          <a:blip r:embed="rId2"/>
          <a:stretch/>
        </p:blipFill>
        <p:spPr>
          <a:xfrm>
            <a:off x="4648320" y="3286080"/>
            <a:ext cx="4495680" cy="35719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500040" y="492912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ahoma"/>
              </a:rPr>
              <a:t>Кух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3" descr="0_59859_52199514_XL.jpeg"/>
          <p:cNvPicPr/>
          <p:nvPr/>
        </p:nvPicPr>
        <p:blipFill>
          <a:blip r:embed="rId1"/>
          <a:srcRect l="0" t="3128" r="0" b="4167"/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0" y="614376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Tahoma"/>
              </a:rPr>
              <a:t>В 1857году П.Е.Чехов открыл бакалейно - галантерейную лавку. Торговля в ней велась с 5 до 23 час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4" descr="49_lavka.jpg"/>
          <p:cNvPicPr/>
          <p:nvPr/>
        </p:nvPicPr>
        <p:blipFill>
          <a:blip r:embed="rId1"/>
          <a:srcRect l="3205" t="0" r="3205" b="0"/>
          <a:stretch/>
        </p:blipFill>
        <p:spPr>
          <a:xfrm>
            <a:off x="285840" y="214200"/>
            <a:ext cx="8501040" cy="5429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13840" y="5857920"/>
            <a:ext cx="85726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Tahoma"/>
              </a:rPr>
              <a:t>Работа в лавке занимала всё свободное время детей, чередуясь с  гимназией и спевками церковного хо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PDVD_022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55008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285840" y="57862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Tahoma"/>
              </a:rPr>
              <a:t>В лавке собирались купцы и горожане. Услышанные от них истории легли в основу некоторых ранних рассказов А.П.Чехо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C:\Documents and Settings\SERG\Рабочий стол\зал4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52866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"/>
          <p:cNvSpPr/>
          <p:nvPr/>
        </p:nvSpPr>
        <p:spPr>
          <a:xfrm>
            <a:off x="285840" y="5572080"/>
            <a:ext cx="84294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Tahoma"/>
              </a:rPr>
              <a:t>Гостиная. Однажды здесь братья Чеховы постави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Tahoma"/>
              </a:rPr>
              <a:t>домашний спектакль «Ревизор». Антон был режиссёро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Tahoma"/>
              </a:rPr>
              <a:t>гримёром и исполнителем роли городниче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C:\Documents and Settings\SERG\Рабочий стол\кукл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2862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"/>
          <p:cNvSpPr/>
          <p:nvPr/>
        </p:nvSpPr>
        <p:spPr>
          <a:xfrm>
            <a:off x="500040" y="5357880"/>
            <a:ext cx="82868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ahoma"/>
              </a:rPr>
              <a:t>Детск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Tahoma"/>
              </a:rPr>
              <a:t>В доме-музее «Лавка Чеховых» хранится кукла Евгении Яковлевны и волшебный фонарь, с которым очень любили играть де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6" descr="gm-n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8" descr="PDVD_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36432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Tahoma"/>
              </a:rPr>
              <a:t>«В человеке должно быть всё прекрасно: и лицо, и одежда, и душа, и мысл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i="1" lang="ru-RU" sz="3600" spc="-1" strike="noStrike">
                <a:solidFill>
                  <a:srgbClr val="ffff66"/>
                </a:solidFill>
                <a:latin typeface="Tahoma"/>
              </a:rPr>
              <a:t>А.П.Чех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Содержимое 4" descr="chehov_25.jpg"/>
          <p:cNvPicPr/>
          <p:nvPr/>
        </p:nvPicPr>
        <p:blipFill>
          <a:blip r:embed="rId1"/>
          <a:stretch/>
        </p:blipFill>
        <p:spPr>
          <a:xfrm>
            <a:off x="4000680" y="285840"/>
            <a:ext cx="4857480" cy="628632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290.jpg"/>
          <p:cNvPicPr/>
          <p:nvPr/>
        </p:nvPicPr>
        <p:blipFill>
          <a:blip r:embed="rId1"/>
          <a:srcRect l="12501" t="0" r="12501" b="0"/>
          <a:stretch/>
        </p:blipFill>
        <p:spPr>
          <a:xfrm>
            <a:off x="214200" y="214200"/>
            <a:ext cx="8715600" cy="58579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2"/>
          <p:cNvSpPr/>
          <p:nvPr/>
        </p:nvSpPr>
        <p:spPr>
          <a:xfrm>
            <a:off x="357120" y="628668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Tahoma"/>
              </a:rPr>
              <a:t>Парта за которой сидел Антоша Чех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PDVD_009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53877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"/>
          <p:cNvSpPr/>
          <p:nvPr/>
        </p:nvSpPr>
        <p:spPr>
          <a:xfrm>
            <a:off x="357120" y="5786280"/>
            <a:ext cx="84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66"/>
                </a:solidFill>
                <a:latin typeface="Tahoma"/>
              </a:rPr>
              <a:t>В 1894 году Чехову присвоено звание попечителя Таганрогской библиотеки, которым он  очень гордился. В период с 1890 по 1904 год писатель подарил родному городу около двух тысяч бесценных кни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2" descr="full.jpg"/>
          <p:cNvPicPr/>
          <p:nvPr/>
        </p:nvPicPr>
        <p:blipFill>
          <a:blip r:embed="rId1"/>
          <a:srcRect l="0" t="0" r="0" b="150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2" descr="2.jpeg"/>
          <p:cNvPicPr/>
          <p:nvPr/>
        </p:nvPicPr>
        <p:blipFill>
          <a:blip r:embed="rId1"/>
          <a:stretch/>
        </p:blipFill>
        <p:spPr>
          <a:xfrm>
            <a:off x="285840" y="28584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3" descr="x400_i111_0904_7f_dbbfea2acffb.jpg.jpeg"/>
          <p:cNvPicPr/>
          <p:nvPr/>
        </p:nvPicPr>
        <p:blipFill>
          <a:blip r:embed="rId2"/>
          <a:stretch/>
        </p:blipFill>
        <p:spPr>
          <a:xfrm>
            <a:off x="4857840" y="3214800"/>
            <a:ext cx="4071960" cy="33573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4"/>
          <p:cNvSpPr/>
          <p:nvPr/>
        </p:nvSpPr>
        <p:spPr>
          <a:xfrm>
            <a:off x="428760" y="4143240"/>
            <a:ext cx="3929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Tahoma"/>
              </a:rPr>
              <a:t>Любовь к театру стала одной из самых ярк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Tahoma"/>
              </a:rPr>
              <a:t>радостей в жизни Чехова.                      Н.Роскина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Tahoma"/>
              </a:rPr>
              <a:t>Памятники литературным героям А.П.Чехова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6" name="Picture 4" descr="C:\Documents and Settings\SERG\Рабочий стол\чф.jpg"/>
          <p:cNvPicPr/>
          <p:nvPr/>
        </p:nvPicPr>
        <p:blipFill>
          <a:blip r:embed="rId1"/>
          <a:stretch/>
        </p:blipFill>
        <p:spPr>
          <a:xfrm>
            <a:off x="285840" y="1357200"/>
            <a:ext cx="4857840" cy="52866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5429160" y="56437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Tahoma"/>
              </a:rPr>
              <a:t>«Человек в футляре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C:\Documents and Settings\SERG\Рабочий стол\Т иТ.jpg"/>
          <p:cNvPicPr/>
          <p:nvPr/>
        </p:nvPicPr>
        <p:blipFill>
          <a:blip r:embed="rId1"/>
          <a:stretch/>
        </p:blipFill>
        <p:spPr>
          <a:xfrm>
            <a:off x="285840" y="285840"/>
            <a:ext cx="6215040" cy="6357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3"/>
          <p:cNvSpPr/>
          <p:nvPr/>
        </p:nvSpPr>
        <p:spPr>
          <a:xfrm>
            <a:off x="6715080" y="4857840"/>
            <a:ext cx="21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Tahoma"/>
              </a:rPr>
              <a:t>«Толстый и тонки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C:\Documents and Settings\SERG\Рабочий стол\75863.jpg"/>
          <p:cNvPicPr/>
          <p:nvPr/>
        </p:nvPicPr>
        <p:blipFill>
          <a:blip r:embed="rId1"/>
          <a:stretch/>
        </p:blipFill>
        <p:spPr>
          <a:xfrm>
            <a:off x="1428840" y="357120"/>
            <a:ext cx="6143400" cy="55720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6"/>
          <p:cNvSpPr/>
          <p:nvPr/>
        </p:nvSpPr>
        <p:spPr>
          <a:xfrm>
            <a:off x="1357200" y="6072120"/>
            <a:ext cx="61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ahoma"/>
              </a:rPr>
              <a:t>«Каштанк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1" descr="0_2a305_edb53462_XL.jpeg"/>
          <p:cNvPicPr/>
          <p:nvPr/>
        </p:nvPicPr>
        <p:blipFill>
          <a:blip r:embed="rId1"/>
          <a:stretch/>
        </p:blipFill>
        <p:spPr>
          <a:xfrm>
            <a:off x="4071960" y="0"/>
            <a:ext cx="50720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"/>
          <p:cNvSpPr/>
          <p:nvPr/>
        </p:nvSpPr>
        <p:spPr>
          <a:xfrm>
            <a:off x="357120" y="5214960"/>
            <a:ext cx="33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«Роман с контрабасом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1" descr="88cc6bd678759330-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642960" y="1857240"/>
            <a:ext cx="742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Tahoma"/>
              </a:rPr>
              <a:t>Спасибо за вним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Маршрут экскурсии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6143760" y="10717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имназия, теат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9"/>
          <p:cNvSpPr/>
          <p:nvPr/>
        </p:nvSpPr>
        <p:spPr>
          <a:xfrm>
            <a:off x="857160" y="928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ом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Прямоугольник 10"/>
          <p:cNvSpPr/>
          <p:nvPr/>
        </p:nvSpPr>
        <p:spPr>
          <a:xfrm>
            <a:off x="3876840" y="10000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Лав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Прямоугольник 13"/>
          <p:cNvSpPr/>
          <p:nvPr/>
        </p:nvSpPr>
        <p:spPr>
          <a:xfrm>
            <a:off x="6286680" y="600084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Библиот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Прямоугольник 15"/>
          <p:cNvSpPr/>
          <p:nvPr/>
        </p:nvSpPr>
        <p:spPr>
          <a:xfrm>
            <a:off x="428760" y="585792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PDVD_00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5840" y="1428840"/>
            <a:ext cx="2571840" cy="1857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PDVD_01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15040" y="1571760"/>
            <a:ext cx="2643120" cy="1785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PDVD_02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86080" y="1428840"/>
            <a:ext cx="2444760" cy="185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PDVD_00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286680" y="3929040"/>
            <a:ext cx="2571480" cy="2005200"/>
          </a:xfrm>
          <a:prstGeom prst="rect">
            <a:avLst/>
          </a:prstGeom>
          <a:ln w="0">
            <a:noFill/>
          </a:ln>
        </p:spPr>
      </p:pic>
      <p:sp>
        <p:nvSpPr>
          <p:cNvPr id="105" name="Стрелка вправо 34"/>
          <p:cNvSpPr/>
          <p:nvPr/>
        </p:nvSpPr>
        <p:spPr>
          <a:xfrm>
            <a:off x="2857680" y="2143080"/>
            <a:ext cx="50004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Стрелка вправо 35"/>
          <p:cNvSpPr/>
          <p:nvPr/>
        </p:nvSpPr>
        <p:spPr>
          <a:xfrm>
            <a:off x="5715000" y="2143080"/>
            <a:ext cx="50004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Стрелка вправо 37"/>
          <p:cNvSpPr/>
          <p:nvPr/>
        </p:nvSpPr>
        <p:spPr>
          <a:xfrm rot="5400000">
            <a:off x="7250400" y="3321720"/>
            <a:ext cx="571680" cy="5000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ffff00"/>
          </a:solidFill>
          <a:ln w="1908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Стрелка вправо 38"/>
          <p:cNvSpPr/>
          <p:nvPr/>
        </p:nvSpPr>
        <p:spPr>
          <a:xfrm rot="10800000">
            <a:off x="5786280" y="4643280"/>
            <a:ext cx="500400" cy="50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Стрелка вправо 39"/>
          <p:cNvSpPr/>
          <p:nvPr/>
        </p:nvSpPr>
        <p:spPr>
          <a:xfrm rot="10800000">
            <a:off x="2857320" y="4714560"/>
            <a:ext cx="50004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PDVD_003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57120" y="3714840"/>
            <a:ext cx="2500560" cy="20001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21"/>
          <p:cNvSpPr/>
          <p:nvPr/>
        </p:nvSpPr>
        <p:spPr>
          <a:xfrm>
            <a:off x="690120" y="607212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амятн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Рисунок 22" descr="08f8627d2c55.jpg"/>
          <p:cNvPicPr/>
          <p:nvPr/>
        </p:nvPicPr>
        <p:blipFill>
          <a:blip r:embed="rId11"/>
          <a:stretch/>
        </p:blipFill>
        <p:spPr>
          <a:xfrm>
            <a:off x="3214800" y="3714840"/>
            <a:ext cx="2500200" cy="2071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3"/>
          <p:cNvSpPr/>
          <p:nvPr/>
        </p:nvSpPr>
        <p:spPr>
          <a:xfrm>
            <a:off x="3357720" y="60721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Теат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1" descr="PDVD_015"/>
          <p:cNvPicPr/>
          <p:nvPr/>
        </p:nvPicPr>
        <p:blipFill>
          <a:blip r:embed="rId1"/>
          <a:srcRect l="2953" t="3281" r="2953" b="32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6" name="Рисунок 4" descr="lc1-023.jpg"/>
          <p:cNvPicPr/>
          <p:nvPr/>
        </p:nvPicPr>
        <p:blipFill>
          <a:blip r:embed="rId1"/>
          <a:srcRect l="7689" t="0" r="7689" b="0"/>
          <a:stretch/>
        </p:blipFill>
        <p:spPr>
          <a:xfrm>
            <a:off x="428760" y="500040"/>
            <a:ext cx="8429400" cy="5429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440" y="6000840"/>
            <a:ext cx="5486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ahoma"/>
              </a:rPr>
              <a:t>Семья А.П.Чех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Содержимое 4" descr="8_16.jpg"/>
          <p:cNvPicPr/>
          <p:nvPr/>
        </p:nvPicPr>
        <p:blipFill>
          <a:blip r:embed="rId1"/>
          <a:stretch/>
        </p:blipFill>
        <p:spPr>
          <a:xfrm>
            <a:off x="1000080" y="785880"/>
            <a:ext cx="2849760" cy="357336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5" descr="9_15.jpg"/>
          <p:cNvPicPr/>
          <p:nvPr/>
        </p:nvPicPr>
        <p:blipFill>
          <a:blip r:embed="rId2"/>
          <a:stretch/>
        </p:blipFill>
        <p:spPr>
          <a:xfrm>
            <a:off x="5357880" y="785880"/>
            <a:ext cx="2849400" cy="34671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500040" y="485784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1" i="1" lang="ru-RU" sz="2400" spc="-1" strike="noStrike">
                <a:solidFill>
                  <a:srgbClr val="ffff66"/>
                </a:solidFill>
                <a:latin typeface="Tahoma"/>
              </a:rPr>
              <a:t>М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Tahoma"/>
              </a:rPr>
              <a:t>Евгения Яковл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513400" y="4857840"/>
            <a:ext cx="257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Tahoma"/>
              </a:rPr>
              <a:t>Оте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Tahoma"/>
              </a:rPr>
              <a:t>Павел Егоро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tag_dom_04.jpg"/>
          <p:cNvPicPr/>
          <p:nvPr/>
        </p:nvPicPr>
        <p:blipFill>
          <a:blip r:embed="rId1"/>
          <a:stretch/>
        </p:blipFill>
        <p:spPr>
          <a:xfrm>
            <a:off x="428760" y="214200"/>
            <a:ext cx="8501040" cy="5715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500040" y="607212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ahoma"/>
              </a:rPr>
              <a:t>Спальня род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1282414563_screenshot2.jpg"/>
          <p:cNvPicPr/>
          <p:nvPr/>
        </p:nvPicPr>
        <p:blipFill>
          <a:blip r:embed="rId1"/>
          <a:stretch/>
        </p:blipFill>
        <p:spPr>
          <a:xfrm>
            <a:off x="790560" y="561960"/>
            <a:ext cx="7562880" cy="573408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2" descr="14.jpg"/>
          <p:cNvPicPr/>
          <p:nvPr/>
        </p:nvPicPr>
        <p:blipFill>
          <a:blip r:embed="rId1"/>
          <a:stretch/>
        </p:blipFill>
        <p:spPr>
          <a:xfrm>
            <a:off x="428760" y="428760"/>
            <a:ext cx="5072040" cy="57862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5715000" y="571500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ahoma"/>
              </a:rPr>
              <a:t>Гости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07:06:53Z</dcterms:created>
  <dc:creator>52</dc:creator>
  <dc:description/>
  <dc:language>en-US</dc:language>
  <cp:lastModifiedBy>Менеджер</cp:lastModifiedBy>
  <dcterms:modified xsi:type="dcterms:W3CDTF">2018-01-25T16:01:48Z</dcterms:modified>
  <cp:revision>334</cp:revision>
  <dc:subject/>
  <dc:title>Слайд 1</dc:title>
</cp:coreProperties>
</file>