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B7B-4F0A-4020-B2FD-3686817A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660-B227-4DE5-80EA-1AE39969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D7E-9030-4852-A0E3-3A575154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536-937E-4B07-A49D-FD62D6A5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42F-A8C5-4107-B822-5395A222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E0C-73B2-4F7C-A81D-E9BB9E60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5D4-3C84-47B5-955A-7E1BA99D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87E-30F9-4213-BF7B-445618FE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2F1-701A-4030-9E44-A85DCAC1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4DA-8D98-4474-9037-642F1C0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FED-10F0-496F-98FA-F20D8A7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2C5-F0A6-4E22-8674-F98027C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667-AB22-425A-A54B-5C5BFFBB7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ления и написания конспекта физкультурного занят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88920"/>
            <a:ext cx="655308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итель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380880"/>
            <a:ext cx="90676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фе №1 «Части занятия» последовательно выписываются структурные единицы занятия: ввод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фе №2 «Двигательное содержание физкультурного занятия» пишется название конкретных упражнений, из которых состоит данная часть занятия: либо ходьба с замедлением темпа, либо игра малой подвижности, либо упражнения на релаксацию (расслабление), подведение итогов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фе №3 «Дозировка» указывается количество повторений данного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фе №4 «Темп». Записывается темп выполнения упражнений (низкий, средний, высо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фе №5 «Дыхание». Дыхание для ходьбы носит произвольн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фе № 6 «Организационно методические указания» запись ведется прямой речью: указания, объяснение упражнений, словесные сигналы, индивидуальные обращения к детям, оценка поведения и качество выполнения упражнений, подведение итогов. Не допускать резкой остановки после бега и других нагрузочных упражнений; надо постепенно восстанавливать дыхание; привлекать детей к подведению итогов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12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37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одготовки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ставлению и написанию   конспекта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го занят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написанием конспекта занятия необходимо проконсультироваться с воспитателем своей возрастной группы, в которой будете проведено физкультурное занят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определить задачи, содержание и основные приемы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уровень физической подготовленности детей, их особ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оборудование для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2286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ребования к двигательным навыкам детей по «Программе воспитания и обучения в детском саду» наиболее актуальных на конкретный промежут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занятия должно разрабатываться с учетом требований программы по данному разделу, уровня сформированности двигательных навыков детей и освоенности основных 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ом данного этапа работы над конспектом должно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объема двигательного содержания физкультурного за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методов и приемов обучения физическим упражн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380520"/>
            <a:ext cx="84582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того, как отобран весь материал (задачи, двигательное содержание) составляется конспект физкультурного занятия по следующей структуре: титульный лист, программные задачи, подготовка воспитателя, ход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здоровительны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укрепления здоровья (обеспечение нормального функционирования всех органов и систем организма, повышение работоспособности и закаливание организма, формирование правильной осанки, формирование сводов стоп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2280" y="3049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формирования двигательных умений и навыков (учить детей ходить соблюдая прямолинейность, совершенствовать навык бега, закреплять умение выполнять движения согласованно, учить прыгать в длину с мес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развития физических качеств (развивать ловкость при выполнении упражнений с мячами, развивать силу при выполнении упражнений с набивными мяч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, касающиеся создания у детей представления о своем организме (учить детей правильно делать вдох и выдох при бег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3045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всестороннего гармоничного развития ребенка (учить выполнять посильные трудовые поручения, закреплять навыки сбора и раздачи спортивного инвентаря, учить действовать в соответствии с правилами игры, воспитывать чувство сопережи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 приведенных примерных записей оздоровительных, образовательных и воспитательных задач, выбираются только те, которые могут быть решены на конкретном физкультурном заня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способа организации дете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портивной площа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160" y="1173240"/>
            <a:ext cx="8877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ронталь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изации детей на физкультурном занятии (используется в младших группах, на начальных этапах обуч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рупповой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изации детей на физкультурном занятии (используется в старших и подготовительных к школе группах, на заключительных этапах обуч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изации детей на физкультурном занятии (используется в любых группах, если выполняемое движение сопряжено с риском получит травму ребенком). Например: метание в цель, лазание по лестнице, прыжки с разбега, упражнения в равновес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оч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изации детей на физкультурном занятии (используется в любых группах, если выполняемые движение знакомы и освоены деть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пект состоит из следующих граф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762120"/>
          <a:ext cx="8686800" cy="2666880"/>
        </p:xfrm>
        <a:graphic>
          <a:graphicData uri="http://schemas.openxmlformats.org/drawingml/2006/table">
            <a:tbl>
              <a:tblPr/>
              <a:tblGrid>
                <a:gridCol w="954000"/>
                <a:gridCol w="1714680"/>
                <a:gridCol w="1344600"/>
                <a:gridCol w="863640"/>
                <a:gridCol w="1224000"/>
                <a:gridCol w="2585880"/>
              </a:tblGrid>
              <a:tr h="1925640"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га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изкультур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зир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Тем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ых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b">
                      <a:noAutofit/>
                    </a:bodyPr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рганизацио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тод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каз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240">
                <a:tc>
                  <a:txBody>
                    <a:bodyPr lIns="6480" rIns="648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24160" y="151920"/>
            <a:ext cx="44956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5335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№1 «Части занятия» последовательно выписываются структурные единицы занятия: ввод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№2 «Двигательное содержание физкультурного занятия» фиксируются все виды физических упражнений в вводной части: построение и перестроение, ходьба, бег, в сочетании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№3 «Дозировка» указывается длительность выполнения различных видов ходьбы и бега в секундах и в мину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№4 «Темп». Необходимо указывать Темп выполнения для упражнений в ходьбе, беге (высокий, средний, низ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№5 «Дыхание». Дыхание для ходьбы, бега, носит произвольн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№ 6 «Организационно методические указания» запись ведется прямой речью: указания, распоряжения, команды, объяснение упражнений, словесные сигналы, индивидуальные обращения к детям, оценка поведения и качество выполнения упражнений, подведение итогов. Надо давать четкие, краткие организационно-методические указания, распоряжения, команды; продумать ритмическое сопровождение (счет, аудио запись, музыкальное сопровождение); не допускать длительных бесцельных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8:58:14Z</dcterms:created>
  <dc:creator>1</dc:creator>
  <dc:description/>
  <dc:language>en-US</dc:language>
  <cp:lastModifiedBy>DetSad2</cp:lastModifiedBy>
  <dcterms:modified xsi:type="dcterms:W3CDTF">2022-04-05T10:42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