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273-3A62-4A5A-B863-E938D601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A7F-60D0-43B4-A5DC-6FFEE6C3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EFD-D9EF-4A93-8202-01737257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C27-3197-4A97-9E44-8C236508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CF1A-B17D-4B03-8127-729278A3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A41C-1B0F-4429-B02E-A58459B5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DB27-DF81-49EC-A7F2-ABC59BF2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F28A-E635-4173-BE6B-9A183C8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0243-FC07-42D3-8DFB-E4232DB4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38D-21B7-4D79-A365-F96B162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6F7-731D-4A7D-8146-D557780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1B7-E558-41A4-AB87-E966959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50DD-A2A3-429B-8340-36D558A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B2A0-A993-43FE-B599-62A1B61C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C9E9-2271-4446-8939-3C17FF9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02B-385D-467B-93B3-D26BFEE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3CE-2DF8-4AE2-A2D5-FE57BC78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0CD-371B-4204-8BA7-E619E0D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491-1986-4A38-9BAF-A62676D0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DAC-95D5-49CC-B6FF-A8A655CB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D8A-2DDE-42DC-873C-07ECF251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954-809E-4B4A-B661-320CEB9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F34-8CFB-4F60-9901-806ED3E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671-5DD9-45C1-8C9C-8BD3BFB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4F80-0772-49C5-9951-B357EFED83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91E-FE6C-4496-A634-DE05854F2B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Monotype Corsiva"/>
              </a:rPr>
              <a:t>ФУТБОЛ ДЛЯ ДЕТЕЙ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Картинки по запросу картинки дети спорт"/>
          <p:cNvPicPr/>
          <p:nvPr/>
        </p:nvPicPr>
        <p:blipFill>
          <a:blip r:embed="rId1"/>
          <a:stretch/>
        </p:blipFill>
        <p:spPr>
          <a:xfrm>
            <a:off x="1476360" y="2637000"/>
            <a:ext cx="705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5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КАКИХ ИЗВЕСТНЫХ ФУТБОЛИСТОВ МИРА ВЫ ЗНАЕТ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ПЕЛЕ       РОНАЛ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МАРАДОНА      МЕС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ЗИДАН            БЕКХЕМ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ЯШИН          АРШАВ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футбольный мяч"/>
          <p:cNvPicPr/>
          <p:nvPr/>
        </p:nvPicPr>
        <p:blipFill>
          <a:blip r:embed="rId1"/>
          <a:stretch/>
        </p:blipFill>
        <p:spPr>
          <a:xfrm>
            <a:off x="0" y="43149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До встречи, Футбол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Я люблю играть в футбол,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Забивать в ворота гол!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Мяч футбольный мне купили,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И насос не позабыли.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Мяч упругим должен быть,-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Гол противнику заби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Мяч с разбегу я пинаю,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Никому не уступаю.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Ну, попробуй, догони,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Верный мяч мой, отними!</a:t>
            </a: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мелее и все у вас получиться !!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Картинки по запросу картинки дети спорт"/>
          <p:cNvPicPr/>
          <p:nvPr/>
        </p:nvPicPr>
        <p:blipFill>
          <a:blip r:embed="rId1"/>
          <a:stretch/>
        </p:blipFill>
        <p:spPr>
          <a:xfrm>
            <a:off x="5580000" y="4678200"/>
            <a:ext cx="34196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66"/>
                </a:solidFill>
                <a:latin typeface="Arial"/>
              </a:rPr>
              <a:t>История развития футбола</a:t>
            </a:r>
            <a:br>
              <a:rPr sz="3100"/>
            </a:b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Verdana"/>
              </a:rPr>
              <a:t>Футбол - самая популярная командная игра в мире, где за малое количество очков нужно бороться. История "ножного мяча" насчитывает немало столети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Verdana"/>
              </a:rPr>
              <a:t>Цель игры. Цель команды в игре - забить как можно больше мячей в ворота соперника, а после потери мяча защищать свои, соблюдая при этом правила иг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66"/>
                </a:solidFill>
                <a:latin typeface="Verdana"/>
              </a:rPr>
              <a:t>Футбол самая древняя игра. Название этой игры происходит от двух английских слов: "фут" - ступня и "бол" - мяч, т.е. в этой игре по мячу бьют ног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Содержимое 5" descr="http://im5-tub-ru.yandex.net/i?id=13835094-04-72&amp;n=21"/>
          <p:cNvPicPr/>
          <p:nvPr/>
        </p:nvPicPr>
        <p:blipFill>
          <a:blip r:embed="rId1"/>
          <a:stretch/>
        </p:blipFill>
        <p:spPr>
          <a:xfrm>
            <a:off x="4334040" y="4276800"/>
            <a:ext cx="4809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71640" y="549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ГДА ВОЗНИК ФУТБО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Точной даты возникновения футбола не известно, но можно с уверенностью сказать, что история футбола насчитывает не одно столетие и затронула немало стран. Игры с мячом были популярны на всех континентах, об этом говорят повсеместные находки археологов. В Древнем Китае существовала игра, известная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Цуцзюй»,</a:t>
            </a: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 упоминания о которой были датированы вторым веком до нашей эры. Именно она считается наиболее древней из предшественников современного футбо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футбол в древнем китае"/>
          <p:cNvPicPr/>
          <p:nvPr/>
        </p:nvPicPr>
        <p:blipFill>
          <a:blip r:embed="rId1"/>
          <a:stretch/>
        </p:blipFill>
        <p:spPr>
          <a:xfrm>
            <a:off x="2987640" y="3637080"/>
            <a:ext cx="5113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6" descr="игра pasuckuakohowog"/>
          <p:cNvPicPr/>
          <p:nvPr/>
        </p:nvPicPr>
        <p:blipFill>
          <a:blip r:embed="rId1"/>
          <a:stretch/>
        </p:blipFill>
        <p:spPr>
          <a:xfrm>
            <a:off x="1403280" y="2997360"/>
            <a:ext cx="6193080" cy="3330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826920" y="549360"/>
            <a:ext cx="770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В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Северной Америке тоже был предок футбола, игра называлас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pasuckuakohowog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», что означает «они собрались, чтобы поиграть в мяч ногами». Обычно игры проходили на пляжах, мяч пытались забить в ворота шириной около полумили, само же поле было в два раз длиннее. Число участников игры доходило до 1000 чело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26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На Руси тоже издавна существовали игры с мячом, напоминающими футбол. Одна из таких игр называлас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“шалыгой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”: игроки ногами стремились загнать мяч на территорию противника. Играли в лаптях на льду рек или на базарных площадях кожаным мячом, набитым перьями. В. Г. Белинский писал, что “в играх и забавах русского народа отразились простодушная суровость его нравов, богатырская сила и широкий размах его чувств”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3499920"/>
            <a:ext cx="6226200" cy="24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[football-russia1[3].jpg]"/>
          <p:cNvPicPr/>
          <p:nvPr/>
        </p:nvPicPr>
        <p:blipFill>
          <a:blip r:embed="rId1"/>
          <a:stretch/>
        </p:blipFill>
        <p:spPr>
          <a:xfrm>
            <a:off x="1476360" y="3068640"/>
            <a:ext cx="604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КТОРИ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30240" y="1484280"/>
            <a:ext cx="73137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ОПРОС 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КОЛЬКО ДОЛЖНО БЫТЬ В ФУТБОЛЬНОЙ КОМАНДЕ ИГРОКОВ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футбольная команда"/>
          <p:cNvPicPr/>
          <p:nvPr/>
        </p:nvPicPr>
        <p:blipFill>
          <a:blip r:embed="rId1"/>
          <a:stretch/>
        </p:blipFill>
        <p:spPr>
          <a:xfrm>
            <a:off x="611280" y="3645000"/>
            <a:ext cx="3905280" cy="2600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КТО ИЗ ИГРОКОВ -ФУТБОЛИСТОВ НА ПОЛЕ МОЖЕТ ИГРАТЬ РУКА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ВРАТАРЬ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Рисунок 3" descr="http://im7-tub-ru.yandex.net/i?id=129930692-29-72&amp;n=21"/>
          <p:cNvPicPr/>
          <p:nvPr/>
        </p:nvPicPr>
        <p:blipFill>
          <a:blip r:embed="rId1"/>
          <a:stretch/>
        </p:blipFill>
        <p:spPr>
          <a:xfrm>
            <a:off x="3419640" y="3865680"/>
            <a:ext cx="3279600" cy="29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3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ЧЕМ ПОКРЫТО ФУТБОЛЬНОЕ ПОЛЕ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Verdana"/>
              </a:rPr>
              <a:t>ГАЗОННАЯ ТРА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Картинки по запросу картинки дети спорт"/>
          <p:cNvPicPr/>
          <p:nvPr/>
        </p:nvPicPr>
        <p:blipFill>
          <a:blip r:embed="rId1"/>
          <a:stretch/>
        </p:blipFill>
        <p:spPr>
          <a:xfrm>
            <a:off x="3132000" y="3860640"/>
            <a:ext cx="4105440" cy="277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4.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КУДА ФУТБОЛИСТЫ НАПРАВЛЯЮТ МЯЧ, ЧТОБЫ ЗАБИТЬ ГОЛ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6666"/>
                </a:solidFill>
                <a:latin typeface="Verdana"/>
              </a:rPr>
              <a:t>В ВОРО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футбольные ворота"/>
          <p:cNvPicPr/>
          <p:nvPr/>
        </p:nvPicPr>
        <p:blipFill>
          <a:blip r:embed="rId1"/>
          <a:stretch/>
        </p:blipFill>
        <p:spPr>
          <a:xfrm>
            <a:off x="2411280" y="3716280"/>
            <a:ext cx="4897440" cy="2806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10:37:32Z</dcterms:created>
  <dc:creator>Admin</dc:creator>
  <dc:description/>
  <dc:language>en-US</dc:language>
  <cp:lastModifiedBy>варвара</cp:lastModifiedBy>
  <dcterms:modified xsi:type="dcterms:W3CDTF">2016-12-08T06:34:28Z</dcterms:modified>
  <cp:revision>4</cp:revision>
  <dc:subject/>
  <dc:title>ФУТБОЛ ДЛЯ ДЕТЕЙ</dc:title>
</cp:coreProperties>
</file>