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6.jpeg" ContentType="image/jpeg"/>
  <Override PartName="/ppt/media/image2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495-51DC-42C5-BBA2-A38E0899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1FE1-B273-44C0-946C-70E8C3E3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DC9D-B408-480A-A127-24FDE115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FF2-9FE6-4D46-A9A0-A371BEA4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E4CC-FF2A-4405-8AF9-A6BAF149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0BD6-9027-4563-971B-E3FD74E5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BBF7-65B8-480C-B212-E0E3C2F8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C893-CECB-46B9-84FF-CFC80078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6BA0-E048-45EA-A66A-B109AD65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BB1F-00F5-41CD-AEEC-BD3930C1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93E0-D237-4FA1-8FFF-BFC2B083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31D-58C4-4A8D-8BF8-7098EBE7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9235-2731-47BC-ACD6-CF1BCC56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2FA1-0A3F-4A2C-8861-7062D186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345D-3D88-4069-B3D0-EA899A5A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40E2-A68D-4C68-89F9-9FD769B6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821B-7CED-47AF-8D79-283A2881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FD661-DF9F-40F9-B3F0-45B6E019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FF1F0-B250-49B4-BBF3-B99CE120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C6F3B-71B9-4C71-B125-A0F32F76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0C717-0BF0-451E-A5A5-078B27A7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EF3D1-2DE6-4E38-B1B4-D743FADD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E4E7-951C-4B21-B84E-C9B591BC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6996F-DD04-4A9E-8A67-6876DFAC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1079C-F558-46E8-8F18-29E0AFC7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93370-FC8D-4853-850C-2D4FFF48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F2BF8-AAA5-41E7-AB8E-722DBCDD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15C82-C96E-4BC3-89D2-5DABC972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977FF-DE72-4610-B372-283FA395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C93D9-A4CB-409C-8002-4F9CB4F2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6C30E-28DE-41A5-92BA-0B7C1D47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07A52-DABC-449D-9D9D-409DAD92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A7869-3611-4837-826F-4A59C089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A927-3117-4CFD-B415-D51C30B5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07766-7C6F-4537-9809-24F3699E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5FACA-4371-4612-AFDC-75B8218D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117E9-1407-416D-B40D-2F0E2907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203E0-B135-4D2E-B726-7A90B2D4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43E02-AD4B-4C65-A821-DCE28F16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5CC57-7CB2-454A-9FFE-5E3B71F2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E97B7-6C10-46A4-A505-2BEB3172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19AEB-FA5B-48CE-88FC-56866089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8517C-5681-4142-A729-145B4194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CED7-C145-4E5F-BFFF-ABE72B75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E564-24C0-4010-A853-9BDC7987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DBF-E5CB-44F0-ABC3-87F7C85E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9EDA-0156-4BB0-B455-4C5BF3D6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5E7-FFDB-4FA0-B8EE-72DF11FB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16CECC-AFC3-4E9E-8ACC-CD4E17A6BB1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C4251A-5B60-4C86-A6AB-08C329999E2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AE3B02-2160-48D6-B7E6-B7D10D75EBC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EA0FFB-2F80-41B7-8AD2-D2FA2EC7CCE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3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liparts.getbb.ru/viewtopic.php?f=13&amp;t=3" TargetMode="External"/><Relationship Id="rId2" Type="http://schemas.openxmlformats.org/officeDocument/2006/relationships/hyperlink" Target="http://cliparts.getbb.ru/viewtopic.php?f=13&amp;t=3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3640" y="548640"/>
            <a:ext cx="7772040" cy="1714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Страна Грамматика: глагол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have got </a:t>
            </a: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в настоящем времени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668360" y="3500280"/>
            <a:ext cx="103680" cy="72360"/>
          </a:xfrm>
          <a:prstGeom prst="rect">
            <a:avLst/>
          </a:prstGeom>
          <a:noFill/>
          <a:ln w="9360">
            <a:noFill/>
          </a:ln>
        </p:spPr>
        <p:txBody>
          <a:bodyPr numCol="1" spcCol="0" tIns="36000" bIns="3600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67" name="Picture 2" descr="Картинки по запросу картинки для презентаций"/>
          <p:cNvPicPr/>
          <p:nvPr/>
        </p:nvPicPr>
        <p:blipFill>
          <a:blip r:embed="rId1"/>
          <a:stretch/>
        </p:blipFill>
        <p:spPr>
          <a:xfrm>
            <a:off x="251640" y="2277000"/>
            <a:ext cx="3272760" cy="3816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Картинки по запросу картинки для презентаций"/>
          <p:cNvPicPr/>
          <p:nvPr/>
        </p:nvPicPr>
        <p:blipFill>
          <a:blip r:embed="rId2"/>
          <a:stretch/>
        </p:blipFill>
        <p:spPr>
          <a:xfrm>
            <a:off x="3852000" y="2421000"/>
            <a:ext cx="2817360" cy="37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опробуй сам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25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меняй кирпичики местам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                                      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got a new toy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                                       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got a funny puppy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                                        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got nice cards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И, конечно, не забудь знак вопроса в конце предложения и заглавную букву в начал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3"/>
          <p:cNvSpPr/>
          <p:nvPr/>
        </p:nvSpPr>
        <p:spPr>
          <a:xfrm>
            <a:off x="571680" y="2286000"/>
            <a:ext cx="1199880" cy="571320"/>
          </a:xfrm>
          <a:prstGeom prst="rect">
            <a:avLst/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2500200" y="2286000"/>
            <a:ext cx="1213920" cy="571320"/>
          </a:xfrm>
          <a:prstGeom prst="rect">
            <a:avLst/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5"/>
          <p:cNvSpPr/>
          <p:nvPr/>
        </p:nvSpPr>
        <p:spPr>
          <a:xfrm>
            <a:off x="714240" y="3357720"/>
            <a:ext cx="999720" cy="499680"/>
          </a:xfrm>
          <a:prstGeom prst="rect">
            <a:avLst/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6"/>
          <p:cNvSpPr/>
          <p:nvPr/>
        </p:nvSpPr>
        <p:spPr>
          <a:xfrm>
            <a:off x="2571840" y="3357720"/>
            <a:ext cx="1199880" cy="499680"/>
          </a:xfrm>
          <a:prstGeom prst="rect">
            <a:avLst/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7"/>
          <p:cNvSpPr/>
          <p:nvPr/>
        </p:nvSpPr>
        <p:spPr>
          <a:xfrm>
            <a:off x="785880" y="4714920"/>
            <a:ext cx="1071360" cy="499680"/>
          </a:xfrm>
          <a:prstGeom prst="rect">
            <a:avLst/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8"/>
          <p:cNvSpPr/>
          <p:nvPr/>
        </p:nvSpPr>
        <p:spPr>
          <a:xfrm>
            <a:off x="2571840" y="4714920"/>
            <a:ext cx="1128240" cy="499680"/>
          </a:xfrm>
          <a:prstGeom prst="rect">
            <a:avLst/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delay="0" evt="onClick">
                    <p:tgtEl>
                      <p:spTgt spid="210"/>
                    </p:tgtEl>
                  </p:cond>
                </p:stCondLst>
                <p:childTnLst>
                  <p:par>
                    <p:cTn id="114" fill="hold">
                      <p:stCondLst>
                        <p:cond delay="0"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delay="0" evt="onClick">
                    <p:tgtEl>
                      <p:spTgt spid="211"/>
                    </p:tgtEl>
                  </p:cond>
                </p:stCondLst>
                <p:childTnLst>
                  <p:par>
                    <p:cTn id="119" fill="hold">
                      <p:stCondLst>
                        <p:cond delay="0"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delay="0" evt="onClick">
                    <p:tgtEl>
                      <p:spTgt spid="212"/>
                    </p:tgtEl>
                  </p:cond>
                </p:stCondLst>
                <p:childTnLst>
                  <p:par>
                    <p:cTn id="124" fill="hold">
                      <p:stCondLst>
                        <p:cond delay="0"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delay="0" evt="onClick">
                    <p:tgtEl>
                      <p:spTgt spid="213"/>
                    </p:tgtEl>
                  </p:cond>
                </p:stCondLst>
                <p:childTnLst>
                  <p:par>
                    <p:cTn id="129" fill="hold">
                      <p:stCondLst>
                        <p:cond delay="0"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delay="0" evt="onClick">
                    <p:tgtEl>
                      <p:spTgt spid="214"/>
                    </p:tgtEl>
                  </p:cond>
                </p:stCondLst>
                <p:childTnLst>
                  <p:par>
                    <p:cTn id="134" fill="hold">
                      <p:stCondLst>
                        <p:cond delay="0"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delay="0" evt="onClick">
                    <p:tgtEl>
                      <p:spTgt spid="215"/>
                    </p:tgtEl>
                  </p:cond>
                </p:stCondLst>
                <p:childTnLst>
                  <p:par>
                    <p:cTn id="139" fill="hold">
                      <p:stCondLst>
                        <p:cond delay="0"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Найди правильные предложени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3"/>
          <p:cNvSpPr/>
          <p:nvPr/>
        </p:nvSpPr>
        <p:spPr>
          <a:xfrm>
            <a:off x="642960" y="1785960"/>
            <a:ext cx="6714720" cy="9140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dk1"/>
                </a:solidFill>
                <a:latin typeface="Calibri"/>
              </a:rPr>
              <a:t>Jane have got a green fr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4"/>
          <p:cNvSpPr/>
          <p:nvPr/>
        </p:nvSpPr>
        <p:spPr>
          <a:xfrm>
            <a:off x="714240" y="3214800"/>
            <a:ext cx="6714720" cy="9140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dk1"/>
                </a:solidFill>
                <a:latin typeface="Calibri"/>
              </a:rPr>
              <a:t>Has Jane got a green fr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785880" y="4643280"/>
            <a:ext cx="6857640" cy="9140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dk1"/>
                </a:solidFill>
                <a:latin typeface="Calibri"/>
              </a:rPr>
              <a:t>Jane has got a green fr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delay="0" evt="onClick">
                    <p:tgtEl>
                      <p:spTgt spid="218"/>
                    </p:tgtEl>
                  </p:cond>
                </p:stCondLst>
                <p:childTnLst>
                  <p:par>
                    <p:cTn id="145" fill="hold">
                      <p:stCondLst>
                        <p:cond delay="0"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delay="0" evt="onClick">
                    <p:tgtEl>
                      <p:spTgt spid="219"/>
                    </p:tgtEl>
                  </p:cond>
                </p:stCondLst>
                <p:childTnLst>
                  <p:par>
                    <p:cTn id="150" fill="hold">
                      <p:stCondLst>
                        <p:cond delay="0"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219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delay="0" evt="onClick">
                    <p:tgtEl>
                      <p:spTgt spid="220"/>
                    </p:tgtEl>
                  </p:cond>
                </p:stCondLst>
                <p:childTnLst>
                  <p:par>
                    <p:cTn id="155" fill="hold">
                      <p:stCondLst>
                        <p:cond delay="0"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220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500040"/>
            <a:ext cx="8229240" cy="5625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оугольник 3"/>
          <p:cNvSpPr/>
          <p:nvPr/>
        </p:nvSpPr>
        <p:spPr>
          <a:xfrm>
            <a:off x="714240" y="1428840"/>
            <a:ext cx="7214760" cy="9140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dk1"/>
                </a:solidFill>
                <a:latin typeface="Calibri"/>
              </a:rPr>
              <a:t>My brother and I have got a funny pu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857160" y="3143160"/>
            <a:ext cx="7143480" cy="9140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dk1"/>
                </a:solidFill>
                <a:latin typeface="Calibri"/>
              </a:rPr>
              <a:t>Have you got a funny pupp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5"/>
          <p:cNvSpPr/>
          <p:nvPr/>
        </p:nvSpPr>
        <p:spPr>
          <a:xfrm>
            <a:off x="785880" y="5072040"/>
            <a:ext cx="7286400" cy="9140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dk1"/>
                </a:solidFill>
                <a:latin typeface="Calibri"/>
              </a:rPr>
              <a:t>Have your friend got a funny pupp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delay="0" evt="onClick">
                    <p:tgtEl>
                      <p:spTgt spid="222"/>
                    </p:tgtEl>
                  </p:cond>
                </p:stCondLst>
                <p:childTnLst>
                  <p:par>
                    <p:cTn id="161" fill="hold">
                      <p:stCondLst>
                        <p:cond delay="0"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5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7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delay="0" evt="onClick">
                    <p:tgtEl>
                      <p:spTgt spid="223"/>
                    </p:tgtEl>
                  </p:cond>
                </p:stCondLst>
                <p:childTnLst>
                  <p:par>
                    <p:cTn id="169" fill="hold">
                      <p:stCondLst>
                        <p:cond delay="0"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5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3" dur="25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4" dur="25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75" dur="25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delay="0" evt="onClick">
                    <p:tgtEl>
                      <p:spTgt spid="224"/>
                    </p:tgtEl>
                  </p:cond>
                </p:stCondLst>
                <p:childTnLst>
                  <p:par>
                    <p:cTn id="177" fill="hold">
                      <p:stCondLst>
                        <p:cond delay="0"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Еще ты можешь кратко отвечать на вопросы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you got a bike?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he got a bike?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, I have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, I haven’t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, he has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, he hasn’t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Левая фигурная скобка 3"/>
          <p:cNvSpPr/>
          <p:nvPr/>
        </p:nvSpPr>
        <p:spPr>
          <a:xfrm>
            <a:off x="4429080" y="2071800"/>
            <a:ext cx="642600" cy="2057040"/>
          </a:xfrm>
          <a:prstGeom prst="leftBrace">
            <a:avLst>
              <a:gd name="adj1" fmla="val 28978"/>
              <a:gd name="adj2" fmla="val 50000"/>
            </a:avLst>
          </a:pr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Левая фигурная скобка 8"/>
          <p:cNvSpPr/>
          <p:nvPr/>
        </p:nvSpPr>
        <p:spPr>
          <a:xfrm>
            <a:off x="4214880" y="4500720"/>
            <a:ext cx="1142640" cy="164268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6" descr="Картинки по запросу картинки для презентаций"/>
          <p:cNvPicPr/>
          <p:nvPr/>
        </p:nvPicPr>
        <p:blipFill>
          <a:blip r:embed="rId1"/>
          <a:stretch/>
        </p:blipFill>
        <p:spPr>
          <a:xfrm>
            <a:off x="6143040" y="980640"/>
            <a:ext cx="3000600" cy="208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Картинки по запросу картинки для презентаций"/>
          <p:cNvPicPr/>
          <p:nvPr/>
        </p:nvPicPr>
        <p:blipFill>
          <a:blip r:embed="rId2"/>
          <a:stretch/>
        </p:blipFill>
        <p:spPr>
          <a:xfrm>
            <a:off x="755640" y="2997000"/>
            <a:ext cx="2100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571680"/>
            <a:ext cx="4038120" cy="555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бери правильный ответ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Jack got a brother?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you got a computer?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48320" y="571680"/>
            <a:ext cx="4038120" cy="555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4786200" y="714240"/>
            <a:ext cx="2571480" cy="785520"/>
          </a:xfrm>
          <a:prstGeom prst="rect">
            <a:avLst/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dk1"/>
                </a:solidFill>
                <a:latin typeface="Calibri"/>
              </a:rPr>
              <a:t>Yes, he h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5"/>
          <p:cNvSpPr/>
          <p:nvPr/>
        </p:nvSpPr>
        <p:spPr>
          <a:xfrm>
            <a:off x="4857840" y="2143080"/>
            <a:ext cx="2499840" cy="914040"/>
          </a:xfrm>
          <a:prstGeom prst="rect">
            <a:avLst/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dk1"/>
                </a:solidFill>
                <a:latin typeface="Calibri"/>
              </a:rPr>
              <a:t>No, he h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6"/>
          <p:cNvSpPr/>
          <p:nvPr/>
        </p:nvSpPr>
        <p:spPr>
          <a:xfrm>
            <a:off x="4929120" y="3786120"/>
            <a:ext cx="2499840" cy="78552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dk1"/>
                </a:solidFill>
                <a:latin typeface="Calibri"/>
              </a:rPr>
              <a:t>Yes, I 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7"/>
          <p:cNvSpPr/>
          <p:nvPr/>
        </p:nvSpPr>
        <p:spPr>
          <a:xfrm>
            <a:off x="4929120" y="5072040"/>
            <a:ext cx="2642760" cy="914040"/>
          </a:xfrm>
          <a:prstGeom prst="rect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dk1"/>
                </a:solidFill>
                <a:latin typeface="Calibri"/>
              </a:rPr>
              <a:t>No, I have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Левая фигурная скобка 8"/>
          <p:cNvSpPr/>
          <p:nvPr/>
        </p:nvSpPr>
        <p:spPr>
          <a:xfrm>
            <a:off x="4000680" y="785880"/>
            <a:ext cx="713880" cy="221436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Левая фигурная скобка 10"/>
          <p:cNvSpPr/>
          <p:nvPr/>
        </p:nvSpPr>
        <p:spPr>
          <a:xfrm>
            <a:off x="3929040" y="3643200"/>
            <a:ext cx="856800" cy="242856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restart="whenNotActive" nodeType="interactiveSeq" fill="hold">
                <p:stCondLst>
                  <p:cond delay="0" evt="onClick">
                    <p:tgtEl>
                      <p:spTgt spid="234"/>
                    </p:tgtEl>
                  </p:cond>
                </p:stCondLst>
                <p:childTnLst>
                  <p:par>
                    <p:cTn id="184" fill="hold">
                      <p:stCondLst>
                        <p:cond delay="0"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" dur="2000" fill="hold"/>
                                        <p:tgtEl>
                                          <p:spTgt spid="234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delay="0" evt="onClick">
                    <p:tgtEl>
                      <p:spTgt spid="235"/>
                    </p:tgtEl>
                  </p:cond>
                </p:stCondLst>
                <p:childTnLst>
                  <p:par>
                    <p:cTn id="189" fill="hold">
                      <p:stCondLst>
                        <p:cond delay="0"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delay="0" evt="onClick">
                    <p:tgtEl>
                      <p:spTgt spid="236"/>
                    </p:tgtEl>
                  </p:cond>
                </p:stCondLst>
                <p:childTnLst>
                  <p:par>
                    <p:cTn id="195" fill="hold">
                      <p:stCondLst>
                        <p:cond delay="0"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5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9" dur="25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0" dur="25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1" dur="25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delay="0" evt="onClick">
                    <p:tgtEl>
                      <p:spTgt spid="237"/>
                    </p:tgtEl>
                  </p:cond>
                </p:stCondLst>
                <p:childTnLst>
                  <p:par>
                    <p:cTn id="203" fill="hold">
                      <p:stCondLst>
                        <p:cond delay="0"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1640" y="260640"/>
            <a:ext cx="8229240" cy="266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асскажи по-английски, что у тебя есть, а чего у тебя нет</a:t>
            </a:r>
            <a:br>
              <a:rPr sz="5400"/>
            </a:b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Картинки по запросу картинки для презентаций"/>
          <p:cNvPicPr/>
          <p:nvPr/>
        </p:nvPicPr>
        <p:blipFill>
          <a:blip r:embed="rId1"/>
          <a:stretch/>
        </p:blipFill>
        <p:spPr>
          <a:xfrm>
            <a:off x="0" y="2709000"/>
            <a:ext cx="5219640" cy="3729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Картинки по запросу картинки для презентаций"/>
          <p:cNvPicPr/>
          <p:nvPr/>
        </p:nvPicPr>
        <p:blipFill>
          <a:blip r:embed="rId2"/>
          <a:stretch/>
        </p:blipFill>
        <p:spPr>
          <a:xfrm>
            <a:off x="4356000" y="2709000"/>
            <a:ext cx="3384000" cy="37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115640" y="260640"/>
            <a:ext cx="1221840" cy="856800"/>
          </a:xfrm>
          <a:prstGeom prst="rect">
            <a:avLst/>
          </a:prstGeom>
          <a:ln w="9525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428760" y="3857760"/>
            <a:ext cx="1980720" cy="1180800"/>
          </a:xfrm>
          <a:prstGeom prst="rect">
            <a:avLst/>
          </a:prstGeom>
          <a:ln w="9525">
            <a:noFill/>
          </a:ln>
        </p:spPr>
      </p:pic>
      <p:sp>
        <p:nvSpPr>
          <p:cNvPr id="245" name="TextBox 5"/>
          <p:cNvSpPr/>
          <p:nvPr/>
        </p:nvSpPr>
        <p:spPr>
          <a:xfrm>
            <a:off x="2571840" y="214200"/>
            <a:ext cx="6143400" cy="612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70c0"/>
                </a:solidFill>
                <a:latin typeface="Courier New"/>
              </a:rPr>
              <a:t>-Give me jam ,pl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70c0"/>
                </a:solidFill>
                <a:latin typeface="Courier New"/>
              </a:rPr>
              <a:t>-I have no ja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70c0"/>
                </a:solidFill>
                <a:latin typeface="Courier New"/>
              </a:rPr>
              <a:t>-But what do you h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70c0"/>
                </a:solidFill>
                <a:latin typeface="Courier New"/>
              </a:rPr>
              <a:t>-I have an apple. Take it ,pl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70c0"/>
                </a:solidFill>
                <a:latin typeface="Courier New"/>
              </a:rPr>
              <a:t>-Thank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3"/>
          <a:stretch/>
        </p:blipFill>
        <p:spPr>
          <a:xfrm>
            <a:off x="1143000" y="2500200"/>
            <a:ext cx="1323720" cy="928440"/>
          </a:xfrm>
          <a:prstGeom prst="rect">
            <a:avLst/>
          </a:prstGeom>
          <a:ln w="9525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4"/>
          <a:stretch/>
        </p:blipFill>
        <p:spPr>
          <a:xfrm>
            <a:off x="1187640" y="1268640"/>
            <a:ext cx="1272960" cy="1007640"/>
          </a:xfrm>
          <a:prstGeom prst="rect">
            <a:avLst/>
          </a:prstGeom>
          <a:ln w="9525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5"/>
          <a:stretch/>
        </p:blipFill>
        <p:spPr>
          <a:xfrm>
            <a:off x="928800" y="5286240"/>
            <a:ext cx="1404720" cy="1082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640" y="764640"/>
            <a:ext cx="8229240" cy="1439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70c0"/>
                </a:solidFill>
                <a:latin typeface="Courier New"/>
              </a:rPr>
              <a:t>Разыграй подобный диалог, используя картинки</a:t>
            </a: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2988000" y="1989000"/>
            <a:ext cx="571320" cy="866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6876360" y="1845000"/>
            <a:ext cx="1866600" cy="1638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52" name="Picture 6" descr=""/>
          <p:cNvPicPr/>
          <p:nvPr/>
        </p:nvPicPr>
        <p:blipFill>
          <a:blip r:embed="rId3"/>
          <a:stretch/>
        </p:blipFill>
        <p:spPr>
          <a:xfrm>
            <a:off x="4284000" y="2133000"/>
            <a:ext cx="2028600" cy="1380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53" name="Picture 7" descr=""/>
          <p:cNvPicPr/>
          <p:nvPr/>
        </p:nvPicPr>
        <p:blipFill>
          <a:blip r:embed="rId4"/>
          <a:stretch/>
        </p:blipFill>
        <p:spPr>
          <a:xfrm>
            <a:off x="3852000" y="3861000"/>
            <a:ext cx="1676160" cy="18568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54" name="Picture 8" descr=""/>
          <p:cNvPicPr/>
          <p:nvPr/>
        </p:nvPicPr>
        <p:blipFill>
          <a:blip r:embed="rId5"/>
          <a:stretch/>
        </p:blipFill>
        <p:spPr>
          <a:xfrm>
            <a:off x="2267640" y="2997000"/>
            <a:ext cx="1571400" cy="18378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55" name="Picture 10" descr=""/>
          <p:cNvPicPr/>
          <p:nvPr/>
        </p:nvPicPr>
        <p:blipFill>
          <a:blip r:embed="rId6"/>
          <a:stretch/>
        </p:blipFill>
        <p:spPr>
          <a:xfrm>
            <a:off x="285840" y="4214880"/>
            <a:ext cx="1723680" cy="20188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56" name="Рисунок 11" descr="j0432617.png"/>
          <p:cNvPicPr/>
          <p:nvPr/>
        </p:nvPicPr>
        <p:blipFill>
          <a:blip r:embed="rId7"/>
          <a:stretch/>
        </p:blipFill>
        <p:spPr>
          <a:xfrm>
            <a:off x="2051640" y="5013000"/>
            <a:ext cx="1414080" cy="1414080"/>
          </a:xfrm>
          <a:prstGeom prst="rect">
            <a:avLst/>
          </a:prstGeom>
          <a:ln w="0">
            <a:noFill/>
          </a:ln>
          <a:effectLst>
            <a:glow rad="228600">
              <a:srgbClr val="a8e034">
                <a:alpha val="40000"/>
              </a:srgbClr>
            </a:glow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57" name="Содержимое 12" descr="j0432645.png"/>
          <p:cNvPicPr/>
          <p:nvPr/>
        </p:nvPicPr>
        <p:blipFill>
          <a:blip r:embed="rId8"/>
          <a:stretch/>
        </p:blipFill>
        <p:spPr>
          <a:xfrm>
            <a:off x="467640" y="2277000"/>
            <a:ext cx="1714320" cy="1714320"/>
          </a:xfrm>
          <a:prstGeom prst="rect">
            <a:avLst/>
          </a:prstGeom>
          <a:ln w="9525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58" name="Picture 2" descr="Картинки по запросу мультяшные картинки для презентаций"/>
          <p:cNvPicPr/>
          <p:nvPr/>
        </p:nvPicPr>
        <p:blipFill>
          <a:blip r:embed="rId9"/>
          <a:stretch/>
        </p:blipFill>
        <p:spPr>
          <a:xfrm>
            <a:off x="5292000" y="3645000"/>
            <a:ext cx="2691360" cy="26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сточники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cliparts.getbb.ru/viewtopic.php?f=13&amp;t=3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7640" y="188640"/>
            <a:ext cx="8229240" cy="345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Мы употребляем глагол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have got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(иметь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для выражения принадлежност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(когда нам нужно сказать, что у кого-то что-то есть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I have got a toy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he has got a book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Картинки по запросу картинки для презентаций"/>
          <p:cNvPicPr/>
          <p:nvPr/>
        </p:nvPicPr>
        <p:blipFill>
          <a:blip r:embed="rId1"/>
          <a:stretch/>
        </p:blipFill>
        <p:spPr>
          <a:xfrm>
            <a:off x="3996000" y="1917000"/>
            <a:ext cx="2997000" cy="46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8229240" cy="136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Ты заметил, что глаголы немного отличаются?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274800" cy="283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Глагол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ave got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мы используем с местоимениями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e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you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y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Глагол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as got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мы используем с местоимениями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e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he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Картинки по запросу картинки для презентаций"/>
          <p:cNvPicPr/>
          <p:nvPr/>
        </p:nvPicPr>
        <p:blipFill>
          <a:blip r:embed="rId1"/>
          <a:stretch/>
        </p:blipFill>
        <p:spPr>
          <a:xfrm>
            <a:off x="6012000" y="1845000"/>
            <a:ext cx="2685600" cy="2857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Картинки по запросу картинки для презентаций"/>
          <p:cNvPicPr/>
          <p:nvPr/>
        </p:nvPicPr>
        <p:blipFill>
          <a:blip r:embed="rId2"/>
          <a:stretch/>
        </p:blipFill>
        <p:spPr>
          <a:xfrm>
            <a:off x="467640" y="3789000"/>
            <a:ext cx="2423520" cy="25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от так это выглядит в таблице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Содержимое 3"/>
          <p:cNvGraphicFramePr/>
          <p:nvPr/>
        </p:nvGraphicFramePr>
        <p:xfrm>
          <a:off x="457200" y="1785960"/>
          <a:ext cx="8229240" cy="4500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62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олная фор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раткая фор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6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 </a:t>
                      </a:r>
                      <a:r>
                        <a:rPr b="1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ave got </a:t>
                      </a: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 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’ve got </a:t>
                      </a: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 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6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You </a:t>
                      </a:r>
                      <a:r>
                        <a:rPr b="1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ave got </a:t>
                      </a: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 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You’ve got </a:t>
                      </a: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 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</a:tr>
              <a:tr h="56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We </a:t>
                      </a:r>
                      <a:r>
                        <a:rPr b="1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ave got </a:t>
                      </a: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 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We’ve got </a:t>
                      </a: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 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6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They </a:t>
                      </a:r>
                      <a:r>
                        <a:rPr b="1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ave got </a:t>
                      </a: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 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They’ve got </a:t>
                      </a: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 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</a:tr>
              <a:tr h="56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he </a:t>
                      </a:r>
                      <a:r>
                        <a:rPr b="1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as got </a:t>
                      </a: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 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he’s got </a:t>
                      </a: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 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6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e </a:t>
                      </a:r>
                      <a:r>
                        <a:rPr b="1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as got </a:t>
                      </a: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 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e’s got </a:t>
                      </a: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 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rgbClr val="bfd4fe"/>
                    </a:solidFill>
                  </a:tcPr>
                </a:tc>
              </a:tr>
              <a:tr h="56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t </a:t>
                      </a:r>
                      <a:r>
                        <a:rPr b="1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as got </a:t>
                      </a: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 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t’s got</a:t>
                      </a: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a 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роверим, как ты запомни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71000"/>
          </a:bodyPr>
          <a:p>
            <a:pPr marL="31392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Выбери правильное местоиме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have got a toy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have got a car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has got a doll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has got a ball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               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have got a computer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Облако 15"/>
          <p:cNvSpPr/>
          <p:nvPr/>
        </p:nvSpPr>
        <p:spPr>
          <a:xfrm>
            <a:off x="1500120" y="2000160"/>
            <a:ext cx="1142640" cy="428400"/>
          </a:xfrm>
          <a:prstGeom prst="cloud">
            <a:avLst/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блако 16"/>
          <p:cNvSpPr/>
          <p:nvPr/>
        </p:nvSpPr>
        <p:spPr>
          <a:xfrm>
            <a:off x="2857680" y="2000160"/>
            <a:ext cx="1071360" cy="356760"/>
          </a:xfrm>
          <a:prstGeom prst="cloud">
            <a:avLst/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7"/>
          <p:cNvSpPr/>
          <p:nvPr/>
        </p:nvSpPr>
        <p:spPr>
          <a:xfrm>
            <a:off x="1571760" y="2714760"/>
            <a:ext cx="928440" cy="428400"/>
          </a:xfrm>
          <a:prstGeom prst="rect">
            <a:avLst/>
          </a:prstGeom>
          <a:solidFill>
            <a:srgbClr val="ffffff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8"/>
          <p:cNvSpPr/>
          <p:nvPr/>
        </p:nvSpPr>
        <p:spPr>
          <a:xfrm>
            <a:off x="3143160" y="2714760"/>
            <a:ext cx="928440" cy="356760"/>
          </a:xfrm>
          <a:prstGeom prst="rect">
            <a:avLst/>
          </a:prstGeom>
          <a:solidFill>
            <a:srgbClr val="ffffff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Шестиугольник 19"/>
          <p:cNvSpPr/>
          <p:nvPr/>
        </p:nvSpPr>
        <p:spPr>
          <a:xfrm>
            <a:off x="1500120" y="3500280"/>
            <a:ext cx="1060200" cy="4284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Шестиугольник 20"/>
          <p:cNvSpPr/>
          <p:nvPr/>
        </p:nvSpPr>
        <p:spPr>
          <a:xfrm>
            <a:off x="3000240" y="3429000"/>
            <a:ext cx="1131480" cy="4996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Волна 21"/>
          <p:cNvSpPr/>
          <p:nvPr/>
        </p:nvSpPr>
        <p:spPr>
          <a:xfrm>
            <a:off x="1357200" y="4214880"/>
            <a:ext cx="1356840" cy="428400"/>
          </a:xfrm>
          <a:prstGeom prst="wave">
            <a:avLst>
              <a:gd name="adj1" fmla="val 12500"/>
              <a:gd name="adj2" fmla="val 6948"/>
            </a:avLst>
          </a:prstGeom>
          <a:solidFill>
            <a:srgbClr val="ffffff"/>
          </a:solidFill>
          <a:ln>
            <a:solidFill>
              <a:srgbClr val="8064a2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Волна 22"/>
          <p:cNvSpPr/>
          <p:nvPr/>
        </p:nvSpPr>
        <p:spPr>
          <a:xfrm>
            <a:off x="3214800" y="4214880"/>
            <a:ext cx="914040" cy="485280"/>
          </a:xfrm>
          <a:prstGeom prst="wave">
            <a:avLst>
              <a:gd name="adj1" fmla="val 12500"/>
              <a:gd name="adj2" fmla="val 0"/>
            </a:avLst>
          </a:prstGeom>
          <a:solidFill>
            <a:srgbClr val="ffffff"/>
          </a:solidFill>
          <a:ln>
            <a:solidFill>
              <a:srgbClr val="8064a2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Капля 23"/>
          <p:cNvSpPr/>
          <p:nvPr/>
        </p:nvSpPr>
        <p:spPr>
          <a:xfrm>
            <a:off x="1643040" y="4929120"/>
            <a:ext cx="842760" cy="428400"/>
          </a:xfrm>
          <a:prstGeom prst="teardrop">
            <a:avLst>
              <a:gd name="adj" fmla="val 100000"/>
            </a:avLst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Капля 24"/>
          <p:cNvSpPr/>
          <p:nvPr/>
        </p:nvSpPr>
        <p:spPr>
          <a:xfrm>
            <a:off x="3143160" y="4929120"/>
            <a:ext cx="699840" cy="628200"/>
          </a:xfrm>
          <a:prstGeom prst="teardrop">
            <a:avLst>
              <a:gd name="adj" fmla="val 161017"/>
            </a:avLst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179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delay="0" evt="onClick">
                    <p:tgtEl>
                      <p:spTgt spid="180"/>
                    </p:tgtEl>
                  </p:cond>
                </p:stCondLst>
                <p:childTnLst>
                  <p:par>
                    <p:cTn id="9" fill="hold">
                      <p:stCondLst>
                        <p:cond delay="0"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delay="0" evt="onClick">
                    <p:tgtEl>
                      <p:spTgt spid="181"/>
                    </p:tgtEl>
                  </p:cond>
                </p:stCondLst>
                <p:childTnLst>
                  <p:par>
                    <p:cTn id="14" fill="hold">
                      <p:stCondLst>
                        <p:cond delay="0"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delay="0" evt="onClick">
                    <p:tgtEl>
                      <p:spTgt spid="182"/>
                    </p:tgtEl>
                  </p:cond>
                </p:stCondLst>
                <p:childTnLst>
                  <p:par>
                    <p:cTn id="20" fill="hold">
                      <p:stCondLst>
                        <p:cond delay="0"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delay="0" evt="onClick">
                    <p:tgtEl>
                      <p:spTgt spid="183"/>
                    </p:tgtEl>
                  </p:cond>
                </p:stCondLst>
                <p:childTnLst>
                  <p:par>
                    <p:cTn id="25" fill="hold">
                      <p:stCondLst>
                        <p:cond delay="0"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delay="0" evt="onClick">
                    <p:tgtEl>
                      <p:spTgt spid="184"/>
                    </p:tgtEl>
                  </p:cond>
                </p:stCondLst>
                <p:childTnLst>
                  <p:par>
                    <p:cTn id="30" fill="hold">
                      <p:stCondLst>
                        <p:cond delay="0"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delay="0" evt="onClick">
                    <p:tgtEl>
                      <p:spTgt spid="185"/>
                    </p:tgtEl>
                  </p:cond>
                </p:stCondLst>
                <p:childTnLst>
                  <p:par>
                    <p:cTn id="36" fill="hold">
                      <p:stCondLst>
                        <p:cond delay="0"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delay="0" evt="onClick">
                    <p:tgtEl>
                      <p:spTgt spid="186"/>
                    </p:tgtEl>
                  </p:cond>
                </p:stCondLst>
                <p:childTnLst>
                  <p:par>
                    <p:cTn id="42" fill="hold">
                      <p:stCondLst>
                        <p:cond delay="0"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186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delay="0" evt="onClick">
                    <p:tgtEl>
                      <p:spTgt spid="187"/>
                    </p:tgtEl>
                  </p:cond>
                </p:stCondLst>
                <p:childTnLst>
                  <p:par>
                    <p:cTn id="47" fill="hold">
                      <p:stCondLst>
                        <p:cond delay="0"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delay="0" evt="onClick">
                    <p:tgtEl>
                      <p:spTgt spid="188"/>
                    </p:tgtEl>
                  </p:cond>
                </p:stCondLst>
                <p:childTnLst>
                  <p:par>
                    <p:cTn id="52" fill="hold">
                      <p:stCondLst>
                        <p:cond delay="0"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071720"/>
            <a:ext cx="8229240" cy="5054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ыбери правильный вариан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Jane                              got a black dog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My parents                            got two children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My friend and I                             got new bikes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Облако 3"/>
          <p:cNvSpPr/>
          <p:nvPr/>
        </p:nvSpPr>
        <p:spPr>
          <a:xfrm>
            <a:off x="1357200" y="1643040"/>
            <a:ext cx="1071360" cy="914040"/>
          </a:xfrm>
          <a:prstGeom prst="cloud">
            <a:avLst/>
          </a:prstGeom>
          <a:solidFill>
            <a:srgbClr val="ffffff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блако 4"/>
          <p:cNvSpPr/>
          <p:nvPr/>
        </p:nvSpPr>
        <p:spPr>
          <a:xfrm>
            <a:off x="2786040" y="1714680"/>
            <a:ext cx="928440" cy="713880"/>
          </a:xfrm>
          <a:prstGeom prst="cloud">
            <a:avLst/>
          </a:prstGeom>
          <a:solidFill>
            <a:srgbClr val="ffffff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блако 5"/>
          <p:cNvSpPr/>
          <p:nvPr/>
        </p:nvSpPr>
        <p:spPr>
          <a:xfrm>
            <a:off x="2500200" y="2714760"/>
            <a:ext cx="1071360" cy="914040"/>
          </a:xfrm>
          <a:prstGeom prst="cloud">
            <a:avLst/>
          </a:prstGeom>
          <a:solidFill>
            <a:srgbClr val="ffffff"/>
          </a:solidFill>
          <a:ln>
            <a:solidFill>
              <a:srgbClr val="8064a2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Облако 6"/>
          <p:cNvSpPr/>
          <p:nvPr/>
        </p:nvSpPr>
        <p:spPr>
          <a:xfrm>
            <a:off x="3786120" y="2714760"/>
            <a:ext cx="999720" cy="914040"/>
          </a:xfrm>
          <a:prstGeom prst="cloud">
            <a:avLst/>
          </a:prstGeom>
          <a:solidFill>
            <a:srgbClr val="ffffff"/>
          </a:solidFill>
          <a:ln>
            <a:solidFill>
              <a:srgbClr val="8064a2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блако 7"/>
          <p:cNvSpPr/>
          <p:nvPr/>
        </p:nvSpPr>
        <p:spPr>
          <a:xfrm>
            <a:off x="3143160" y="4000680"/>
            <a:ext cx="928440" cy="985320"/>
          </a:xfrm>
          <a:prstGeom prst="cloud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Облако 8"/>
          <p:cNvSpPr/>
          <p:nvPr/>
        </p:nvSpPr>
        <p:spPr>
          <a:xfrm>
            <a:off x="4214880" y="4000680"/>
            <a:ext cx="1071360" cy="914040"/>
          </a:xfrm>
          <a:prstGeom prst="cloud">
            <a:avLst/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delay="0" evt="onClick">
                    <p:tgtEl>
                      <p:spTgt spid="190"/>
                    </p:tgtEl>
                  </p:cond>
                </p:stCondLst>
                <p:childTnLst>
                  <p:par>
                    <p:cTn id="59" fill="hold">
                      <p:stCondLst>
                        <p:cond delay="0"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delay="0" evt="onClick">
                    <p:tgtEl>
                      <p:spTgt spid="191"/>
                    </p:tgtEl>
                  </p:cond>
                </p:stCondLst>
                <p:childTnLst>
                  <p:par>
                    <p:cTn id="65" fill="hold">
                      <p:stCondLst>
                        <p:cond delay="0"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delay="0" evt="onClick">
                    <p:tgtEl>
                      <p:spTgt spid="192"/>
                    </p:tgtEl>
                  </p:cond>
                </p:stCondLst>
                <p:childTnLst>
                  <p:par>
                    <p:cTn id="70" fill="hold">
                      <p:stCondLst>
                        <p:cond delay="0"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delay="0" evt="onClick">
                    <p:tgtEl>
                      <p:spTgt spid="193"/>
                    </p:tgtEl>
                  </p:cond>
                </p:stCondLst>
                <p:childTnLst>
                  <p:par>
                    <p:cTn id="76" fill="hold">
                      <p:stCondLst>
                        <p:cond delay="0"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delay="0" evt="onClick">
                    <p:tgtEl>
                      <p:spTgt spid="194"/>
                    </p:tgtEl>
                  </p:cond>
                </p:stCondLst>
                <p:childTnLst>
                  <p:par>
                    <p:cTn id="81" fill="hold">
                      <p:stCondLst>
                        <p:cond delay="0"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delay="0" evt="onClick">
                    <p:tgtEl>
                      <p:spTgt spid="195"/>
                    </p:tgtEl>
                  </p:cond>
                </p:stCondLst>
                <p:childTnLst>
                  <p:par>
                    <p:cTn id="87" fill="hold">
                      <p:stCondLst>
                        <p:cond delay="0"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Чтобы сказать, что у тебя чего-то нет, тебе понадобится слово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no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1640" y="1628640"/>
            <a:ext cx="706680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но обязательно должно стоять между словами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ave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и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go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или между словами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as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и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go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 have not got a dog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Mike has not got a sister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Кратко это выглядит так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aven’t go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asn’t go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4" descr="Картинки по запросу картинки для презентаций"/>
          <p:cNvPicPr/>
          <p:nvPr/>
        </p:nvPicPr>
        <p:blipFill>
          <a:blip r:embed="rId1"/>
          <a:stretch/>
        </p:blipFill>
        <p:spPr>
          <a:xfrm>
            <a:off x="4847760" y="3069000"/>
            <a:ext cx="2964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омоги слову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not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стать на свое место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ave                got a house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m has                  got a robot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ave                got classes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has                     got a kitten.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Овал 3"/>
          <p:cNvSpPr/>
          <p:nvPr/>
        </p:nvSpPr>
        <p:spPr>
          <a:xfrm>
            <a:off x="6715080" y="1643040"/>
            <a:ext cx="1414080" cy="713880"/>
          </a:xfrm>
          <a:prstGeom prst="ellipse">
            <a:avLst/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dk1"/>
                </a:solidFill>
                <a:latin typeface="Calibri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Облако 4"/>
          <p:cNvSpPr/>
          <p:nvPr/>
        </p:nvSpPr>
        <p:spPr>
          <a:xfrm>
            <a:off x="6929280" y="3000240"/>
            <a:ext cx="1414080" cy="571320"/>
          </a:xfrm>
          <a:prstGeom prst="cloud">
            <a:avLst/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Капля 5"/>
          <p:cNvSpPr/>
          <p:nvPr/>
        </p:nvSpPr>
        <p:spPr>
          <a:xfrm>
            <a:off x="7072200" y="3929040"/>
            <a:ext cx="914040" cy="642600"/>
          </a:xfrm>
          <a:prstGeom prst="teardrop">
            <a:avLst>
              <a:gd name="adj" fmla="val 100000"/>
            </a:avLst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ятно 2 6"/>
          <p:cNvSpPr/>
          <p:nvPr/>
        </p:nvSpPr>
        <p:spPr>
          <a:xfrm>
            <a:off x="6786720" y="5000760"/>
            <a:ext cx="1356840" cy="914040"/>
          </a:xfrm>
          <a:prstGeom prst="irregularSeal2">
            <a:avLst/>
          </a:prstGeom>
          <a:solidFill>
            <a:srgbClr val="ffffff"/>
          </a:soli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delay="0" evt="onClick">
                    <p:tgtEl>
                      <p:spTgt spid="201"/>
                    </p:tgtEl>
                  </p:cond>
                </p:stCondLst>
                <p:childTnLst>
                  <p:par>
                    <p:cTn id="93" fill="hold">
                      <p:stCondLst>
                        <p:cond delay="0"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198 -0.03171 E">
                                      <p:cBhvr>
                                        <p:cTn id="9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delay="0" evt="onClick">
                    <p:tgtEl>
                      <p:spTgt spid="202"/>
                    </p:tgtEl>
                  </p:cond>
                </p:stCondLst>
                <p:childTnLst>
                  <p:par>
                    <p:cTn id="98" fill="hold">
                      <p:stCondLst>
                        <p:cond delay="0"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8 -0.00023 L -0.54774 -0.03172 E">
                                      <p:cBhvr>
                                        <p:cTn id="10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delay="0" evt="onClick">
                    <p:tgtEl>
                      <p:spTgt spid="203"/>
                    </p:tgtEl>
                  </p:cond>
                </p:stCondLst>
                <p:childTnLst>
                  <p:par>
                    <p:cTn id="103" fill="hold">
                      <p:stCondLst>
                        <p:cond delay="0"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8.14815E-006 L -0.51962 -0.02107 E">
                                      <p:cBhvr>
                                        <p:cTn id="10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delay="0" evt="onClick">
                    <p:tgtEl>
                      <p:spTgt spid="204"/>
                    </p:tgtEl>
                  </p:cond>
                </p:stCondLst>
                <p:childTnLst>
                  <p:par>
                    <p:cTn id="108" fill="hold">
                      <p:stCondLst>
                        <p:cond delay="0"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7.03704E-006 L -0.5356 -0.03148 E">
                                      <p:cBhvr>
                                        <p:cTn id="11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Теперь научимся задавать вопросы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3080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/>
                </a:solidFill>
                <a:latin typeface="Calibri"/>
              </a:rPr>
              <a:t>Для этого нам надо подлежащее поменять местами со словом </a:t>
            </a:r>
            <a:r>
              <a:rPr b="1" lang="en-US" sz="3200" spc="-1" strike="noStrike">
                <a:solidFill>
                  <a:schemeClr val="accent1"/>
                </a:solidFill>
                <a:latin typeface="Calibri"/>
              </a:rPr>
              <a:t>have</a:t>
            </a:r>
            <a:r>
              <a:rPr b="1" lang="ru-RU" sz="3200" spc="-1" strike="noStrike">
                <a:solidFill>
                  <a:schemeClr val="accent1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chemeClr val="accent1"/>
                </a:solidFill>
                <a:latin typeface="Calibri"/>
              </a:rPr>
              <a:t>или словом </a:t>
            </a:r>
            <a:r>
              <a:rPr b="1" lang="en-US" sz="3200" spc="-1" strike="noStrike">
                <a:solidFill>
                  <a:schemeClr val="accent1"/>
                </a:solidFill>
                <a:latin typeface="Calibri"/>
              </a:rPr>
              <a:t>has</a:t>
            </a:r>
            <a:r>
              <a:rPr b="0" lang="ru-RU" sz="3200" spc="-1" strike="noStrike">
                <a:solidFill>
                  <a:schemeClr val="accent1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/>
                </a:solidFill>
                <a:latin typeface="Calibri"/>
              </a:rPr>
              <a:t>Было так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y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have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chemeClr val="accent1"/>
                </a:solidFill>
                <a:latin typeface="Calibri"/>
              </a:rPr>
              <a:t>got red balls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/>
                </a:solidFill>
                <a:latin typeface="Calibri"/>
              </a:rPr>
              <a:t>Стало так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Have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they </a:t>
            </a:r>
            <a:r>
              <a:rPr b="0" lang="en-US" sz="3200" spc="-1" strike="noStrike">
                <a:solidFill>
                  <a:schemeClr val="accent1"/>
                </a:solidFill>
                <a:latin typeface="Calibri"/>
              </a:rPr>
              <a:t>got red balls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Картинки по запросу картинки для презентаций"/>
          <p:cNvPicPr/>
          <p:nvPr/>
        </p:nvPicPr>
        <p:blipFill>
          <a:blip r:embed="rId1"/>
          <a:stretch/>
        </p:blipFill>
        <p:spPr>
          <a:xfrm>
            <a:off x="4572000" y="2637000"/>
            <a:ext cx="30826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  <Words>571</Words>
  <Paragraphs>151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4:40:39Z</dcterms:created>
  <dc:creator>User</dc:creator>
  <dc:description/>
  <dc:language>en-US</dc:language>
  <cp:lastModifiedBy>Admin</cp:lastModifiedBy>
  <dcterms:modified xsi:type="dcterms:W3CDTF">2016-10-13T07:08:01Z</dcterms:modified>
  <cp:revision>27</cp:revision>
  <dc:subject/>
  <dc:title>Страна Грамматика: глагол have got в настоящем време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