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163-6B44-46E7-A663-A87445E0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CB3-B5D1-4C94-A761-C1FBDB11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6B9-FAED-4746-B561-8170F0A2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E9D-AF81-4717-AD36-BD685D38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6BC6-A5D3-488C-9A14-F9CF11A9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6AB5-C8FA-41DF-B28B-11DDAF1A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4D8A-9C3E-44EF-9251-7CEAE080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8437-86BD-4425-A5A0-DBA638DD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2381-59D1-44CC-9FA5-3D76D427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B0B3-08B5-4343-B08A-2B3C4828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CCD4-4118-4ADF-90B5-65371698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C96-F997-4E98-B8EB-B1F80D6A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CD39-30A7-481E-BCE8-B6569280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4F13-828C-45A5-B78C-F5E39E18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A60C-C197-4E87-B196-378E4F3E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D05A-1D7B-4A52-9843-3A923AC2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8487-9502-4F50-9A3A-9657D676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FA9-50D9-4DB6-9DD1-858CBD6F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07B-4977-45C7-BF32-435AE857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3F3-9B6A-4BD0-83E8-529E9689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FAD-E596-4A26-8E32-7B5F6B6B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2BF-59E3-4FEE-AA1E-DAC0C794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1A1-B35A-477B-883D-C61AE3CF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EC4-6657-47A8-918F-4F24024C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24EF-1899-4B01-BE1F-8F3A0C6C81E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5DE7-5A72-40BF-909B-13A622FE2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http://metodisty.ru/download_file/2009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650B-9012-48DF-BBBB-52AD2561A8D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7D78-3D17-4984-B69A-5DE1D4A38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" descr="http://metodisty.ru/download_file/2009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Заголовок 1" descr=""/>
          <p:cNvPicPr/>
          <p:nvPr/>
        </p:nvPicPr>
        <p:blipFill>
          <a:blip r:embed="rId3"/>
          <a:stretch/>
        </p:blipFill>
        <p:spPr>
          <a:xfrm>
            <a:off x="639720" y="890640"/>
            <a:ext cx="7364520" cy="4089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42960" y="5229360"/>
            <a:ext cx="7400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МБОУ «Краснооктябрь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Учитель математики: Хандус Татьяна Елис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296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етоды решения логарифмических урав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C261-519E-4C0B-A51C-620C1919E9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AA93-AE67-46F7-942F-7D473D3A7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20840" y="1511280"/>
            <a:ext cx="82724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1428840"/>
            <a:ext cx="9144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Прямая со стрелкой 38"/>
          <p:cNvCxnSpPr/>
          <p:nvPr/>
        </p:nvCxnSpPr>
        <p:spPr>
          <a:xfrm flipV="1">
            <a:off x="3857760" y="1928160"/>
            <a:ext cx="1357920" cy="2786760"/>
          </a:xfrm>
          <a:prstGeom prst="straightConnector1">
            <a:avLst/>
          </a:prstGeom>
          <a:ln w="5724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3" name="Прямая со стрелкой 32"/>
          <p:cNvCxnSpPr/>
          <p:nvPr/>
        </p:nvCxnSpPr>
        <p:spPr>
          <a:xfrm>
            <a:off x="3786120" y="1785960"/>
            <a:ext cx="1215360" cy="2358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42976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аждому уравнению поставьте в соответствие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метод его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B827-BF6F-42BC-9A4C-A66FB89F0E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235C-B2CB-4D44-99CD-4E86581EE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785960" y="1500120"/>
            <a:ext cx="1928880" cy="571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3871800" cy="571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4465440" y="-1303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357120" y="3286080"/>
            <a:ext cx="4094280" cy="642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4469400" y="109440"/>
            <a:ext cx="20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4"/>
          <a:stretch/>
        </p:blipFill>
        <p:spPr>
          <a:xfrm>
            <a:off x="1785960" y="4286160"/>
            <a:ext cx="2014560" cy="571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0" y="71424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5"/>
          <a:stretch/>
        </p:blipFill>
        <p:spPr>
          <a:xfrm>
            <a:off x="1214280" y="5072040"/>
            <a:ext cx="2640240" cy="5716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8"/>
          <p:cNvSpPr/>
          <p:nvPr/>
        </p:nvSpPr>
        <p:spPr>
          <a:xfrm>
            <a:off x="4500720" y="4214880"/>
            <a:ext cx="43574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определению логариф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9"/>
          <p:cNvSpPr/>
          <p:nvPr/>
        </p:nvSpPr>
        <p:spPr>
          <a:xfrm>
            <a:off x="5000760" y="3500280"/>
            <a:ext cx="378612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 потен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4857840" y="5072040"/>
            <a:ext cx="350028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 под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4714920" y="1357200"/>
            <a:ext cx="407196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логариф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4471560" y="576360"/>
            <a:ext cx="200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2160" y="97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4471560" y="576360"/>
            <a:ext cx="200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5429160" y="2214720"/>
            <a:ext cx="3143520" cy="1191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ение по формуле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"/>
          <p:cNvPicPr/>
          <p:nvPr/>
        </p:nvPicPr>
        <p:blipFill>
          <a:blip r:embed="rId6"/>
          <a:stretch/>
        </p:blipFill>
        <p:spPr>
          <a:xfrm>
            <a:off x="5429160" y="2643120"/>
            <a:ext cx="3143520" cy="571680"/>
          </a:xfrm>
          <a:prstGeom prst="rect">
            <a:avLst/>
          </a:prstGeom>
          <a:ln w="0">
            <a:noFill/>
          </a:ln>
        </p:spPr>
      </p:pic>
      <p:cxnSp>
        <p:nvCxnSpPr>
          <p:cNvPr id="118" name="Прямая со стрелкой 34"/>
          <p:cNvCxnSpPr/>
          <p:nvPr/>
        </p:nvCxnSpPr>
        <p:spPr>
          <a:xfrm>
            <a:off x="4357800" y="2642760"/>
            <a:ext cx="100080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9" name="Прямая со стрелкой 36"/>
          <p:cNvCxnSpPr/>
          <p:nvPr/>
        </p:nvCxnSpPr>
        <p:spPr>
          <a:xfrm>
            <a:off x="4071960" y="4000680"/>
            <a:ext cx="714960" cy="1357920"/>
          </a:xfrm>
          <a:prstGeom prst="straightConnector1">
            <a:avLst/>
          </a:prstGeom>
          <a:ln w="5724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120" name="Прямая со стрелкой 40"/>
          <p:cNvCxnSpPr/>
          <p:nvPr/>
        </p:nvCxnSpPr>
        <p:spPr>
          <a:xfrm flipV="1">
            <a:off x="3927960" y="2571120"/>
            <a:ext cx="1429560" cy="2786760"/>
          </a:xfrm>
          <a:prstGeom prst="straightConnector1">
            <a:avLst/>
          </a:prstGeom>
          <a:ln w="5724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Что за прелесть Логарифмическая “комедия 2 &gt; 3”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то за прелесть Логарифмическая “комедия 2 &gt; 3”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7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/4 &gt; 1/8,бесспорно правильно. (1/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&gt; (1/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же не внушающе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7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мнение. Большему числу соответствует больший логариф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7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и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7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lg(1/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&gt; lg(1/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 2lg(1/2) &gt; 3lg(1/2). После сокращения на lg(1/2) имеем 2 &gt;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Дата 3"/>
          <p:cNvSpPr/>
          <p:nvPr/>
        </p:nvSpPr>
        <p:spPr>
          <a:xfrm>
            <a:off x="5857920" y="60008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C018-63E2-448F-85D4-FCE2DD326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237960" y="201600"/>
            <a:ext cx="2835000" cy="230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121200" y="4548240"/>
            <a:ext cx="2358720" cy="2254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49320" y="4475160"/>
            <a:ext cx="2176200" cy="2468520"/>
          </a:xfrm>
          <a:prstGeom prst="rect">
            <a:avLst/>
          </a:prstGeom>
          <a:ln w="0">
            <a:noFill/>
          </a:ln>
        </p:spPr>
      </p:pic>
      <p:grpSp>
        <p:nvGrpSpPr>
          <p:cNvPr id="129" name="AutoShape 35"/>
          <p:cNvGrpSpPr/>
          <p:nvPr/>
        </p:nvGrpSpPr>
        <p:grpSpPr>
          <a:xfrm>
            <a:off x="4591080" y="2425680"/>
            <a:ext cx="4583160" cy="3773520"/>
            <a:chOff x="4591080" y="2425680"/>
            <a:chExt cx="4583160" cy="3773520"/>
          </a:xfrm>
        </p:grpSpPr>
        <p:pic>
          <p:nvPicPr>
            <p:cNvPr id="130" name="AutoShape 35" descr=""/>
            <p:cNvPicPr/>
            <p:nvPr/>
          </p:nvPicPr>
          <p:blipFill>
            <a:blip r:embed="rId4"/>
            <a:stretch/>
          </p:blipFill>
          <p:spPr>
            <a:xfrm>
              <a:off x="4591080" y="2425680"/>
              <a:ext cx="458316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rot="808800">
              <a:off x="5400720" y="3008160"/>
              <a:ext cx="271620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7030a0"/>
                  </a:solidFill>
                  <a:latin typeface="Georgia"/>
                </a:rPr>
                <a:t>Ну кто придумал эту математику 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AutoShape 35"/>
          <p:cNvGrpSpPr/>
          <p:nvPr/>
        </p:nvGrpSpPr>
        <p:grpSpPr>
          <a:xfrm>
            <a:off x="1809720" y="6480"/>
            <a:ext cx="5591160" cy="2498760"/>
            <a:chOff x="1809720" y="6480"/>
            <a:chExt cx="5591160" cy="2498760"/>
          </a:xfrm>
        </p:grpSpPr>
        <p:pic>
          <p:nvPicPr>
            <p:cNvPr id="133" name="AutoShape 35" descr=""/>
            <p:cNvPicPr/>
            <p:nvPr/>
          </p:nvPicPr>
          <p:blipFill>
            <a:blip r:embed="rId5"/>
            <a:stretch/>
          </p:blipFill>
          <p:spPr>
            <a:xfrm>
              <a:off x="1809720" y="6480"/>
              <a:ext cx="559116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1215600">
              <a:off x="3497400" y="718920"/>
              <a:ext cx="287496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800000"/>
                  </a:solidFill>
                  <a:latin typeface="Georgia"/>
                </a:rPr>
                <a:t>У меня всё получилось!!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AutoShape 35"/>
          <p:cNvGrpSpPr/>
          <p:nvPr/>
        </p:nvGrpSpPr>
        <p:grpSpPr>
          <a:xfrm>
            <a:off x="225360" y="2127240"/>
            <a:ext cx="4737240" cy="3139920"/>
            <a:chOff x="225360" y="2127240"/>
            <a:chExt cx="4737240" cy="3139920"/>
          </a:xfrm>
        </p:grpSpPr>
        <p:pic>
          <p:nvPicPr>
            <p:cNvPr id="136" name="AutoShape 35" descr=""/>
            <p:cNvPicPr/>
            <p:nvPr/>
          </p:nvPicPr>
          <p:blipFill>
            <a:blip r:embed="rId6"/>
            <a:stretch/>
          </p:blipFill>
          <p:spPr>
            <a:xfrm>
              <a:off x="225360" y="2127240"/>
              <a:ext cx="4737240" cy="31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rot="21375000">
              <a:off x="1304640" y="2684520"/>
              <a:ext cx="258588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2060"/>
                  </a:solidFill>
                  <a:latin typeface="Georgia"/>
                </a:rPr>
                <a:t>Надо  решить ещё  пару примеро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Нижний колонтитул 7"/>
          <p:cNvSpPr/>
          <p:nvPr/>
        </p:nvSpPr>
        <p:spPr>
          <a:xfrm>
            <a:off x="5500800" y="6143760"/>
            <a:ext cx="33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TextBox 8" descr=""/>
          <p:cNvPicPr/>
          <p:nvPr/>
        </p:nvPicPr>
        <p:blipFill>
          <a:blip r:embed="rId7"/>
          <a:stretch/>
        </p:blipFill>
        <p:spPr>
          <a:xfrm>
            <a:off x="5979960" y="103320"/>
            <a:ext cx="31705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Loner\Рабочий стол\Рисунки по координатам лошадь,верблюд и цветок\компьютерhtm_files\птица_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Заголовок 1" descr=""/>
          <p:cNvPicPr/>
          <p:nvPr/>
        </p:nvPicPr>
        <p:blipFill>
          <a:blip r:embed="rId2"/>
          <a:stretch/>
        </p:blipFill>
        <p:spPr>
          <a:xfrm>
            <a:off x="706320" y="566640"/>
            <a:ext cx="79074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6:54:02Z</dcterms:created>
  <dc:creator>1</dc:creator>
  <dc:description/>
  <dc:language>en-US</dc:language>
  <cp:lastModifiedBy>1</cp:lastModifiedBy>
  <dcterms:modified xsi:type="dcterms:W3CDTF">2021-11-01T06:30:49Z</dcterms:modified>
  <cp:revision>61</cp:revision>
  <dc:subject/>
  <dc:title>Тема урока:   методы решения логарифмических уравнений</dc:title>
</cp:coreProperties>
</file>