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94E-6C27-4290-A0E2-B5A391BB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7D1F-7454-4C87-9F55-4DD3DE08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2B4DD-0E63-4CEE-A479-24162136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382E4-C94B-4BA0-8021-1B99431E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15BC7-28BF-4ED7-B04D-842E1D15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7B0DC-98B6-4C34-9BCF-D79CBC31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0EF99-1705-4E3C-A165-3CDB9D74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D532A-E0E0-414D-BDCE-26376231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CF4C5-6111-4901-BC55-B3C53A2E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B3601-2F90-49C4-B7AF-E93DD7E8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F5B09-7B0E-4BAA-BEB6-176033FC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939F1-42FB-460A-9251-B59CABC4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55E-AE4C-4B20-91B4-5BD469F7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9D236-2282-448F-BBA3-06DE062E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7C916-A19B-4F3F-ADE7-EAA4494E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C0CC2-E3A2-4F40-B110-5534BD07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A0EBB-D977-4858-A16D-60980871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9DC9B-439E-4108-AF08-78FF8524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40C42-4159-4384-A702-E0FA8BF4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0E6B4-271E-4FA8-8BE8-1E3363E9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E6C70-3905-4DEB-B29A-B416BA94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8CEBF-31F7-4080-9ECC-1E1E2AC5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17A5E-B58D-4D51-A234-3B762C25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985-8553-4100-8EDA-BC11DA2F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AC0D2-59FC-4FC7-9CC4-B36EF763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7BDE6-537A-4B55-A4B1-89D8AA81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80C66-29BD-4148-A068-838352E7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27F1C-E4CC-44C0-9A73-1783F267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E26C8-6574-422D-A6CE-07D1BD90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7CCF8-A2CB-44D7-AB81-4C4764AA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DA35E-7F14-4CE1-B4D0-0B049036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85A35-45F2-48A3-8BB4-62A95F6C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CE48F-C0C9-4D62-A49D-4D95F6DC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C9D9F-3EDE-4D72-BC9B-B450C198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95EE-32CE-480A-82E0-D88FF971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95163-E075-48E6-B0B1-73F11CB1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47750-3460-404E-96A6-AF2BE72B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951C9-BD0A-4580-95AF-5F35A106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AB563-CFA9-4BC1-A504-212E6CA7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98497-8E26-4C4B-A7B5-79F113C5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AE3DA-6EBF-4017-A3AF-7130B749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A5D43-2848-4247-825E-EFA9EF9A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F74ED-4C31-4CB4-B4F3-033F371C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943EA-1867-4EDD-9620-13AE073A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0A9AF-19CA-4CCA-B9DD-D8A8CFF7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750B-B7D6-494B-A1E5-FFA88646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765D9-8D11-4295-8C81-118A6F68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EA414-A5E0-490B-BCC0-91E1DCDC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2893A-FB2E-430C-A37B-9D719F63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AC525-136D-43FA-9C0D-0742E33B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9EFA5-BEAC-4CF9-B3CF-C871E9DC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CF628-DCCB-4269-8E88-B31ADE3D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8F981-C219-439E-9AF2-2045E9C2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01F16-84A7-437A-B696-84EDFB7D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F15D6-FE33-48D7-B2C7-483C379F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67C1E-8DB1-416B-AA72-CC63D272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4330-DE0D-4084-81DF-C5083DA6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6D5AA-D24C-43D3-A5CD-E0199077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DFB41-27DD-4969-87B3-23FF6F64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DC4A7-9788-43DC-9FCD-AFB5107B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C95EA-5401-4045-9626-92D5E121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17348-81C0-4233-8D6A-45C3D8B6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D9932-0351-4413-AF6D-36717906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21D56-A460-4308-8448-39037EC1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6D6659-BBE3-4A77-B7A0-8A3A6A31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B4C7D-0509-4C15-AD8A-0E519940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A1EE1-08E9-4212-A2C5-DC4DAC07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2783-837D-43E6-9E19-E5EECDEE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815AE-A2BF-4EAE-9AD3-55431C9A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32E9C-0F92-4340-931F-BB3D9A4F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F6AD1-27ED-4734-A18A-936CADA7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5338D-E5B6-406D-95F9-29DE377F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50DE07-F2D3-448E-BCB9-764A30DD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755AA3-BDDB-44A7-B848-9BC532F5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B0380-5C09-4BEC-BF4E-015CBA7A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1335D-8B5B-45CB-9389-3BBD60DA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EB497-A264-4EFF-BF01-36E91611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6F21D-2628-4A40-B020-467EFA15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2DB5-F93F-4892-979B-4C5A061F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2DBDA8-19AF-4077-8AC5-1BE215BC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5E9983-EA8C-4D5D-9F8B-4B92934D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D421B-49B8-44F6-9D74-5AE82285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1E3637-C2A9-4F9F-B90C-37D17E5E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603C0-CB89-40A2-9D94-EFD5C55D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82AA88-9AC0-4761-B17B-09D4130B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08C53-8A2A-4E28-84A2-6D36C1A3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C07EF-78C9-4145-BF23-564426D6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673DE-B122-4EA1-A3DB-D7F0B14A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B52B65-6B6B-45C7-BCE9-5B6F31BF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9555-357D-4B70-89D9-A9985497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5EF08-1A3A-40E7-B294-7F189317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4EDD7-6138-4DF0-98E0-3788C102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2BE64-B384-49AC-9A2A-18F47B67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3CC049-0282-4FF6-8CFB-9F59937E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01AF9-09AB-4233-BAD9-EF202539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8DD979-6739-4663-ACF7-71520800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443813-2926-4287-9356-4E58CE5B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8F25A-F22D-46E6-BB0C-F9BB01DE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6FCBC-1AF7-41D5-9E1F-3740263D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FABA72-5D75-428E-9DB6-EF205B4A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94D1-111F-4DC4-9344-C83E4A36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A9861A-74D3-425B-AE0A-38FEF2B2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85D899-DCFF-4B95-9AEA-9AA0AC5A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4E92A2-40C9-4DE7-9188-B3AE32FA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341B16-74E6-40D8-893B-CD478432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10C346-D2C7-49F4-87F6-9520BAE4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740D93-C6AC-4688-8525-A788A977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E292F-B127-41CA-9644-D541FC8A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8A9EC6-9CA5-4906-9872-967C5438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488A8-2EF1-48D9-BB1E-379CE969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512933-AAF6-48D9-9257-33C0EC5B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9ED-BD56-4DD1-9A2F-2FD44E60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4158-13D2-4CE9-8901-1C345773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03ACA-DF23-47A9-9E60-9DC00DBF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6EAB09-CC73-49B4-A02D-5041EE94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23F5D4-B456-49FB-B473-EA4D870C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400226-DC38-469C-BAAF-0D960D59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E6FE81-7BD2-4C62-B741-70C309F5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9A97-CDE9-4BBA-AB17-9FDCAEDF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59C8-C2D7-460D-B4CF-F3AC7E94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CFA2-5057-4F32-9C79-13EF36A0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DB1B-8B72-4E6A-87B2-5F6F48B5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5CCC9-987F-41F4-9E89-1247DF6C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16C5-D337-42D6-932E-929A6729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7C3DD-35CC-4E32-A74C-08FA6EC2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632FC-2D97-49EA-A077-85986CD6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95B2-2B6E-4CE6-AEF7-58E01B5E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FB5-EB81-4C37-89DE-4F18D0FE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454A2-BDC0-4ACD-B4D5-12357F64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BE90E-2C71-412B-9200-24A956F7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486C9-5FC4-4634-A7C3-F60EFDBB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8756-783E-44EB-A42F-30568205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1A0C8-FEB4-485C-9342-813EA77E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8BF75-ACF1-4192-AEEF-DF3D05D0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5AA7-53C2-4D11-B796-FCC90D39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DB5E-1139-4CD7-9851-B44406FF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AEB86-3339-4541-B3C9-47C530FA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1B2DD-1DF0-4BB1-A6E9-8C72BE8C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EEC-F2A3-4353-813D-AD4ED6D6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75EDA-F225-4F04-BE4F-AA3EBCF8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77625-62F1-4E8C-9202-64DF2984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9B881-0D5F-448F-BDB3-6E25AB74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88712-7C5A-4073-9E88-563AE873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8CEDC-1B2B-4CEF-BABC-B3ECFB04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4BDBC-4610-44D8-A9E9-BAC4D2F3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A9CFB-6B57-4DF1-AA86-C921E1FD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EFAD4-3175-42E4-9503-8BE05622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FC073-C370-4454-945C-B0B8812A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B0F6B-24B3-45DF-A6D1-4969525C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BBD-D0C6-4A3C-A1F2-87097535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1C0BA-E529-4480-989C-09C35BE4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B17EA-12BC-4937-B254-FABDDE18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57913-F30A-40AC-826D-47B23B78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56A88-303E-470C-9D32-46B6055B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CE89E-5708-4845-B6A7-EDDD1424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9B3C4-17A7-41D0-981E-C1EB7F5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09EE7-05A1-4D3F-9F6C-8A43BB22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7B42F-3F03-49C7-8633-BFD178B4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0FC4C-EB6F-4C7D-B81E-A1D1BE7C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ADEBF-5540-421B-93E9-D915B617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10E-C2E3-4312-951F-F7626E96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D27C1-210D-4E02-8363-45636EFE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37B42-AF45-4B58-8639-B280D9A3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B9D22-FD0F-4454-9906-F9A1A6B3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CE9C1-0A8B-4EEB-9C70-02AF51B2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1EC2A-68F0-45CC-8C94-BEA39DA5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C9149-010D-46D5-91D0-8D1BC525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A010F-6DDE-4D83-92FF-47E1B0BD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3DD26-6696-43F9-85ED-D0786193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A736D-C01B-4365-8D10-9A3BE632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D6953-7D79-4194-99A2-46CEEF93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C09-5773-4AD8-95B9-1ED4D6E6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9064E-B31E-499D-BD9A-3C82E223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A07F9-65D4-44FF-BF4F-FB0293E4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CFDA5-6EBF-41DC-AE8B-28E0FEAF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23472-FA92-4EAE-A5D7-BCD0EF70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2D2C2-7264-41FC-8AC8-F1F84668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4868E-C714-4EAE-BA20-87E2C705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4B804-7406-4DF1-BAA2-374BA2BE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B7CD7-F453-457D-AF8F-AD34DC1B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2DA68-91CD-46FA-85F8-FC543BFF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9F46D-5194-46B9-B25B-39CE9FEE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956-D04A-45E0-8EC8-DDA58307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F9800-B95D-4795-86B6-36584423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FE412-6827-43D1-82BC-E43584FB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7F52E-F3E3-4D2D-8B9F-CE725104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F12CD-13ED-46D3-88D6-1DE38B8E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E1ABF-44D3-4781-95BB-5F59A467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B2A5C-F412-4066-953F-01511F35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AF659-5D9F-453B-B775-0B676FF5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EC409-979C-443E-A865-46EC7679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88994-1957-46B0-BFF7-C69BA732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931D4-378F-4A24-97CD-25DB7A3A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942-0E72-46C5-81A6-3D0E1335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4A16B-676C-478C-B752-DAD2B592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626B4-2755-4B06-BE43-298603A0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58738-C981-43BE-A1D2-0ADD90F2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96F95-5529-49A9-AD90-48F4C52F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90BEA-711C-4F5A-A19B-7DF3E246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9A387-0FCE-4DF9-94A8-0F61B107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E90F5-67FC-4980-847D-03E5D735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644F1-FAA1-43C5-B5B9-7E75272E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AA858-D5D4-43BB-90FC-CF5660CE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C28B6-D4A8-40F0-A8E4-7422F7DC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8C06-DD8D-44D4-89BB-6C83BE96FDF0}" type="slidenum">
              <a:rPr b="0" lang="en-US" sz="900" spc="-1" strike="noStrike">
                <a:solidFill>
                  <a:srgbClr val="ad84c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469" name="Straight Connector 19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Isosceles Triangle 27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CB48-CC4C-4660-A3E0-D61939719CE6}" type="slidenum">
              <a:rPr b="0" lang="en-US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521" name="Straight Connector 19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Isosceles Triangle 27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1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2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3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9E80-EA36-41C1-AED3-C4E64B330CD4}" type="slidenum">
              <a:rPr b="0" lang="en-US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573" name="Straight Connector 19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Isosceles Triangle 27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TextBox 17"/>
          <p:cNvSpPr/>
          <p:nvPr/>
        </p:nvSpPr>
        <p:spPr>
          <a:xfrm>
            <a:off x="40644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666900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4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5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6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0EDF-3753-4055-B858-AA5634046B79}" type="slidenum">
              <a:rPr b="0" lang="en-US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627" name="Straight Connector 19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Isosceles Triangle 27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37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38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39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8F96-A28B-4111-A277-8356EE47158F}" type="slidenum">
              <a:rPr b="0" lang="en-US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679" name="Straight Connector 19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Isosceles Triangle 27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Box 17"/>
          <p:cNvSpPr/>
          <p:nvPr/>
        </p:nvSpPr>
        <p:spPr>
          <a:xfrm>
            <a:off x="40644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18"/>
          <p:cNvSpPr/>
          <p:nvPr/>
        </p:nvSpPr>
        <p:spPr>
          <a:xfrm>
            <a:off x="666900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0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1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2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E3AF-6E35-4A53-A3B8-66EC491BFA9A}" type="slidenum">
              <a:rPr b="0" lang="en-US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733" name="Straight Connector 19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Isosceles Triangle 27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3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4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5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7021-850B-4D4B-A0E1-4FD0563240D7}" type="slidenum">
              <a:rPr b="0" lang="en-US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785" name="Straight Connector 19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Isosceles Triangle 27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A072-95D1-445F-A390-34C032262636}" type="slidenum">
              <a:rPr b="0" lang="en-US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837" name="Straight Connector 19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Isosceles Triangle 27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49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50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51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33E8-BBE4-471D-9AC5-DB9371E2AD05}" type="slidenum">
              <a:rPr b="0" lang="en-US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9144360" cy="6865920"/>
            <a:chOff x="-360" y="-7920"/>
            <a:chExt cx="914436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631800" cy="566604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7035-428F-4232-8D24-AB49BED1D432}" type="slidenum">
              <a:rPr b="0" lang="en-US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5882-8B9B-4EDD-9D1E-33CB22EF50E9}" type="slidenum">
              <a:rPr b="0" lang="en-US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157" name="Straight Connector 19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Isosceles Triangle 27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F556-841C-4CB1-9D06-432F654F1023}" type="slidenum">
              <a:rPr b="0" lang="en-US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209" name="Straight Connector 19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Isosceles Triangle 27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2E2A-C9D6-435A-8DA7-F0C91B020740}" type="slidenum">
              <a:rPr b="0" lang="en-US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261" name="Straight Connector 19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Isosceles Triangle 27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D772-DC48-415E-914A-43D3AAED5566}" type="slidenum">
              <a:rPr b="0" lang="en-US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313" name="Straight Connector 19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Isosceles Triangle 27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D016-3927-4B0D-B514-14C985D0EBC8}" type="slidenum">
              <a:rPr b="0" lang="en-US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365" name="Straight Connector 19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Isosceles Triangle 27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4813-D7D1-4393-907E-55A09746EF0A}" type="slidenum">
              <a:rPr b="0" lang="en-US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417" name="Straight Connector 19"/>
            <p:cNvSpPr/>
            <p:nvPr/>
          </p:nvSpPr>
          <p:spPr>
            <a:xfrm>
              <a:off x="7027920" y="0"/>
              <a:ext cx="9144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traight Connector 20"/>
            <p:cNvSpPr/>
            <p:nvPr/>
          </p:nvSpPr>
          <p:spPr>
            <a:xfrm flipH="1">
              <a:off x="5568840" y="3681360"/>
              <a:ext cx="357336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3"/>
            <p:cNvSpPr/>
            <p:nvPr/>
          </p:nvSpPr>
          <p:spPr>
            <a:xfrm>
              <a:off x="6886800" y="-7920"/>
              <a:ext cx="225576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7"/>
            <p:cNvSpPr/>
            <p:nvPr/>
          </p:nvSpPr>
          <p:spPr>
            <a:xfrm>
              <a:off x="7000920" y="-7920"/>
              <a:ext cx="21412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8"/>
            <p:cNvSpPr/>
            <p:nvPr/>
          </p:nvSpPr>
          <p:spPr>
            <a:xfrm>
              <a:off x="8174160" y="-7920"/>
              <a:ext cx="966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9"/>
            <p:cNvSpPr/>
            <p:nvPr/>
          </p:nvSpPr>
          <p:spPr>
            <a:xfrm>
              <a:off x="8204400" y="-7920"/>
              <a:ext cx="9363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Isosceles Triangle 27"/>
            <p:cNvSpPr/>
            <p:nvPr/>
          </p:nvSpPr>
          <p:spPr>
            <a:xfrm>
              <a:off x="7778880" y="3589200"/>
              <a:ext cx="1363680" cy="3268800"/>
            </a:xfrm>
            <a:prstGeom prst="triangle">
              <a:avLst>
                <a:gd name="adj" fmla="val 100000"/>
              </a:avLst>
            </a:pr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01BC-5412-47A0-B19A-A8D4004A563D}" type="slidenum">
              <a:rPr b="0" lang="en-US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7960" y="188640"/>
            <a:ext cx="64468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a3471"/>
                </a:solidFill>
                <a:latin typeface="Trebuchet MS"/>
              </a:rPr>
              <a:t>Педагогический совет</a:t>
            </a:r>
            <a:br>
              <a:rPr sz="3200"/>
            </a:b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507960" y="914040"/>
            <a:ext cx="6446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5a3471"/>
                </a:solidFill>
                <a:latin typeface="Trebuchet MS"/>
              </a:rPr>
              <a:t>Тема: «Актуальные вопросы воспитания в    современных условиях»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a3471"/>
                </a:solidFill>
                <a:latin typeface="Trebuchet MS"/>
              </a:rPr>
              <a:t>Заместитель директора МАОУ гимназия № 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a3471"/>
                </a:solidFill>
                <a:latin typeface="Trebuchet MS"/>
              </a:rPr>
              <a:t>Гуркова Наталья Владимировн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7600" y="609120"/>
            <a:ext cx="82407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Раздел 1. «Особенности организуемого в школе воспитательного процесса»</a:t>
            </a:r>
            <a:br>
              <a:rPr sz="3200"/>
            </a:b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507600" y="2160360"/>
            <a:ext cx="831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дел в котором может быть размещена информация: о специфике расположения школы, особенностях ее социального окружения, источниках положительного или отрицательного влияния на детей, значимых партнерах школы, особенностях контингента учащихся, оригинальных воспитательных находках школы, а также важных для школы принципах и традициях воспита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55120" y="210600"/>
            <a:ext cx="858852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Раздел 2. «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Цель</a:t>
            </a: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 и задачи воспитания» 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11120" y="1255680"/>
            <a:ext cx="873288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rebuchet MS"/>
              </a:rPr>
              <a:t>Одна страна – одна цель воспитания в школах страны!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Цель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оспитания -личностное развитие школьников, проявляющееся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) в усвоении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ими знаний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сновных норм, которые общество выработало на основе этих ценностей (то есть, 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в усвоении ими социально значимых знаний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);  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НОО  1-4 классы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2) в развитии их позитивных 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отношений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к этим общественным ценностям (то есть 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в развитии их социально значимых отношений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);  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ООО 5-9 классы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3) в приобретении ими соответствующего этим ценностям 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опыта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поведения, опыта применения сформированных знаний и отношений на практике (то есть 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в приобретении ими опыта осуществления социально значимых дел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). 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СОО 10-11 классы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404040"/>
                </a:solidFill>
                <a:latin typeface="Trebuchet MS"/>
              </a:rPr>
              <a:t>    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55480" y="0"/>
            <a:ext cx="788688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rebuchet MS"/>
              </a:rPr>
              <a:t>Целевые приоритеты </a:t>
            </a:r>
            <a:br>
              <a:rPr sz="2900"/>
            </a:b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начального</a:t>
            </a:r>
            <a:r>
              <a:rPr b="1" lang="ru-RU" sz="2900" spc="-1" strike="noStrike">
                <a:solidFill>
                  <a:srgbClr val="ff0000"/>
                </a:solidFill>
                <a:latin typeface="Trebuchet MS"/>
              </a:rPr>
              <a:t> образования</a:t>
            </a:r>
            <a:endParaRPr b="0" lang="en-US" sz="29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20480" y="1341360"/>
            <a:ext cx="769284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Знани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младшим школьником данных социальных норм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быть любящим, послушным и отзывчивым…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- быть трудолюбивым…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- знать и любить свою Родину… 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- беречь и охранять природу;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- проявлять миролюбие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- стремиться узнавать что-то ново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- быть вежливым и опрятным, скромным и приветливы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- соблюдать правила личной гигиены, вести здоровый образ жизни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- уметь сопереживать, устанавливать хорошие уважительные отношения с другими людьми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- быть уверенным в себе, открытым и общительным; уметь ставить перед собой цели и проявлять инициативу, отстаивать своё мнение и действовать самостоятельно, без помощи старших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55480" y="210960"/>
            <a:ext cx="788688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Целевые приоритеты </a:t>
            </a:r>
            <a:br>
              <a:rPr sz="2900"/>
            </a:b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основного</a:t>
            </a:r>
            <a:r>
              <a:rPr b="1" lang="ru-RU" sz="29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образования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275760" y="1557360"/>
            <a:ext cx="77122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создание благоприятных условий для развития социально значимых отношений школьников: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i="1" lang="ru-RU" sz="1900" spc="-1" strike="noStrike">
                <a:solidFill>
                  <a:srgbClr val="000000"/>
                </a:solidFill>
                <a:latin typeface="Trebuchet MS"/>
              </a:rPr>
              <a:t>к семье…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rebuchet MS"/>
              </a:rPr>
              <a:t>- к труду…;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rebuchet MS"/>
              </a:rPr>
              <a:t>- к своему отечеству..;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rebuchet MS"/>
              </a:rPr>
              <a:t>- к природе как источнику жизни на Земле…;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rebuchet MS"/>
              </a:rPr>
              <a:t>- к миру как главному принципу человеческого общежития…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rebuchet MS"/>
              </a:rPr>
              <a:t>- к знаниям как интеллектуальному ресурсу…;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rebuchet MS"/>
              </a:rPr>
              <a:t>- к культуре как духовному богатству общества…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rebuchet MS"/>
              </a:rPr>
              <a:t>- к здоровью как залогу долгой и активной жизни человека…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rebuchet MS"/>
              </a:rPr>
              <a:t>- к окружающим людям как безусловной и абсолютной ценности…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rebuchet MS"/>
              </a:rPr>
              <a:t>- к самим себе как хозяевам своей судьбы…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55480" y="210960"/>
            <a:ext cx="788688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Целевые приоритеты </a:t>
            </a:r>
            <a:br>
              <a:rPr sz="2900"/>
            </a:b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среднего</a:t>
            </a:r>
            <a:r>
              <a:rPr b="1" lang="ru-RU" sz="29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образования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180720" y="1193400"/>
            <a:ext cx="7894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здание условий для приобретения школьниками опы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дел, направленных на заботу о своей семье, родных и близких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- трудовой деятельности, участие в производственной практи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- дел, направленных на пользу Родине, опыт деятельного выражения собственной гражданской позиции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- природоохранных дел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- разрешения возникающих конфликтных ситуаций…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- самостоятельного приобретения новых знаний, проведения научных исследований, опыт проектной 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- изучения, защиты и восстановления культурного наследия человечества…, опыт творческого самовыражени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- ведения здорового образа жизни и заботы о здоровье других людей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- оказания помощи окружающим…, волонтерский опыт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- самопознания и самоанализ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55480" y="210960"/>
            <a:ext cx="788688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rebuchet MS"/>
              </a:rPr>
              <a:t>Раздел 2. «Цель и 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задачи</a:t>
            </a:r>
            <a:r>
              <a:rPr b="1" lang="ru-RU" sz="2900" spc="-1" strike="noStrike">
                <a:solidFill>
                  <a:srgbClr val="ff0000"/>
                </a:solidFill>
                <a:latin typeface="Trebuchet MS"/>
              </a:rPr>
              <a:t> воспитания» </a:t>
            </a:r>
            <a:endParaRPr b="0" lang="en-US" sz="29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172800" y="923760"/>
            <a:ext cx="8018280" cy="58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1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реализовывать воспитательные возможности общешкольных ключевых дел, поддерживать традиции их коллективного планирования, организации, проведения и анализ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2)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реализовывать потенциал классного руководства, поддерживать активное участие классных сообществ в жизни школы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3)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вовлекать школьников в кружки, секции, клубы, студии и иные объединения, работающие по школьным программам внеурочной деятельности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4)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использовать в воспитании детей возможности школьного уро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5)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инициировать и поддерживать ученическое самоуправление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6)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поддерживать деятельность детских общественных объединений и организаций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7)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организовывать экскурсии, экспедиции, походы и реализовывать их воспитательный потенциал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8)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организовывать профориентационную работу со школьниками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9)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организовать работу школьных меди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10)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развивать предметно-эстетическую среду школы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11)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организовать работу с семьями школьников, направленную     на совместное решение проблем личностного развития детей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7960" y="404640"/>
            <a:ext cx="7088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Раздел 3. ВИДЫ, ФОРМЫ И СОДЕРЖАНИЕ ДЕЯТЕЛЬНОСТИ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Инвариантные (обязательные) модули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Классное руководство»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Школьный урок»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Курсы внеурочной деятельности»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Работа с родителями»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Самоуправление»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Профориентация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Раздел 3. ВИДЫ, ФОРМЫ И СОДЕРЖАНИЕ ДЕЯТЕЛЬНОСТИ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507960" y="2160720"/>
            <a:ext cx="76644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Вариативные модули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Ключевые общешкольные дела»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Детские общественные объединения»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Школьные медиа»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Организация предметно-эстетической среды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Волонтерство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i="1" lang="ru-RU" sz="1600" spc="-1" strike="noStrike">
                <a:solidFill>
                  <a:srgbClr val="0025d8"/>
                </a:solidFill>
                <a:latin typeface="Calibri"/>
              </a:rPr>
              <a:t>Каждый из модулей ориентирован на одну из задач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7960" y="189000"/>
            <a:ext cx="78804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rebuchet MS"/>
              </a:rPr>
              <a:t>Раздел4. ОСНОВНЫЕ НАПРАВЛЕНИЯ САМОАНАЛИЗА ВОСПИТАТЕЛЬНОЙ РАБОТЫ</a:t>
            </a:r>
            <a:endParaRPr b="0" lang="en-US" sz="29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507960" y="1628280"/>
            <a:ext cx="83851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. Оценка уровня воспитанности обучающихс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2. Оценка уровня развития коллектив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3. Социально – педагогическая среда, общая психологическая атмосфера и нравственный уклад жизни в образовательной организаци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. Особенности детско-родительских отношений и степень включённости родителей (законных представителей) в образовательный и воспитательный процесс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675fff"/>
                </a:solidFill>
                <a:latin typeface="Trebuchet MS"/>
              </a:rPr>
              <a:t>*Итогом самоанализа ВР является перечень выявленных </a:t>
            </a:r>
            <a:r>
              <a:rPr b="1" i="1" lang="ru-RU" sz="1700" spc="-1" strike="noStrike">
                <a:solidFill>
                  <a:srgbClr val="ff0000"/>
                </a:solidFill>
                <a:latin typeface="Trebuchet MS"/>
              </a:rPr>
              <a:t>проблем,</a:t>
            </a:r>
            <a:r>
              <a:rPr b="1" i="1" lang="ru-RU" sz="1700" spc="-1" strike="noStrike">
                <a:solidFill>
                  <a:srgbClr val="675fff"/>
                </a:solidFill>
                <a:latin typeface="Trebuchet MS"/>
              </a:rPr>
              <a:t>          над которыми предстоит работать педагогическому коллективу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46000" y="324000"/>
            <a:ext cx="692496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ПРИМЕРНЫЙ АЛГОРИТМ РАЗРАБОТКИ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РПВ школы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grpSp>
        <p:nvGrpSpPr>
          <p:cNvPr id="933" name="Group 2"/>
          <p:cNvGrpSpPr/>
          <p:nvPr/>
        </p:nvGrpSpPr>
        <p:grpSpPr>
          <a:xfrm>
            <a:off x="1908000" y="4164480"/>
            <a:ext cx="5194440" cy="685800"/>
            <a:chOff x="1908000" y="4164480"/>
            <a:chExt cx="5194440" cy="685800"/>
          </a:xfrm>
        </p:grpSpPr>
        <p:sp>
          <p:nvSpPr>
            <p:cNvPr id="934" name="Line 3"/>
            <p:cNvSpPr/>
            <p:nvPr/>
          </p:nvSpPr>
          <p:spPr>
            <a:xfrm>
              <a:off x="2301840" y="48229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4"/>
            <p:cNvSpPr/>
            <p:nvPr/>
          </p:nvSpPr>
          <p:spPr>
            <a:xfrm rot="3418800">
              <a:off x="2017080" y="424692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639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5"/>
            <p:cNvSpPr/>
            <p:nvPr/>
          </p:nvSpPr>
          <p:spPr>
            <a:xfrm>
              <a:off x="3067200" y="4241880"/>
              <a:ext cx="34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риступаем к разработ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6"/>
            <p:cNvSpPr/>
            <p:nvPr/>
          </p:nvSpPr>
          <p:spPr>
            <a:xfrm>
              <a:off x="2082600" y="42897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7"/>
          <p:cNvGrpSpPr/>
          <p:nvPr/>
        </p:nvGrpSpPr>
        <p:grpSpPr>
          <a:xfrm>
            <a:off x="1908360" y="1649160"/>
            <a:ext cx="5194080" cy="685800"/>
            <a:chOff x="1908360" y="1649160"/>
            <a:chExt cx="5194080" cy="685800"/>
          </a:xfrm>
        </p:grpSpPr>
        <p:sp>
          <p:nvSpPr>
            <p:cNvPr id="939" name="Line 8"/>
            <p:cNvSpPr/>
            <p:nvPr/>
          </p:nvSpPr>
          <p:spPr>
            <a:xfrm>
              <a:off x="2301840" y="23079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9"/>
            <p:cNvSpPr/>
            <p:nvPr/>
          </p:nvSpPr>
          <p:spPr>
            <a:xfrm rot="3418800">
              <a:off x="2017440" y="1731240"/>
              <a:ext cx="479160" cy="5209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10"/>
            <p:cNvSpPr/>
            <p:nvPr/>
          </p:nvSpPr>
          <p:spPr>
            <a:xfrm>
              <a:off x="3602520" y="1819080"/>
              <a:ext cx="250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оздаем команд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11"/>
            <p:cNvSpPr/>
            <p:nvPr/>
          </p:nvSpPr>
          <p:spPr>
            <a:xfrm>
              <a:off x="2082600" y="17744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Group 12"/>
          <p:cNvGrpSpPr/>
          <p:nvPr/>
        </p:nvGrpSpPr>
        <p:grpSpPr>
          <a:xfrm>
            <a:off x="1908360" y="2487600"/>
            <a:ext cx="5390280" cy="685800"/>
            <a:chOff x="1908360" y="2487600"/>
            <a:chExt cx="5390280" cy="685800"/>
          </a:xfrm>
        </p:grpSpPr>
        <p:sp>
          <p:nvSpPr>
            <p:cNvPr id="944" name="Line 13"/>
            <p:cNvSpPr/>
            <p:nvPr/>
          </p:nvSpPr>
          <p:spPr>
            <a:xfrm>
              <a:off x="2301840" y="314640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14"/>
            <p:cNvSpPr/>
            <p:nvPr/>
          </p:nvSpPr>
          <p:spPr>
            <a:xfrm rot="3418800">
              <a:off x="2017440" y="2569680"/>
              <a:ext cx="479160" cy="52092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15"/>
            <p:cNvSpPr/>
            <p:nvPr/>
          </p:nvSpPr>
          <p:spPr>
            <a:xfrm>
              <a:off x="2893320" y="2546280"/>
              <a:ext cx="44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Анализируем основные понят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16"/>
            <p:cNvSpPr/>
            <p:nvPr/>
          </p:nvSpPr>
          <p:spPr>
            <a:xfrm>
              <a:off x="2082600" y="26128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17"/>
          <p:cNvGrpSpPr/>
          <p:nvPr/>
        </p:nvGrpSpPr>
        <p:grpSpPr>
          <a:xfrm>
            <a:off x="1908000" y="3325680"/>
            <a:ext cx="5847480" cy="685800"/>
            <a:chOff x="1908000" y="3325680"/>
            <a:chExt cx="5847480" cy="685800"/>
          </a:xfrm>
        </p:grpSpPr>
        <p:sp>
          <p:nvSpPr>
            <p:cNvPr id="949" name="Line 18"/>
            <p:cNvSpPr/>
            <p:nvPr/>
          </p:nvSpPr>
          <p:spPr>
            <a:xfrm>
              <a:off x="2303280" y="3982680"/>
              <a:ext cx="479916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9"/>
            <p:cNvSpPr/>
            <p:nvPr/>
          </p:nvSpPr>
          <p:spPr>
            <a:xfrm rot="3418800">
              <a:off x="2017080" y="340812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 Box 20"/>
            <p:cNvSpPr/>
            <p:nvPr/>
          </p:nvSpPr>
          <p:spPr>
            <a:xfrm>
              <a:off x="2813760" y="3422520"/>
              <a:ext cx="49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родумываем структуру програм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21"/>
            <p:cNvSpPr/>
            <p:nvPr/>
          </p:nvSpPr>
          <p:spPr>
            <a:xfrm>
              <a:off x="2082600" y="34509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Повестка педсовета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395280" y="1628280"/>
            <a:ext cx="691344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. Анализ реализации «Программы воспитания и социализации обучающихся».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. Актуальные изменения в воспитательной работ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. Обсуждение проекта дорожной карты по разработке новой программы воспита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4. Разно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02960" y="141120"/>
            <a:ext cx="8861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rebuchet MS"/>
              </a:rPr>
              <a:t>Предложения в решение педагогического совета 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141120" y="1430280"/>
            <a:ext cx="867888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ыбрать вариативные модули для включения в дорожную карт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инять за основу проект дорожной карты МАОУ гимназии №4 г. Канска по организации работ на 2020-21 годы по разработке рабочей программы воспита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здать творческую группу по доработке дорожной карт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724000" y="115920"/>
            <a:ext cx="32720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ad84c6"/>
              </a:solidFill>
              <a:latin typeface="Trebuchet MS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92800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7884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Новая стратегия воспитательной работы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95" name="TextBox 5"/>
          <p:cNvSpPr/>
          <p:nvPr/>
        </p:nvSpPr>
        <p:spPr>
          <a:xfrm>
            <a:off x="1921320" y="97488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2009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7"/>
          <p:cNvSpPr/>
          <p:nvPr/>
        </p:nvSpPr>
        <p:spPr>
          <a:xfrm>
            <a:off x="1264680" y="253224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2019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8"/>
          <p:cNvSpPr/>
          <p:nvPr/>
        </p:nvSpPr>
        <p:spPr>
          <a:xfrm>
            <a:off x="463680" y="465444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2020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9"/>
          <p:cNvSpPr/>
          <p:nvPr/>
        </p:nvSpPr>
        <p:spPr>
          <a:xfrm>
            <a:off x="3067200" y="816120"/>
            <a:ext cx="5317560" cy="1465560"/>
          </a:xfrm>
          <a:prstGeom prst="rect">
            <a:avLst/>
          </a:prstGeom>
          <a:noFill/>
          <a:ln w="9360">
            <a:solidFill>
              <a:srgbClr val="4973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ГОС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рамма ДНР, воспитание ФГОС НОО(2009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рамма воспитания и социализации ФГОС О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2010г – 12 пунктов,2012г-11пункт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10"/>
          <p:cNvSpPr/>
          <p:nvPr/>
        </p:nvSpPr>
        <p:spPr>
          <a:xfrm>
            <a:off x="2293200" y="2394000"/>
            <a:ext cx="4893840" cy="1465560"/>
          </a:xfrm>
          <a:prstGeom prst="rect">
            <a:avLst/>
          </a:prstGeom>
          <a:noFill/>
          <a:ln w="9360">
            <a:solidFill>
              <a:srgbClr val="4973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мерная программа воспит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труктура примерной программы (4 разде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вариантные мод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ариативные мод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Ежегодный календарный план 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1"/>
          <p:cNvSpPr/>
          <p:nvPr/>
        </p:nvSpPr>
        <p:spPr>
          <a:xfrm>
            <a:off x="1351080" y="4124160"/>
            <a:ext cx="6271920" cy="1739880"/>
          </a:xfrm>
          <a:prstGeom prst="rect">
            <a:avLst/>
          </a:prstGeom>
          <a:noFill/>
          <a:ln w="9360">
            <a:solidFill>
              <a:srgbClr val="4973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З №273 «Об образовании в РФ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29.12.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ьи 2,12,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П воспитания, примерный календарный план ВР, мод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ты родителей, советы обучаю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изменения с 1.09.2020 до 1.09 20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Стрелка вниз 13"/>
          <p:cNvSpPr/>
          <p:nvPr/>
        </p:nvSpPr>
        <p:spPr>
          <a:xfrm>
            <a:off x="1508040" y="8161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25d8"/>
          </a:solidFill>
          <a:ln cap="rnd" w="19080">
            <a:solidFill>
              <a:srgbClr val="7e5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Рисунок 14" descr=""/>
          <p:cNvPicPr/>
          <p:nvPr/>
        </p:nvPicPr>
        <p:blipFill>
          <a:blip r:embed="rId1"/>
          <a:stretch/>
        </p:blipFill>
        <p:spPr>
          <a:xfrm>
            <a:off x="825480" y="2394000"/>
            <a:ext cx="525600" cy="993600"/>
          </a:xfrm>
          <a:prstGeom prst="rect">
            <a:avLst/>
          </a:prstGeom>
          <a:ln w="0">
            <a:noFill/>
          </a:ln>
        </p:spPr>
      </p:pic>
      <p:pic>
        <p:nvPicPr>
          <p:cNvPr id="903" name="Рисунок 15" descr=""/>
          <p:cNvPicPr/>
          <p:nvPr/>
        </p:nvPicPr>
        <p:blipFill>
          <a:blip r:embed="rId2"/>
          <a:stretch/>
        </p:blipFill>
        <p:spPr>
          <a:xfrm>
            <a:off x="104760" y="4446720"/>
            <a:ext cx="5238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5050"/>
                </a:solidFill>
                <a:latin typeface="Trebuchet MS"/>
              </a:rPr>
              <a:t>Основания для разработки программы воспитания</a:t>
            </a:r>
            <a:endParaRPr b="0" lang="en-US" sz="29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291960" y="1881360"/>
            <a:ext cx="788688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1 июля 2020 года принят закон N 304-ФЗ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 ВНЕСЕНИИ ИЗМЕНЕНИЙ В ФЕДЕРАЛЬНЫЙ ЗАКОН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"ОБ ОБРАЗОВАНИИ В РОССИЙСКОЙ ФЕДЕРАЦИИ" ПО ВОПРОСАМ ВОСПИТАНИЯ ОБУЧАЮЩИХС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rebuchet MS"/>
              </a:rPr>
              <a:t>ЧТО НОВОГО</a:t>
            </a:r>
            <a:r>
              <a:rPr b="0" lang="ru-RU" sz="3200" spc="-1" strike="noStrike">
                <a:solidFill>
                  <a:srgbClr val="ad84c6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156960" y="857160"/>
            <a:ext cx="859140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404040"/>
                </a:solidFill>
                <a:latin typeface="Trebuchet MS"/>
              </a:rPr>
              <a:t>Расширение направлений воспитательной работы, а именно включение в него направлений по формированию у обучающихся: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чувства патриотизма и гражданственности,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уважения к памятникам защитников Отечества и подвигов героев Отечества,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уважения к закону и правопорядку, 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уважения к человеку труда и старшему поколению, взаимного уважения,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бережного отношения к культурному наследию и традициям многонационального народа Российской Федерации, 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бережного отношения к природе и окружающей среде;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ЧТО НОВОГО…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88800" y="157932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Введение таких документов по организации воспитательной работы, как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рабочая программа воспитания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календарный план воспитательной работы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* </a:t>
            </a:r>
            <a:r>
              <a:rPr b="0" i="1" lang="ru-RU" sz="2400" spc="-1" strike="noStrike">
                <a:solidFill>
                  <a:srgbClr val="ff0000"/>
                </a:solidFill>
                <a:latin typeface="Trebuchet MS"/>
              </a:rPr>
              <a:t>Они должны быть включены в основную образовательную программу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Закрепление за образовательными организациями права на самостоятельную разработку этих документ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55480" y="210960"/>
            <a:ext cx="788688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rebuchet MS"/>
              </a:rPr>
              <a:t>Примерная программа воспитания (ППВ)…</a:t>
            </a:r>
            <a:endParaRPr b="0" lang="en-US" sz="29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314280" y="15235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работана сотрудникам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нститута стратегии развития образования РАО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2 июня 2020 года утверждена на заседании Федерального учебно-методического объединения по общему образованию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 программе разработаны методические рекомендации и сборник  разработок модулей программы воспит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ttp://form.instrao.ru/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411120" y="1255320"/>
            <a:ext cx="727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388800" y="33480"/>
          <a:ext cx="8388360" cy="6659280"/>
        </p:xfrm>
        <a:graphic>
          <a:graphicData uri="http://schemas.openxmlformats.org/drawingml/2006/table">
            <a:tbl>
              <a:tblPr/>
              <a:tblGrid>
                <a:gridCol w="8388360"/>
              </a:tblGrid>
              <a:tr h="1017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ограмма воспита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4eab"/>
                    </a:solidFill>
                  </a:tcPr>
                </a:tc>
              </a:tr>
              <a:tr h="4068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Единые для всех уровней общего образования раздел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«Особенности организуемого в школе воспитательного процесс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«Цель и задачи воспитан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«Виды, формы и содержание деятельност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«Основные направления самоанализа воспитательной работ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4eab"/>
                    </a:solidFill>
                  </a:tcPr>
                </a:tc>
              </a:tr>
              <a:tr h="1573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собенные для каждого уровня общего образования приложения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алендарные планы воспитательной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4ea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00:25:41Z</dcterms:created>
  <dc:creator>Glav313</dc:creator>
  <dc:description/>
  <dc:language>en-US</dc:language>
  <cp:lastModifiedBy>Наталья Владимировна</cp:lastModifiedBy>
  <cp:lastPrinted>2017-08-29T03:27:15Z</cp:lastPrinted>
  <dcterms:modified xsi:type="dcterms:W3CDTF">2021-10-29T02:42:39Z</dcterms:modified>
  <cp:revision>173</cp:revision>
  <dc:subject/>
  <dc:title>Слайд 1</dc:title>
</cp:coreProperties>
</file>