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4A2B-1CAD-4809-9769-03CEBF53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8A588-9DF9-4D04-9ED1-FFCA95E1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CCF7-5A29-460B-AAF4-E0E12F99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CFCCD-66C3-4C66-85EF-3A3C86BF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224F-A155-45EB-AE6D-29570946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8E99-654B-4184-91FE-FC2D20C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C856-03BA-43E8-8861-751262FD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E69C-F050-4D73-AC97-87141F17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A80-22DE-4C65-A5E1-E795399B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84A5-416E-4F35-91F5-2E92FFA1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62DC-BE94-4674-B0A9-0170A4A6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A120-C815-49A5-99E4-C4C9623C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80A0-A6B2-4A45-BC0A-F8B7A22D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F482-2262-49DD-B121-624F070A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F906-4D7F-49A7-8B81-13B43751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78BC-FC5F-4741-B538-0C0E7AFD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2B06-9475-4C26-8A3F-85D0F782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40B8-071E-4E77-9E4C-0C04B5D9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47DC3-10A3-4B16-8502-C4D4551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3586-B058-49E9-B20E-C3BD680F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7EFA8-EEC2-450B-BAFF-F271F0B8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BC0B-C584-4905-AB93-442A01D7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AD1E8-18CA-4D3C-94A2-63F56D3F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E281D-7D2B-40BD-A215-DC4E50EF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2926-DF53-48F6-AE7A-47364CD22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c0000"/>
                  </a:gs>
                  <a:gs pos="100000">
                    <a:srgbClr val="7f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0000"/>
                  </a:gs>
                  <a:gs pos="100000">
                    <a:srgbClr val="8c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b0000"/>
                  </a:gs>
                  <a:gs pos="100000">
                    <a:srgbClr val="8c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70000"/>
                </a:gs>
                <a:gs pos="100000">
                  <a:srgbClr val="8c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c1f00"/>
                </a:gs>
                <a:gs pos="100000">
                  <a:srgbClr val="8c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2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e796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FE0-53C8-43B2-8AC0-C7F76732AD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liveinternet.ru/app/fotograf/index.php?s=photo_viewer&amp;ev=photo_view&amp;uid=3981529&amp;bid=3981529&amp;pid=859602&amp;id=2767878&amp;mode=this" TargetMode="External"/><Relationship Id="rId2" Type="http://schemas.openxmlformats.org/officeDocument/2006/relationships/image" Target="../media/image36.jpeg"/><Relationship Id="rId3" Type="http://schemas.openxmlformats.org/officeDocument/2006/relationships/hyperlink" Target="http://www.liveinternet.ru/app/fotograf/index.php?s=photo_viewer&amp;ev=photo_view&amp;uid=3981529&amp;bid=3981529&amp;pid=859602&amp;id=2767876&amp;mode=this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www.liveinternet.ru/app/fotograf/index.php?s=photo_viewer&amp;ev=photo_view&amp;uid=3981529&amp;bid=3981529&amp;pid=859602&amp;id=2767882&amp;mode=this" TargetMode="External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liveinternet.ru/app/fotograf/index.php?s=photo_viewer&amp;ev=photo_view&amp;uid=3981529&amp;bid=3981529&amp;pid=859602&amp;id=2767879&amp;mode=this" TargetMode="External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01" name="Picture 2" descr="C:\Users\Света\Desktop\презентации интернет\рисунки хохлома\узоры хохлома\1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1619280" y="4076640"/>
            <a:ext cx="62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845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ff6845"/>
                </a:solidFill>
                <a:latin typeface="Times New Roman"/>
                <a:ea typeface="Times New Roman"/>
              </a:rPr>
              <a:t>Бикмурзина Ирина Николае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845"/>
                </a:solidFill>
                <a:latin typeface="Times New Roman"/>
                <a:ea typeface="Times New Roman"/>
              </a:rPr>
              <a:t>учитель ИЗО   «МБОУ СОШ№6 г. Альметьевс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Хохлома в наши дни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33" name="Picture 4" descr="312"/>
          <p:cNvPicPr/>
          <p:nvPr/>
        </p:nvPicPr>
        <p:blipFill>
          <a:blip r:embed="rId1"/>
          <a:stretch/>
        </p:blipFill>
        <p:spPr>
          <a:xfrm>
            <a:off x="1763640" y="4797360"/>
            <a:ext cx="2816280" cy="1532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179342-1"/>
          <p:cNvPicPr/>
          <p:nvPr/>
        </p:nvPicPr>
        <p:blipFill>
          <a:blip r:embed="rId2"/>
          <a:stretch/>
        </p:blipFill>
        <p:spPr>
          <a:xfrm>
            <a:off x="395280" y="1557360"/>
            <a:ext cx="5256360" cy="2801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tn_915"/>
          <p:cNvPicPr/>
          <p:nvPr/>
        </p:nvPicPr>
        <p:blipFill>
          <a:blip r:embed="rId3"/>
          <a:stretch/>
        </p:blipFill>
        <p:spPr>
          <a:xfrm>
            <a:off x="6032520" y="2565360"/>
            <a:ext cx="2749680" cy="31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Вот так хохлома!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37" name="Picture 4" descr="a7d8326d6969ec4ba64df1ae85196f32"/>
          <p:cNvPicPr/>
          <p:nvPr/>
        </p:nvPicPr>
        <p:blipFill>
          <a:blip r:embed="rId1"/>
          <a:stretch/>
        </p:blipFill>
        <p:spPr>
          <a:xfrm>
            <a:off x="324000" y="1341360"/>
            <a:ext cx="3538440" cy="23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untitled"/>
          <p:cNvPicPr/>
          <p:nvPr/>
        </p:nvPicPr>
        <p:blipFill>
          <a:blip r:embed="rId2"/>
          <a:stretch/>
        </p:blipFill>
        <p:spPr>
          <a:xfrm>
            <a:off x="4381560" y="1341360"/>
            <a:ext cx="4762440" cy="2352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800px-Khokhloma_helicopter"/>
          <p:cNvPicPr/>
          <p:nvPr/>
        </p:nvPicPr>
        <p:blipFill>
          <a:blip r:embed="rId3"/>
          <a:stretch/>
        </p:blipFill>
        <p:spPr>
          <a:xfrm>
            <a:off x="1258920" y="3860640"/>
            <a:ext cx="6480000" cy="2808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Такая сладкая хохлома!!!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1" name="Picture 4" descr="3785"/>
          <p:cNvPicPr/>
          <p:nvPr/>
        </p:nvPicPr>
        <p:blipFill>
          <a:blip r:embed="rId1"/>
          <a:stretch/>
        </p:blipFill>
        <p:spPr>
          <a:xfrm>
            <a:off x="4500720" y="4005360"/>
            <a:ext cx="3333600" cy="2695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23564"/>
          <p:cNvPicPr/>
          <p:nvPr/>
        </p:nvPicPr>
        <p:blipFill>
          <a:blip r:embed="rId2"/>
          <a:stretch/>
        </p:blipFill>
        <p:spPr>
          <a:xfrm>
            <a:off x="4140360" y="1341360"/>
            <a:ext cx="338436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image2"/>
          <p:cNvPicPr/>
          <p:nvPr/>
        </p:nvPicPr>
        <p:blipFill>
          <a:blip r:embed="rId3"/>
          <a:stretch/>
        </p:blipFill>
        <p:spPr>
          <a:xfrm>
            <a:off x="611280" y="2349360"/>
            <a:ext cx="3240000" cy="324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cc00"/>
                </a:solidFill>
                <a:latin typeface="Garamond"/>
              </a:rPr>
              <a:t>Современная хохлома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5" name="Picture 4" descr="Картинка 10 из 1052"/>
          <p:cNvPicPr/>
          <p:nvPr/>
        </p:nvPicPr>
        <p:blipFill>
          <a:blip r:embed="rId1"/>
          <a:stretch/>
        </p:blipFill>
        <p:spPr>
          <a:xfrm>
            <a:off x="1332000" y="1413000"/>
            <a:ext cx="6697440" cy="47368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2892600" y="6261840"/>
            <a:ext cx="33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Garamond"/>
              </a:rPr>
              <a:t>Рекордсмены</a:t>
            </a:r>
            <a:r>
              <a:rPr b="1" lang="ru-RU" sz="44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48" name="Picture 4" descr="articles__prazdnik_kotoryiy_vsegda_s_toboy_07"/>
          <p:cNvPicPr/>
          <p:nvPr/>
        </p:nvPicPr>
        <p:blipFill>
          <a:blip r:embed="rId1"/>
          <a:stretch/>
        </p:blipFill>
        <p:spPr>
          <a:xfrm>
            <a:off x="250920" y="1268280"/>
            <a:ext cx="2857320" cy="4400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view_icon_photo"/>
          <p:cNvPicPr/>
          <p:nvPr/>
        </p:nvPicPr>
        <p:blipFill>
          <a:blip r:embed="rId2"/>
          <a:stretch/>
        </p:blipFill>
        <p:spPr>
          <a:xfrm>
            <a:off x="4067280" y="3357720"/>
            <a:ext cx="3744720" cy="24717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3419640" y="1125360"/>
            <a:ext cx="518472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астера хохломской росписи придумывают изумительные, самобытные образцы ложек, настоящие творения искусства. Искусство виртуозов хохломы, ошеломляет, воспитывает и радует самые превосходные чувства. Хохломская ложка, бесспорно, пользуется немалым спросом, а умельцами общенародного искусства разрабатываются всевозможные её конфигурации и орнаменты.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5877000"/>
            <a:ext cx="7993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едь настоящие трофеи «дикой» охоты по культурным прериям России – это отнюдь не янтарные драгоценности и меха – это хорошо забытые старые, привычные для нас изделия русских ремесленник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43280" y="1628280"/>
            <a:ext cx="40435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ва приема письма: 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ерховое письмо, 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де узор рисуется красной или черной краской поверх золотого фо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73200" y="188640"/>
            <a:ext cx="75708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художественная роспись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54" name="Picture 2" descr="57512_html_6890f37b"/>
          <p:cNvPicPr/>
          <p:nvPr/>
        </p:nvPicPr>
        <p:blipFill>
          <a:blip r:embed="rId1"/>
          <a:stretch/>
        </p:blipFill>
        <p:spPr>
          <a:xfrm>
            <a:off x="755640" y="1325520"/>
            <a:ext cx="3816360" cy="484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076720" y="333360"/>
            <a:ext cx="3610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Второй прием – «под фон»: </a:t>
            </a: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сначала рисуются контуры узора, затем покрывается цветом фон и после этого оставшийся не закрашенный узор расписывается краской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145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57" name="Picture 2" descr="57512_html_m5db9303f"/>
          <p:cNvPicPr/>
          <p:nvPr/>
        </p:nvPicPr>
        <p:blipFill>
          <a:blip r:embed="rId1"/>
          <a:stretch/>
        </p:blipFill>
        <p:spPr>
          <a:xfrm>
            <a:off x="611280" y="836640"/>
            <a:ext cx="4275000" cy="324000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4"/>
          <p:cNvSpPr/>
          <p:nvPr/>
        </p:nvSpPr>
        <p:spPr>
          <a:xfrm>
            <a:off x="395280" y="458136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собенность «фоновой» росписи заключается в том, что фон вокруг узора окрашивается в красный или черный цвет. При этом способе листья, цветы или птицы выделяются на этом фоне в виде золотых силуэтов.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590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Секреты </a:t>
            </a:r>
            <a:br>
              <a:rPr sz="4800"/>
            </a:b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орнамента</a:t>
            </a:r>
            <a:endParaRPr b="1" lang="en-US" sz="48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60" name="Picture 4" descr="image7651"/>
          <p:cNvPicPr/>
          <p:nvPr/>
        </p:nvPicPr>
        <p:blipFill>
          <a:blip r:embed="rId1"/>
          <a:srcRect l="2769" t="51847" r="3505" b="0"/>
          <a:stretch/>
        </p:blipFill>
        <p:spPr>
          <a:xfrm>
            <a:off x="395280" y="2276640"/>
            <a:ext cx="4425840" cy="338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image7651"/>
          <p:cNvPicPr/>
          <p:nvPr/>
        </p:nvPicPr>
        <p:blipFill>
          <a:blip r:embed="rId2"/>
          <a:srcRect l="55511" t="0" r="1173" b="-2747"/>
          <a:stretch/>
        </p:blipFill>
        <p:spPr>
          <a:xfrm>
            <a:off x="5292720" y="692280"/>
            <a:ext cx="3578400" cy="556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57512_html_11129052"/>
          <p:cNvPicPr/>
          <p:nvPr/>
        </p:nvPicPr>
        <p:blipFill>
          <a:blip r:embed="rId1"/>
          <a:stretch/>
        </p:blipFill>
        <p:spPr>
          <a:xfrm>
            <a:off x="826920" y="549360"/>
            <a:ext cx="7186680" cy="57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Users\Света\Desktop\f9b3ce5363f29a946bf2d1d5f695cc75.jpg"/>
          <p:cNvPicPr/>
          <p:nvPr/>
        </p:nvPicPr>
        <p:blipFill>
          <a:blip r:embed="rId1"/>
          <a:stretch/>
        </p:blipFill>
        <p:spPr>
          <a:xfrm>
            <a:off x="1042920" y="603360"/>
            <a:ext cx="7274160" cy="5487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79640" y="188640"/>
            <a:ext cx="2468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c00"/>
                </a:solidFill>
                <a:latin typeface="Garamond"/>
              </a:rPr>
              <a:t>Сказка</a:t>
            </a:r>
            <a:r>
              <a:rPr b="1" lang="ru-RU" sz="3200" spc="-1" strike="noStrike">
                <a:solidFill>
                  <a:srgbClr val="dfd293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59280" y="981000"/>
            <a:ext cx="4284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- Как же начиналось это удивительное, хохломское художество? Разное рассказывают старики. Говорят, будто полторы тысячи лет назад поселился в лесу за Волгой веселый мужичок - умелец. Избу поставил, стол, да лавку сладил, посуду деревянную вырезал. Варил себе пшеничную кашу и птицам пшена не забывал насыпать. Прилетела как-то к его порогу птица-Жар. Он ее угостил. Птица Жар задела золотым крылом чашку с кашей, и чашка стала золотой. Вот, мол, откуда пошла на Руси золотая посу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1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то, конечно, сказка. А начало золотой росписи ведут от древних мастеров - иконописцев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5" descr="C:\Users\Света\Desktop\презентации интернет\рисунки хохлома\узоры хохлома\9а.jpg"/>
          <p:cNvPicPr/>
          <p:nvPr/>
        </p:nvPicPr>
        <p:blipFill>
          <a:blip r:embed="rId1"/>
          <a:stretch/>
        </p:blipFill>
        <p:spPr>
          <a:xfrm>
            <a:off x="468360" y="404640"/>
            <a:ext cx="4464000" cy="617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2767878_isskustvo-detyam_xoxloma-0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39560"/>
            <a:ext cx="3492360" cy="3962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2767876_isskustvo-detyam_xoxloma-0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404640"/>
            <a:ext cx="3434040" cy="4032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2767882_isskustvo-detyam_xoxloma-01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32000" y="4714920"/>
            <a:ext cx="6335640" cy="1805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009_thumb"/>
          <p:cNvPicPr/>
          <p:nvPr/>
        </p:nvPicPr>
        <p:blipFill>
          <a:blip r:embed="rId1"/>
          <a:stretch/>
        </p:blipFill>
        <p:spPr>
          <a:xfrm>
            <a:off x="6588000" y="2852640"/>
            <a:ext cx="2159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004_thumb"/>
          <p:cNvPicPr/>
          <p:nvPr/>
        </p:nvPicPr>
        <p:blipFill>
          <a:blip r:embed="rId2"/>
          <a:stretch/>
        </p:blipFill>
        <p:spPr>
          <a:xfrm>
            <a:off x="5651640" y="33336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011_thumb"/>
          <p:cNvPicPr/>
          <p:nvPr/>
        </p:nvPicPr>
        <p:blipFill>
          <a:blip r:embed="rId3"/>
          <a:stretch/>
        </p:blipFill>
        <p:spPr>
          <a:xfrm>
            <a:off x="2843280" y="177336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005_thumb"/>
          <p:cNvPicPr/>
          <p:nvPr/>
        </p:nvPicPr>
        <p:blipFill>
          <a:blip r:embed="rId4"/>
          <a:stretch/>
        </p:blipFill>
        <p:spPr>
          <a:xfrm>
            <a:off x="468360" y="69228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013_thumb"/>
          <p:cNvPicPr/>
          <p:nvPr/>
        </p:nvPicPr>
        <p:blipFill>
          <a:blip r:embed="rId5"/>
          <a:stretch/>
        </p:blipFill>
        <p:spPr>
          <a:xfrm>
            <a:off x="468360" y="414972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014_thumb"/>
          <p:cNvPicPr/>
          <p:nvPr/>
        </p:nvPicPr>
        <p:blipFill>
          <a:blip r:embed="rId6"/>
          <a:stretch/>
        </p:blipFill>
        <p:spPr>
          <a:xfrm>
            <a:off x="4067280" y="4437000"/>
            <a:ext cx="2158920" cy="208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2767879_isskustvo-detyam_xoxloma-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404640"/>
            <a:ext cx="2736720" cy="3384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2767877_isskustvo-detyam_xoxloma-008"/>
          <p:cNvPicPr/>
          <p:nvPr/>
        </p:nvPicPr>
        <p:blipFill>
          <a:blip r:embed="rId3"/>
          <a:stretch/>
        </p:blipFill>
        <p:spPr>
          <a:xfrm>
            <a:off x="539640" y="404640"/>
            <a:ext cx="2519640" cy="302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2767881_isskustvo-detyam_xoxloma-012"/>
          <p:cNvPicPr/>
          <p:nvPr/>
        </p:nvPicPr>
        <p:blipFill>
          <a:blip r:embed="rId4"/>
          <a:stretch/>
        </p:blipFill>
        <p:spPr>
          <a:xfrm>
            <a:off x="5292720" y="4653000"/>
            <a:ext cx="3419640" cy="19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2767881_isskustvo-detyam_xoxloma-012"/>
          <p:cNvPicPr/>
          <p:nvPr/>
        </p:nvPicPr>
        <p:blipFill>
          <a:blip r:embed="rId5"/>
          <a:stretch/>
        </p:blipFill>
        <p:spPr>
          <a:xfrm>
            <a:off x="2771640" y="2997360"/>
            <a:ext cx="3672000" cy="1736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2767883_isskustvo-detyam_xoxloma-014"/>
          <p:cNvPicPr/>
          <p:nvPr/>
        </p:nvPicPr>
        <p:blipFill>
          <a:blip r:embed="rId6"/>
          <a:stretch/>
        </p:blipFill>
        <p:spPr>
          <a:xfrm>
            <a:off x="611280" y="3500280"/>
            <a:ext cx="2700360" cy="317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95640" y="-360"/>
            <a:ext cx="303516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293"/>
                </a:solidFill>
                <a:latin typeface="Garamond"/>
              </a:rPr>
              <a:t>                     </a:t>
            </a:r>
            <a:r>
              <a:rPr b="1" i="1" lang="ru-RU" sz="5400" spc="-1" strike="noStrike">
                <a:solidFill>
                  <a:srgbClr val="ffc000"/>
                </a:solidFill>
                <a:latin typeface="Garamond"/>
              </a:rPr>
              <a:t>Легенда</a:t>
            </a:r>
            <a:endParaRPr b="1" lang="en-US" sz="5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4049280"/>
            <a:ext cx="8435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ным-давно жил мастер икон, который очень изящно рисовал иконы, но душа художника была в природе, живой жизни. Мастер поселился в глухих Керженских лесах и стал заниматься промыслом: делать чаши, кухонную утварь, украшая их видами природы – цветами, ветками, листьями, травой, ягодами, рыбами, птица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ва о мастере быстро разнеслась по земле, у него появились продолжатели его ремесл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ова легенд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5508720" y="907920"/>
            <a:ext cx="334800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начало золотой росписи ведут от древних мастеров - иконописцев. Свои иконы они писали на деревянных досках, которые покрывали льняным маслом, прогревали в печи. Потом уж и посуду стали по такому способу золотить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5" descr="001"/>
          <p:cNvPicPr/>
          <p:nvPr/>
        </p:nvPicPr>
        <p:blipFill>
          <a:blip r:embed="rId1"/>
          <a:stretch/>
        </p:blipFill>
        <p:spPr>
          <a:xfrm>
            <a:off x="1619280" y="333360"/>
            <a:ext cx="3171960" cy="352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353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aramond"/>
              </a:rPr>
              <a:t>Из истории хохломской    росписи</a:t>
            </a:r>
            <a:endParaRPr b="1" lang="en-US" sz="32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2920" y="1025280"/>
            <a:ext cx="4186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олжские ярмарки приезжали купцы со всех концов Руси и даже иноземцы. Поэтому волжане изготавливали вещи на продажу. Огромным спросом пользовалась их деревянная посуда, расписанная в красные, чёрные и золотые цвета, украшенная стеблями, цветами и ягодами. Золотая хохлома развозилась по всей России. Доходила она и до Средней Азии, Турции, Индии и Европы, заслужив   всемирную слав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5" descr="C:\Users\Света\Desktop\презентации интернет\рисунки хохлома\посуда хохлома\15а.jpg"/>
          <p:cNvPicPr/>
          <p:nvPr/>
        </p:nvPicPr>
        <p:blipFill>
          <a:blip r:embed="rId1"/>
          <a:stretch/>
        </p:blipFill>
        <p:spPr>
          <a:xfrm>
            <a:off x="395280" y="981000"/>
            <a:ext cx="4108320" cy="547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0" y="4581360"/>
            <a:ext cx="9144000" cy="22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суда Хохломы создаёт ощущение жаркого пламени. Она практична и нарядна. Она поражает своей удивительной красотой. Не случайно Хохлома так любима не только туристами, но и самими россияна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 моду сейчас постепенно возвращается искусство Древней Руси с ее характерными самобытными элементами. Хохлома – это снова модно и стильно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C:\Users\Света\Documents\презентации ИЗО\хохлома\15.jpg"/>
          <p:cNvPicPr/>
          <p:nvPr/>
        </p:nvPicPr>
        <p:blipFill>
          <a:blip r:embed="rId1"/>
          <a:stretch/>
        </p:blipFill>
        <p:spPr>
          <a:xfrm>
            <a:off x="1692360" y="620640"/>
            <a:ext cx="5508720" cy="38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7440" y="4941720"/>
            <a:ext cx="8229600" cy="16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Garamond"/>
              </a:rPr>
              <a:t>Издавна в хохломской росписи использовались три цвета: красный, черный и золотой, которые сохранились и поныне. Такая цветовая палитра обусловлена технологией изготовления, а также имеет свой символический смысл.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2" descr="C:\Users\Света\Documents\презентации ИЗО\хохлома\1.jpg"/>
          <p:cNvPicPr/>
          <p:nvPr/>
        </p:nvPicPr>
        <p:blipFill>
          <a:blip r:embed="rId1"/>
          <a:stretch/>
        </p:blipFill>
        <p:spPr>
          <a:xfrm>
            <a:off x="1116000" y="404640"/>
            <a:ext cx="6973920" cy="4295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7280" y="151920"/>
            <a:ext cx="46195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aramond"/>
              </a:rPr>
              <a:t>Рисунок хохломы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346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ветущие кусты и плоды на Руси считались пожеланием добра и благополучия, поэтому-то их так много в хохломской росписи. Художники не вычерчивают заранее чётких контуров в узорах, а для этого необходимо большое мастерство, точность руки и глаз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2" descr="C:\Users\Света\Documents\презентации ИЗО\хохлома\папка\hohloma3.jpg"/>
          <p:cNvPicPr/>
          <p:nvPr/>
        </p:nvPicPr>
        <p:blipFill>
          <a:blip r:embed="rId1"/>
          <a:stretch/>
        </p:blipFill>
        <p:spPr>
          <a:xfrm>
            <a:off x="4140360" y="1700280"/>
            <a:ext cx="4303440" cy="424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475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Garamond"/>
              </a:rPr>
              <a:t>Посуда</a:t>
            </a:r>
            <a:endParaRPr b="1" lang="en-US" sz="60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1" name="Picture 4" descr="Плошка"/>
          <p:cNvPicPr/>
          <p:nvPr/>
        </p:nvPicPr>
        <p:blipFill>
          <a:blip r:embed="rId1"/>
          <a:stretch/>
        </p:blipFill>
        <p:spPr>
          <a:xfrm>
            <a:off x="6372360" y="476280"/>
            <a:ext cx="2520720" cy="1712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Солоночка"/>
          <p:cNvPicPr/>
          <p:nvPr/>
        </p:nvPicPr>
        <p:blipFill>
          <a:blip r:embed="rId2"/>
          <a:stretch/>
        </p:blipFill>
        <p:spPr>
          <a:xfrm>
            <a:off x="6588000" y="3500280"/>
            <a:ext cx="2376720" cy="2546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1"/>
          <p:cNvPicPr/>
          <p:nvPr/>
        </p:nvPicPr>
        <p:blipFill>
          <a:blip r:embed="rId3"/>
          <a:stretch/>
        </p:blipFill>
        <p:spPr>
          <a:xfrm>
            <a:off x="395280" y="549360"/>
            <a:ext cx="248760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415"/>
          <p:cNvPicPr/>
          <p:nvPr/>
        </p:nvPicPr>
        <p:blipFill>
          <a:blip r:embed="rId4"/>
          <a:stretch/>
        </p:blipFill>
        <p:spPr>
          <a:xfrm>
            <a:off x="3132000" y="1773360"/>
            <a:ext cx="3024360" cy="403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:\Users\Света\Desktop\презентации интернет\рисунки хохлома\посуда хохлома\18а.jpg"/>
          <p:cNvPicPr/>
          <p:nvPr/>
        </p:nvPicPr>
        <p:blipFill>
          <a:blip r:embed="rId5"/>
          <a:stretch/>
        </p:blipFill>
        <p:spPr>
          <a:xfrm>
            <a:off x="324000" y="3789360"/>
            <a:ext cx="2531880" cy="2532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cc00"/>
                </a:solidFill>
                <a:latin typeface="Garamond"/>
              </a:rPr>
              <a:t>Сувениры</a:t>
            </a: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dfd293"/>
              </a:solidFill>
              <a:latin typeface="Garamond"/>
            </a:endParaRPr>
          </a:p>
        </p:txBody>
      </p:sp>
      <p:pic>
        <p:nvPicPr>
          <p:cNvPr id="127" name="Picture 5" descr="B1x3-gl53-1S"/>
          <p:cNvPicPr/>
          <p:nvPr/>
        </p:nvPicPr>
        <p:blipFill>
          <a:blip r:embed="rId1"/>
          <a:stretch/>
        </p:blipFill>
        <p:spPr>
          <a:xfrm>
            <a:off x="3132000" y="1557360"/>
            <a:ext cx="2640240" cy="324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img25"/>
          <p:cNvPicPr/>
          <p:nvPr/>
        </p:nvPicPr>
        <p:blipFill>
          <a:blip r:embed="rId2"/>
          <a:stretch/>
        </p:blipFill>
        <p:spPr>
          <a:xfrm>
            <a:off x="324000" y="765000"/>
            <a:ext cx="2376360" cy="315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img26"/>
          <p:cNvPicPr/>
          <p:nvPr/>
        </p:nvPicPr>
        <p:blipFill>
          <a:blip r:embed="rId3"/>
          <a:stretch/>
        </p:blipFill>
        <p:spPr>
          <a:xfrm>
            <a:off x="6012000" y="1197000"/>
            <a:ext cx="2736720" cy="2529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:\Users\Света\Desktop\презентации интернет\рисунки хохлома\посуда хохлома\20а.jpg"/>
          <p:cNvPicPr/>
          <p:nvPr/>
        </p:nvPicPr>
        <p:blipFill>
          <a:blip r:embed="rId4"/>
          <a:stretch/>
        </p:blipFill>
        <p:spPr>
          <a:xfrm>
            <a:off x="250920" y="4365720"/>
            <a:ext cx="3060720" cy="217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Users\Света\Desktop\презентации интернет\рисунки хохлома\посуда хохлома\23а.gif"/>
          <p:cNvPicPr/>
          <p:nvPr/>
        </p:nvPicPr>
        <p:blipFill>
          <a:blip r:embed="rId5"/>
          <a:stretch/>
        </p:blipFill>
        <p:spPr>
          <a:xfrm>
            <a:off x="6443640" y="3686040"/>
            <a:ext cx="2182680" cy="317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17:10:47Z</dcterms:created>
  <dc:creator>Ганжа</dc:creator>
  <dc:description/>
  <dc:language>en-US</dc:language>
  <cp:lastModifiedBy>Пользователь Windows</cp:lastModifiedBy>
  <dcterms:modified xsi:type="dcterms:W3CDTF">2020-03-18T11:41:19Z</dcterms:modified>
  <cp:revision>29</cp:revision>
  <dc:subject/>
  <dc:title>Хохлома</dc:title>
</cp:coreProperties>
</file>