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ADAD-D3C5-4F4D-AB16-85084035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10BA-5BA3-405C-9A00-6D222758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822D-CAEE-49D5-896A-76C311DD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EC8A-B8D6-4554-91C0-95235B8F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5C4E-56AC-409D-8D0A-7CB2A09B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98C0-5FBB-4905-9ED2-2B200FF8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CFB8-C12C-4B8D-B99D-002AA49D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3943-D140-4895-8DDA-8C0A2B15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2A49-4DD8-420D-8ED2-A7303EC1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01DF-982A-41AF-9034-D353EA6B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7BC8-8469-49B5-A81F-13C280D5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DE21-8224-4ECB-BABB-0C889548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F360-2EE3-40F3-A59B-B03400DE94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master132_image004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spas"/>
          <p:cNvPicPr/>
          <p:nvPr/>
        </p:nvPicPr>
        <p:blipFill>
          <a:blip r:embed="rId2"/>
          <a:stretch/>
        </p:blipFill>
        <p:spPr>
          <a:xfrm>
            <a:off x="1476360" y="909720"/>
            <a:ext cx="5975280" cy="5975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611280" y="189000"/>
            <a:ext cx="741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Arial"/>
              </a:rPr>
              <a:t>Экология и космо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Arial"/>
              </a:rPr>
              <a:t>Проблемы и пути реш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2" descr="https://im0-tub-ru.yandex.net/i?id=b8196e7c10decb44db26ab8b82fbf9c2-l&amp;n=13"/>
          <p:cNvPicPr/>
          <p:nvPr/>
        </p:nvPicPr>
        <p:blipFill>
          <a:blip r:embed="rId1"/>
          <a:stretch/>
        </p:blipFill>
        <p:spPr>
          <a:xfrm>
            <a:off x="571680" y="357120"/>
            <a:ext cx="80722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master132_image004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kosmicheskaya-raketa"/>
          <p:cNvPicPr/>
          <p:nvPr/>
        </p:nvPicPr>
        <p:blipFill>
          <a:blip r:embed="rId2"/>
          <a:stretch/>
        </p:blipFill>
        <p:spPr>
          <a:xfrm>
            <a:off x="4788000" y="2709720"/>
            <a:ext cx="4032000" cy="4032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0_767c4_76c37039_XL"/>
          <p:cNvPicPr/>
          <p:nvPr/>
        </p:nvPicPr>
        <p:blipFill>
          <a:blip r:embed="rId3"/>
          <a:stretch/>
        </p:blipFill>
        <p:spPr>
          <a:xfrm>
            <a:off x="324000" y="2708280"/>
            <a:ext cx="4032000" cy="403236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12"/>
          <p:cNvSpPr/>
          <p:nvPr/>
        </p:nvSpPr>
        <p:spPr>
          <a:xfrm>
            <a:off x="468360" y="260280"/>
            <a:ext cx="8280360" cy="1873440"/>
          </a:xfrm>
          <a:prstGeom prst="wedgeRoundRectCallout">
            <a:avLst>
              <a:gd name="adj1" fmla="val -37250"/>
              <a:gd name="adj2" fmla="val 107375"/>
              <a:gd name="adj3" fmla="val 16667"/>
            </a:avLst>
          </a:prstGeom>
          <a:solidFill>
            <a:srgbClr val="a9dc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0" y="666360"/>
            <a:ext cx="9144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ический мусор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каждого запуска ракет с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Запуск ракеты в космос"/>
          <p:cNvPicPr/>
          <p:nvPr/>
        </p:nvPicPr>
        <p:blipFill>
          <a:blip r:embed="rId1"/>
          <a:stretch/>
        </p:blipFill>
        <p:spPr>
          <a:xfrm>
            <a:off x="714240" y="2143080"/>
            <a:ext cx="8072640" cy="454176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785880" y="71424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всех засоряют космос Россия, США и Кит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master132_image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55"/>
          <p:cNvPicPr/>
          <p:nvPr/>
        </p:nvPicPr>
        <p:blipFill>
          <a:blip r:embed="rId2"/>
          <a:srcRect l="0" t="0" r="678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space-junk"/>
          <p:cNvPicPr/>
          <p:nvPr/>
        </p:nvPicPr>
        <p:blipFill>
          <a:blip r:embed="rId3"/>
          <a:srcRect l="20347" t="0" r="2281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рис 6 в Саудовской Аравии"/>
          <p:cNvPicPr/>
          <p:nvPr/>
        </p:nvPicPr>
        <p:blipFill>
          <a:blip r:embed="rId4"/>
          <a:srcRect l="0" t="0" r="629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9"/>
          <p:cNvSpPr/>
          <p:nvPr/>
        </p:nvSpPr>
        <p:spPr>
          <a:xfrm>
            <a:off x="4716360" y="111600"/>
            <a:ext cx="4119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асть фрагментов сгорает в атмосфере, а наиболее крупные из них выпадают на Земл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рис 6 в Саудовской Аравии"/>
          <p:cNvPicPr/>
          <p:nvPr/>
        </p:nvPicPr>
        <p:blipFill>
          <a:blip r:embed="rId5"/>
          <a:srcRect l="0" t="0" r="6299" b="0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master132_image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234560ad11"/>
          <p:cNvPicPr/>
          <p:nvPr/>
        </p:nvPicPr>
        <p:blipFill>
          <a:blip r:embed="rId2"/>
          <a:stretch/>
        </p:blipFill>
        <p:spPr>
          <a:xfrm>
            <a:off x="611280" y="404640"/>
            <a:ext cx="7777080" cy="5181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2700360" y="5805360"/>
            <a:ext cx="3887640" cy="936720"/>
          </a:xfrm>
          <a:prstGeom prst="rect">
            <a:avLst/>
          </a:prstGeom>
          <a:solidFill>
            <a:srgbClr val="a9dc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Эта ракета, возможно, то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танет космическим мус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master132_image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6-300x195"/>
          <p:cNvPicPr/>
          <p:nvPr/>
        </p:nvPicPr>
        <p:blipFill>
          <a:blip r:embed="rId2"/>
          <a:stretch/>
        </p:blipFill>
        <p:spPr>
          <a:xfrm>
            <a:off x="1042920" y="189000"/>
            <a:ext cx="6913800" cy="55753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"/>
          <p:cNvSpPr/>
          <p:nvPr/>
        </p:nvSpPr>
        <p:spPr>
          <a:xfrm>
            <a:off x="1763640" y="6021360"/>
            <a:ext cx="5472360" cy="719280"/>
          </a:xfrm>
          <a:prstGeom prst="rect">
            <a:avLst/>
          </a:prstGeom>
          <a:solidFill>
            <a:srgbClr val="a9dc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Результат столкновения косм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танции с космическим мус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0" y="-973800"/>
            <a:ext cx="9144000" cy="52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760" bIns="106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удаления космического мус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57120" y="21852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1.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Ут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. Коррекция траекторий полё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5" descr="https://pronedra.ru/upkeep/uploads/2018/10/YApontsyi-pridumali-kak-spasti-Zemlyu-ot-musora-400x300.jpg"/>
          <p:cNvPicPr/>
          <p:nvPr/>
        </p:nvPicPr>
        <p:blipFill>
          <a:blip r:embed="rId1"/>
          <a:stretch/>
        </p:blipFill>
        <p:spPr>
          <a:xfrm>
            <a:off x="428760" y="2000160"/>
            <a:ext cx="82864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2"/>
          <p:cNvSpPr/>
          <p:nvPr/>
        </p:nvSpPr>
        <p:spPr>
          <a:xfrm>
            <a:off x="928800" y="285840"/>
            <a:ext cx="750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Желтые дети Алт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http://mypresentation.ru/documents_2/c57e51168e53959fc2c0b5e301421800/img2.jpg"/>
          <p:cNvPicPr/>
          <p:nvPr/>
        </p:nvPicPr>
        <p:blipFill>
          <a:blip r:embed="rId1"/>
          <a:stretch/>
        </p:blipFill>
        <p:spPr>
          <a:xfrm>
            <a:off x="155520" y="1357200"/>
            <a:ext cx="84171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1071720" y="500040"/>
            <a:ext cx="714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ическая эколог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571680" y="1428840"/>
            <a:ext cx="764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ет взаимоотношение экипажа корабля с возникающими новыми условиями существования при полётах на орбитальных и межпланетных станциях; предотвращение загрязнения космоса, изменений в биосфере Зем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Испытания в открытом космосе"/>
          <p:cNvPicPr/>
          <p:nvPr/>
        </p:nvPicPr>
        <p:blipFill>
          <a:blip r:embed="rId1"/>
          <a:stretch/>
        </p:blipFill>
        <p:spPr>
          <a:xfrm>
            <a:off x="500040" y="3571920"/>
            <a:ext cx="82152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0" y="7200"/>
            <a:ext cx="878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декабря 2018 года, с космодрома "Байконур" на МСК стартовал пилотируемый корабль МС-11.На нем на станцию прибыли командир корабля Олег Дмитриевич Кононенко. Бортинженер, гражданин Канады, Сен-Жак Давид. Второй бортинженер, гражданка США Энн  Макклейн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арта 2019 года, к ним прибудут ещё три космонавта на корабле МС-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2" descr="http://cdn01.ru/files/users/images/43/0e/430e606bdd6404f758b4bedc075f6d48.jpg"/>
          <p:cNvPicPr/>
          <p:nvPr/>
        </p:nvPicPr>
        <p:blipFill>
          <a:blip r:embed="rId1"/>
          <a:stretch/>
        </p:blipFill>
        <p:spPr>
          <a:xfrm>
            <a:off x="642960" y="1643040"/>
            <a:ext cx="79297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2952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конферен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ить основные экологические проблемы, связанные с освоением космического пространства и пути их реш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3" descr="Космический мусор"/>
          <p:cNvPicPr/>
          <p:nvPr/>
        </p:nvPicPr>
        <p:blipFill>
          <a:blip r:embed="rId1"/>
          <a:stretch/>
        </p:blipFill>
        <p:spPr>
          <a:xfrm>
            <a:off x="285840" y="2928960"/>
            <a:ext cx="79293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https://im0-tub-ru.yandex.net/i?id=3e1c92e9c81d4edd10100707a8e4c674&amp;n=13"/>
          <p:cNvPicPr/>
          <p:nvPr/>
        </p:nvPicPr>
        <p:blipFill>
          <a:blip r:embed="rId1"/>
          <a:stretch/>
        </p:blipFill>
        <p:spPr>
          <a:xfrm>
            <a:off x="785880" y="500040"/>
            <a:ext cx="7572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0" y="2160"/>
            <a:ext cx="857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ы можем спасти Земл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1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3" descr="http://krasnodar-news.net/img/20171102/e136cdc2085368bc5bf27803eb90d888.jpg"/>
          <p:cNvPicPr/>
          <p:nvPr/>
        </p:nvPicPr>
        <p:blipFill>
          <a:blip r:embed="rId1"/>
          <a:stretch/>
        </p:blipFill>
        <p:spPr>
          <a:xfrm>
            <a:off x="214200" y="928800"/>
            <a:ext cx="8286840" cy="57150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25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s://im0-tub-ru.yandex.net/i?id=9a1344ebebdef821cc5839a6e848d05c&amp;n=13"/>
          <p:cNvPicPr/>
          <p:nvPr/>
        </p:nvPicPr>
        <p:blipFill>
          <a:blip r:embed="rId1"/>
          <a:stretch/>
        </p:blipFill>
        <p:spPr>
          <a:xfrm>
            <a:off x="928800" y="500040"/>
            <a:ext cx="757224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master132_image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52577"/>
          <p:cNvPicPr/>
          <p:nvPr/>
        </p:nvPicPr>
        <p:blipFill>
          <a:blip r:embed="rId2"/>
          <a:stretch/>
        </p:blipFill>
        <p:spPr>
          <a:xfrm>
            <a:off x="1258920" y="189000"/>
            <a:ext cx="6408720" cy="63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master132_image004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5"/>
          <p:cNvSpPr/>
          <p:nvPr/>
        </p:nvSpPr>
        <p:spPr>
          <a:xfrm>
            <a:off x="2700360" y="260280"/>
            <a:ext cx="3600360" cy="719280"/>
          </a:xfrm>
          <a:prstGeom prst="wedgeRoundRectCallout">
            <a:avLst>
              <a:gd name="adj1" fmla="val -94490"/>
              <a:gd name="adj2" fmla="val 105629"/>
              <a:gd name="adj3" fmla="val 16667"/>
            </a:avLst>
          </a:prstGeom>
          <a:solidFill>
            <a:srgbClr val="a9dc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грамма конфер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250920" y="1052640"/>
            <a:ext cx="8280360" cy="5616360"/>
          </a:xfrm>
          <a:prstGeom prst="cloudCallout">
            <a:avLst>
              <a:gd name="adj1" fmla="val 50037"/>
              <a:gd name="adj2" fmla="val 44546"/>
            </a:avLst>
          </a:prstGeom>
          <a:solidFill>
            <a:srgbClr val="a9dc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.Озоновые ды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.Проблемы  и опасности космического мус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.Жёлтые дети (влияние ракетного топлива на здоровье люд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4.Космическая экология как на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master132_image004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12"/>
          <p:cNvSpPr/>
          <p:nvPr/>
        </p:nvSpPr>
        <p:spPr>
          <a:xfrm>
            <a:off x="684360" y="260280"/>
            <a:ext cx="7632720" cy="5025960"/>
          </a:xfrm>
          <a:prstGeom prst="wedgeRoundRectCallout">
            <a:avLst>
              <a:gd name="adj1" fmla="val -50935"/>
              <a:gd name="adj2" fmla="val 118870"/>
              <a:gd name="adj3" fmla="val 16667"/>
            </a:avLst>
          </a:prstGeom>
          <a:solidFill>
            <a:srgbClr val="a9dc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9"/>
          <p:cNvSpPr/>
          <p:nvPr/>
        </p:nvSpPr>
        <p:spPr>
          <a:xfrm>
            <a:off x="3600" y="25200"/>
            <a:ext cx="85654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он скапливается в верхни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ях атмосферы и образу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оновый слой, котор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ывает собой всю планет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щищает ее от вредно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ействия ультрафиолетов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ей Солнц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master132_image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9"/>
          <p:cNvSpPr/>
          <p:nvPr/>
        </p:nvSpPr>
        <p:spPr>
          <a:xfrm>
            <a:off x="468360" y="6165720"/>
            <a:ext cx="8136000" cy="503280"/>
          </a:xfrm>
          <a:prstGeom prst="wedgeRoundRectCallout">
            <a:avLst>
              <a:gd name="adj1" fmla="val -10467"/>
              <a:gd name="adj2" fmla="val -135805"/>
              <a:gd name="adj3" fmla="val 16667"/>
            </a:avLst>
          </a:prstGeom>
          <a:solidFill>
            <a:srgbClr val="a9dc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Озоновые дыры над Аркти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6" descr="Проблема озоновых дыр"/>
          <p:cNvPicPr/>
          <p:nvPr/>
        </p:nvPicPr>
        <p:blipFill>
          <a:blip r:embed="rId2"/>
          <a:stretch/>
        </p:blipFill>
        <p:spPr>
          <a:xfrm>
            <a:off x="20520" y="642960"/>
            <a:ext cx="910296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0" y="435960"/>
            <a:ext cx="9144000" cy="15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появления озоновых ды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ирование заводов и фабр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очистительных сооруж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осы в атмосферу от ТЭ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https://putinbog.files.wordpress.com/2011/12/0_8ab73_1707c8a_xl.jpg"/>
          <p:cNvPicPr/>
          <p:nvPr/>
        </p:nvPicPr>
        <p:blipFill>
          <a:blip r:embed="rId1"/>
          <a:stretch/>
        </p:blipFill>
        <p:spPr>
          <a:xfrm>
            <a:off x="155520" y="2143080"/>
            <a:ext cx="83455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0" y="11520"/>
            <a:ext cx="878688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решения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ка очистительных сооружений на дымящие труб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на химических удобрений органически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транспорта на электриче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http://www.ecoterment.com/cataloges/InfaStaub/inf-jetron/ftf_dmn_infajetron%203.jpg"/>
          <p:cNvPicPr/>
          <p:nvPr/>
        </p:nvPicPr>
        <p:blipFill>
          <a:blip r:embed="rId1"/>
          <a:stretch/>
        </p:blipFill>
        <p:spPr>
          <a:xfrm>
            <a:off x="214200" y="2714760"/>
            <a:ext cx="83584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Все, что нужно знать о московском электробусе"/>
          <p:cNvPicPr/>
          <p:nvPr/>
        </p:nvPicPr>
        <p:blipFill>
          <a:blip r:embed="rId1"/>
          <a:stretch/>
        </p:blipFill>
        <p:spPr>
          <a:xfrm>
            <a:off x="131760" y="642960"/>
            <a:ext cx="87980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http://sochi.scapp.ru/wp-content/uploads/scapp_news/2017/03/img_0254-otbor_1.jpg"/>
          <p:cNvPicPr/>
          <p:nvPr/>
        </p:nvPicPr>
        <p:blipFill>
          <a:blip r:embed="rId1"/>
          <a:stretch/>
        </p:blipFill>
        <p:spPr>
          <a:xfrm>
            <a:off x="428760" y="357120"/>
            <a:ext cx="81439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4:30:20Z</dcterms:created>
  <dc:creator>ПК</dc:creator>
  <dc:description/>
  <dc:language>en-US</dc:language>
  <cp:lastModifiedBy>Ирина</cp:lastModifiedBy>
  <dcterms:modified xsi:type="dcterms:W3CDTF">2019-03-10T10:38:40Z</dcterms:modified>
  <cp:revision>79</cp:revision>
  <dc:subject/>
  <dc:title>Слайд 1</dc:title>
</cp:coreProperties>
</file>