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5CE9E-0FA3-4A30-9C08-00891B2FA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0E0E5-6235-4762-B686-F9AE96F86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CA8FE-3C2C-467B-A592-E92600392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E2943-7224-4EA1-B32A-1CC97FA1A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36544-5C76-4531-970B-21E55277A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3A6EC-CB5B-4679-9E76-8AB38126D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C3E42-7433-40C1-9380-1C0AAE3F8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75FF3-5907-43AE-A07A-936C7C6CD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E7BB1-66C7-4A86-B977-E4D2E8574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919A3-C58F-4776-AAE5-ADA01E3CE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D9DD1-3ED7-4303-BA29-8F77313C5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90F0C-ECC0-4EF5-8C0B-65C1A2587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5FF02-9CCF-4042-98F0-157F9CFBA4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Элементы книг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922480" y="1197000"/>
            <a:ext cx="3233880" cy="53276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 flipH="1">
            <a:off x="5292720" y="3429000"/>
            <a:ext cx="1943280" cy="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619280" y="3141720"/>
            <a:ext cx="1728720" cy="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 flipV="1">
            <a:off x="5219640" y="1557360"/>
            <a:ext cx="2160720" cy="50328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10720" y="2460600"/>
            <a:ext cx="156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ореш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948360" y="1403280"/>
            <a:ext cx="18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траниц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930720" y="2820960"/>
            <a:ext cx="172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ереплё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68360" y="765000"/>
            <a:ext cx="3743280" cy="55342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4500720" y="549360"/>
            <a:ext cx="4103640" cy="59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Тка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332000" y="1268280"/>
            <a:ext cx="655308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Ткацкий стано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411280" y="1197000"/>
            <a:ext cx="439272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Комбайнё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332000" y="1268280"/>
            <a:ext cx="633564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Комбайн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547640" y="1413000"/>
            <a:ext cx="604872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Кузне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916360" y="1341360"/>
            <a:ext cx="331308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Шахтё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332000" y="1557360"/>
            <a:ext cx="6840360" cy="47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6T11:56:13Z</dcterms:created>
  <dc:creator>Администратор</dc:creator>
  <dc:description/>
  <dc:language>en-US</dc:language>
  <cp:lastModifiedBy>Администратор</cp:lastModifiedBy>
  <dcterms:modified xsi:type="dcterms:W3CDTF">2009-03-16T12:32:35Z</dcterms:modified>
  <cp:revision>3</cp:revision>
  <dc:subject/>
  <dc:title>Элементы книги</dc:title>
</cp:coreProperties>
</file>